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757B-525B-455D-9661-23B659A1F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67A3-BB3B-499C-ADA9-105D32867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0BE-4717-46BC-A9BB-4C87C196F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DB6B-2D5E-4508-ABD7-101EE96BB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B735-60B7-4601-B429-54BF3F8A5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6653-9E93-43A4-921D-40F32B399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3D31-D09F-41BF-ACCB-21C55F4D9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77AF-DF08-4B34-89B7-58C6610CEC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C0D1-91D2-48A5-9EED-E81EE2558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DD16-B44C-472C-9EE1-F593FC212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7B8-7FEA-48F1-AE03-D8FEADAFE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C885-56E1-4452-86A8-3CE2B0B57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DA64-CA05-41D7-8376-15543956D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10AF-A88C-4A51-B422-81367B9A1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98E3-48BF-4E2C-9788-59A55839F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4A6-335C-497F-8EE3-374BCC30B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D232-1672-4529-A950-4E09F5EC6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958F-9CEB-4C55-851E-5EA896DCF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CAF4-1299-4394-B19D-FC068724E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9F54-ED64-4550-A5FD-A3D8F9A46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223A-63E0-49C7-8F67-0F225824C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F468-E9D8-404D-9A5F-3EE90795A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31D9-0264-43E1-810D-88C65633D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1112-E235-44D2-B461-0C18596F5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5C0A-F9BF-42B9-B85F-C7C84D072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D33B-B812-4FB8-B30E-1B5C27FB7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F603-1DB6-413C-9F48-35BCC56DF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9ACD-987A-4DE6-AF23-B74DAEEF0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DBDA-2568-449E-A2F1-445AC0A27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DAF3-7B4C-4923-9C07-B3496FA32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D4B8-4E80-4719-A495-F2D7B2778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960D-E648-4772-8841-B61A1D963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061C-852A-41E3-813C-B8192531D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75F7-21FE-44F5-9F16-41A585639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B58-C255-4317-B28F-F628E36A2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389-CAB6-4B2C-89F0-67F59E7D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C54-9A2D-4D09-910C-C13AD3BB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B3B-FAF5-4AD8-A80F-B1F79263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61D-07DC-4E4F-B7B4-B21797DE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151-5AA9-4C45-AAAF-53DFF46E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90B-A53E-4869-B884-B2EBDCDE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D8F-693C-4FD5-859D-5167D650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476-497A-4DA0-ABAD-EC32054F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E03-BEC9-487C-A108-216AC033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3B1-A0EF-4DEA-89E7-A08A4367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218-BAA4-44C9-B95A-31FBF0E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781-7A6F-4291-805B-2FE86966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5361-CFB7-4BC9-A68E-BA9AA4BB3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6352" r="38156" b="7666"/>
          <a:stretch/>
        </p:blipFill>
        <p:spPr>
          <a:xfrm>
            <a:off x="1600200" y="0"/>
            <a:ext cx="528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18521" r="42104" b="23951"/>
          <a:stretch/>
        </p:blipFill>
        <p:spPr>
          <a:xfrm>
            <a:off x="1752480" y="0"/>
            <a:ext cx="60818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20781" t="53261" r="42895" b="17439"/>
          <a:stretch/>
        </p:blipFill>
        <p:spPr>
          <a:xfrm>
            <a:off x="0" y="34776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990" t="17439" r="42104" b="31545"/>
          <a:stretch/>
        </p:blipFill>
        <p:spPr>
          <a:xfrm>
            <a:off x="380880" y="0"/>
            <a:ext cx="6934320" cy="6789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20781" t="16352" r="42895" b="60860"/>
          <a:stretch/>
        </p:blipFill>
        <p:spPr>
          <a:xfrm>
            <a:off x="609480" y="1066680"/>
            <a:ext cx="769644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2616" t="39145" r="41317" b="4410"/>
          <a:stretch/>
        </p:blipFill>
        <p:spPr>
          <a:xfrm>
            <a:off x="0" y="44280"/>
            <a:ext cx="8991720" cy="6585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6643" t="38105" r="7058" b="34211"/>
          <a:stretch/>
        </p:blipFill>
        <p:spPr>
          <a:xfrm>
            <a:off x="0" y="0"/>
            <a:ext cx="7391520" cy="113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4198" t="16352" r="41317" b="42401"/>
          <a:stretch/>
        </p:blipFill>
        <p:spPr>
          <a:xfrm>
            <a:off x="152280" y="1676520"/>
            <a:ext cx="8991720" cy="4951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4985" t="28289" r="80013" b="14178"/>
          <a:stretch/>
        </p:blipFill>
        <p:spPr>
          <a:xfrm>
            <a:off x="304920" y="0"/>
            <a:ext cx="2720880" cy="65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21285" t="16352" r="42238" b="42401"/>
          <a:stretch/>
        </p:blipFill>
        <p:spPr>
          <a:xfrm>
            <a:off x="3124080" y="685800"/>
            <a:ext cx="6019920" cy="4951440"/>
          </a:xfrm>
          <a:prstGeom prst="rect">
            <a:avLst/>
          </a:prstGeom>
          <a:ln w="0">
            <a:noFill/>
          </a:ln>
        </p:spPr>
      </p:pic>
      <p:sp>
        <p:nvSpPr>
          <p:cNvPr id="69" name="Line 4"/>
          <p:cNvSpPr/>
          <p:nvPr/>
        </p:nvSpPr>
        <p:spPr>
          <a:xfrm flipH="1">
            <a:off x="5257800" y="838080"/>
            <a:ext cx="2209680" cy="518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 flipH="1">
            <a:off x="5257800" y="914400"/>
            <a:ext cx="2209680" cy="502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1911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see I miss it!  Much easier to see when you use a straight edg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17439" r="42104" b="48918"/>
          <a:stretch/>
        </p:blipFill>
        <p:spPr>
          <a:xfrm>
            <a:off x="228600" y="138240"/>
            <a:ext cx="89154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616" t="17439" r="38156" b="37386"/>
          <a:stretch/>
        </p:blipFill>
        <p:spPr>
          <a:xfrm>
            <a:off x="0" y="22860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781" t="22864" r="42895" b="43488"/>
          <a:stretch/>
        </p:blipFill>
        <p:spPr>
          <a:xfrm>
            <a:off x="0" y="0"/>
            <a:ext cx="5562720" cy="374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rcRect l="21569" t="25033" r="46843" b="43488"/>
          <a:stretch/>
        </p:blipFill>
        <p:spPr>
          <a:xfrm>
            <a:off x="3581280" y="3276720"/>
            <a:ext cx="4800600" cy="34797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304920" y="4114800"/>
            <a:ext cx="1828800" cy="1295280"/>
          </a:xfrm>
          <a:prstGeom prst="wedgeRectCallout">
            <a:avLst>
              <a:gd name="adj1" fmla="val -17967"/>
              <a:gd name="adj2" fmla="val -17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One oxygen molecule is consu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467480" y="4038480"/>
            <a:ext cx="1676520" cy="1676520"/>
          </a:xfrm>
          <a:prstGeom prst="wedgeRectCallout">
            <a:avLst>
              <a:gd name="adj1" fmla="val -101800"/>
              <a:gd name="adj2" fmla="val 44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even more oxygen molecules are gene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25033" r="42649" b="16352"/>
          <a:stretch/>
        </p:blipFill>
        <p:spPr>
          <a:xfrm>
            <a:off x="1424160" y="0"/>
            <a:ext cx="600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616" t="62619" r="38156" b="7666"/>
          <a:stretch/>
        </p:blipFill>
        <p:spPr>
          <a:xfrm>
            <a:off x="228600" y="45720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8422" b="43421"/>
          <a:stretch/>
        </p:blipFill>
        <p:spPr>
          <a:xfrm>
            <a:off x="0" y="457200"/>
            <a:ext cx="6019920" cy="448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rcRect l="21569" t="31545" r="53952" b="46744"/>
          <a:stretch/>
        </p:blipFill>
        <p:spPr>
          <a:xfrm>
            <a:off x="5181480" y="1447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1981080" y="4648320"/>
            <a:ext cx="6629400" cy="190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dark, oxygen is consumed by respiration b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re are no photons, there is no photosynthesi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ZERO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781" t="25033" r="46843" b="46744"/>
          <a:stretch/>
        </p:blipFill>
        <p:spPr>
          <a:xfrm>
            <a:off x="0" y="685800"/>
            <a:ext cx="5105520" cy="32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0781" t="31545" r="53161" b="46744"/>
          <a:stretch/>
        </p:blipFill>
        <p:spPr>
          <a:xfrm>
            <a:off x="4495680" y="1371600"/>
            <a:ext cx="4114800" cy="24940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1295280" y="4038480"/>
            <a:ext cx="68580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bottle without any screening, maximum photo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lace, therefore maximum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100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12885" t="23951" r="42104" b="26120"/>
          <a:stretch/>
        </p:blipFill>
        <p:spPr>
          <a:xfrm>
            <a:off x="914400" y="0"/>
            <a:ext cx="7924680" cy="6394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304920" y="152280"/>
            <a:ext cx="1904760" cy="2514600"/>
          </a:xfrm>
          <a:prstGeom prst="wedgeRoundRectCallout">
            <a:avLst>
              <a:gd name="adj1" fmla="val 95583"/>
              <a:gd name="adj2" fmla="val 1017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EENER, the B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1569" t="18521" r="40525" b="16352"/>
          <a:stretch/>
        </p:blipFill>
        <p:spPr>
          <a:xfrm>
            <a:off x="1752480" y="0"/>
            <a:ext cx="5303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781" t="17439" r="38943" b="21777"/>
          <a:stretch/>
        </p:blipFill>
        <p:spPr>
          <a:xfrm>
            <a:off x="304920" y="0"/>
            <a:ext cx="62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1569" t="17439" r="42104" b="32633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2" name="Oval 3"/>
          <p:cNvSpPr/>
          <p:nvPr/>
        </p:nvSpPr>
        <p:spPr>
          <a:xfrm>
            <a:off x="6934320" y="5410080"/>
            <a:ext cx="198108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per li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2360" t="69542" r="42104" b="4410"/>
          <a:stretch/>
        </p:blipFill>
        <p:spPr>
          <a:xfrm>
            <a:off x="304920" y="228600"/>
            <a:ext cx="8305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4198" t="26120" r="39596" b="35889"/>
          <a:stretch/>
        </p:blipFill>
        <p:spPr>
          <a:xfrm>
            <a:off x="0" y="380880"/>
            <a:ext cx="8915400" cy="4384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4500" t="21777" r="39734" b="42401"/>
          <a:stretch/>
        </p:blipFill>
        <p:spPr>
          <a:xfrm>
            <a:off x="380880" y="609480"/>
            <a:ext cx="8763120" cy="409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9199" t="17439" r="38943" b="18521"/>
          <a:stretch/>
        </p:blipFill>
        <p:spPr>
          <a:xfrm>
            <a:off x="0" y="0"/>
            <a:ext cx="5886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1569" t="20695" r="42104" b="17434"/>
          <a:stretch/>
        </p:blipFill>
        <p:spPr>
          <a:xfrm>
            <a:off x="0" y="0"/>
            <a:ext cx="5533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4419720" y="457200"/>
            <a:ext cx="3276360" cy="838080"/>
          </a:xfrm>
          <a:prstGeom prst="wedgeRectCallout">
            <a:avLst>
              <a:gd name="adj1" fmla="val -88759"/>
              <a:gd name="adj2" fmla="val 498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 BOTH gross and net productivity and make a leg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20781" t="23951" r="41317" b="23951"/>
          <a:stretch/>
        </p:blipFill>
        <p:spPr>
          <a:xfrm>
            <a:off x="38088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0781" t="17439" r="42895" b="10922"/>
          <a:stretch/>
        </p:blipFill>
        <p:spPr>
          <a:xfrm>
            <a:off x="838080" y="0"/>
            <a:ext cx="4780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20781" t="17439" r="41317" b="31545"/>
          <a:stretch/>
        </p:blipFill>
        <p:spPr>
          <a:xfrm>
            <a:off x="762120" y="173160"/>
            <a:ext cx="6705360" cy="6565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17439" r="40525" b="16352"/>
          <a:stretch/>
        </p:blipFill>
        <p:spPr>
          <a:xfrm>
            <a:off x="83520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9199" t="32925" r="38943" b="39970"/>
          <a:stretch/>
        </p:blipFill>
        <p:spPr>
          <a:xfrm>
            <a:off x="0" y="0"/>
            <a:ext cx="58863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19990" t="59773" r="42895" b="16352"/>
          <a:stretch/>
        </p:blipFill>
        <p:spPr>
          <a:xfrm>
            <a:off x="533520" y="2647800"/>
            <a:ext cx="609588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33520" y="2133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r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9990" t="23951" r="42895" b="25033"/>
          <a:stretch/>
        </p:blipFill>
        <p:spPr>
          <a:xfrm>
            <a:off x="16765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0781" t="18521" r="42104" b="5497"/>
          <a:stretch/>
        </p:blipFill>
        <p:spPr>
          <a:xfrm>
            <a:off x="175248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18521" r="42104" b="22864"/>
          <a:stretch/>
        </p:blipFill>
        <p:spPr>
          <a:xfrm>
            <a:off x="1752480" y="0"/>
            <a:ext cx="59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616" t="42401" r="39734" b="9840"/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25033" r="41317" b="31551"/>
          <a:stretch/>
        </p:blipFill>
        <p:spPr>
          <a:xfrm>
            <a:off x="1143000" y="0"/>
            <a:ext cx="8001000" cy="6667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562720" y="17524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21:21:53Z</dcterms:created>
  <dc:creator>Rene McCormick</dc:creator>
  <dc:description/>
  <dc:language>en-US</dc:language>
  <cp:lastModifiedBy> René McCormick</cp:lastModifiedBy>
  <dcterms:modified xsi:type="dcterms:W3CDTF">2008-02-21T21:25:58Z</dcterms:modified>
  <cp:revision>4</cp:revision>
  <dc:subject/>
  <dc:title>PowerPoint Presentation</dc:title>
</cp:coreProperties>
</file>