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AF07-345D-4E78-8B9D-660B4B84E1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3123-6C7B-4598-932F-1AEECCF94E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3C5D-14F9-4B5D-8E85-3B56A5E7BE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CBA6-70F8-4253-B2C1-5430A00497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56B5-63D4-4C87-9139-05E0836B58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C6DC-4137-425F-BC31-4772281534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7360-DB21-43AC-BD4C-1F17EF2ABA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967A-23A0-475A-8A5F-DA0C441E35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E635-F9ED-4504-B01E-A52E946326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D25D-1255-4226-8571-60C1045109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334C-AD63-4FA3-834B-959AF8C8B7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CBE4-94B5-4FBB-82BE-11D51D7133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5C0B-C986-4EE9-9687-EECD624AA1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8337-C047-4AC8-9B67-EC25C63330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5883-A4A0-4575-AABC-1128A13E22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67FE-32FD-4ED5-BB20-41743F9E8D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DCEB-470F-4C1B-9E36-81F86B303D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51A4-5AE9-4EEB-BE23-49F2E68C2B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EF30-DAA1-4F9D-9B2B-CFDF8C7900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30B3-1A9B-43A1-BEF6-83A05B3D59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1E81-DC58-4339-9F4D-83F2682CF1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EAE7-1916-471A-A9A2-2A5444E19E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152E-8BB5-46AD-AD67-1D70D3A3CE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CCEB-62E4-4878-9605-846038788B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FF60-FD96-43E0-ADBF-226277E4DE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2B67-EE6A-44DA-B858-680F780EF6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45AF-B699-49E8-8BFA-B87A4DF67B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074D-6FF9-4C47-B0A7-14A551746B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250C-1CDE-4940-AF2B-3CCFA2AF7C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4E78-6DBC-4CB5-809B-5D9F5F9318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4DE1-3E14-44BE-B727-C08099737C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F146-35DC-4F8D-B577-1163CC6677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B228-7EF2-4B04-90B0-16CE1E4A90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40BF-E96C-4366-B961-5BD81FBBFE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6A16-64D0-4B4A-8CB6-CDEF7998A6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81FD-2D89-455A-B43F-176424FEF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6F42-2A7D-4DA2-8C93-E08235F7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0A5B-CCA0-4023-BC88-5FFCECE35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D248-E805-4364-8442-10C7072FA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7453-7053-4651-B948-17AD9D84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B60A-0B02-4F14-BFAE-E8F1C20A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3DF0-E1A6-46C9-BC7A-C5DA4679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A2C2-EF39-4B30-AD2E-EBDF3705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A55A-71D1-4F99-8450-E739D4B8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43E2-E250-4C27-A643-0470E213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FA0F-8EBD-4021-A30D-EA30ED67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8AAA-B65B-4477-BD94-5A5525F7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B855-9867-436D-9CA6-2C4889BF0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19199" t="16352" r="38156" b="7666"/>
          <a:stretch/>
        </p:blipFill>
        <p:spPr>
          <a:xfrm>
            <a:off x="1600200" y="0"/>
            <a:ext cx="5289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rcRect l="20781" t="18521" r="42104" b="23951"/>
          <a:stretch/>
        </p:blipFill>
        <p:spPr>
          <a:xfrm>
            <a:off x="1752480" y="0"/>
            <a:ext cx="608184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rcRect l="20781" t="53261" r="42895" b="17439"/>
          <a:stretch/>
        </p:blipFill>
        <p:spPr>
          <a:xfrm>
            <a:off x="0" y="347760"/>
            <a:ext cx="91440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19990" t="17439" r="42104" b="31545"/>
          <a:stretch/>
        </p:blipFill>
        <p:spPr>
          <a:xfrm>
            <a:off x="380880" y="0"/>
            <a:ext cx="6934320" cy="67896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rcRect l="20781" t="16352" r="42895" b="60860"/>
          <a:stretch/>
        </p:blipFill>
        <p:spPr>
          <a:xfrm>
            <a:off x="609480" y="1066680"/>
            <a:ext cx="7696440" cy="39625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rcRect l="2616" t="39145" r="41317" b="4410"/>
          <a:stretch/>
        </p:blipFill>
        <p:spPr>
          <a:xfrm>
            <a:off x="0" y="44280"/>
            <a:ext cx="8991720" cy="65851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rcRect l="6643" t="38105" r="7058" b="34211"/>
          <a:stretch/>
        </p:blipFill>
        <p:spPr>
          <a:xfrm>
            <a:off x="0" y="0"/>
            <a:ext cx="7391520" cy="1136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rcRect l="4198" t="16352" r="41317" b="42401"/>
          <a:stretch/>
        </p:blipFill>
        <p:spPr>
          <a:xfrm>
            <a:off x="152280" y="1676520"/>
            <a:ext cx="8991720" cy="49514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rcRect l="4985" t="28289" r="80013" b="14178"/>
          <a:stretch/>
        </p:blipFill>
        <p:spPr>
          <a:xfrm>
            <a:off x="304920" y="0"/>
            <a:ext cx="2720880" cy="6553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rcRect l="21285" t="16352" r="42238" b="42401"/>
          <a:stretch/>
        </p:blipFill>
        <p:spPr>
          <a:xfrm>
            <a:off x="3124080" y="685800"/>
            <a:ext cx="6019920" cy="4951440"/>
          </a:xfrm>
          <a:prstGeom prst="rect">
            <a:avLst/>
          </a:prstGeom>
          <a:ln w="0">
            <a:noFill/>
          </a:ln>
        </p:spPr>
      </p:pic>
      <p:sp>
        <p:nvSpPr>
          <p:cNvPr id="69" name="Line 4"/>
          <p:cNvSpPr/>
          <p:nvPr/>
        </p:nvSpPr>
        <p:spPr>
          <a:xfrm flipH="1">
            <a:off x="5257800" y="838080"/>
            <a:ext cx="2209680" cy="5181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5"/>
          <p:cNvSpPr/>
          <p:nvPr/>
        </p:nvSpPr>
        <p:spPr>
          <a:xfrm flipH="1">
            <a:off x="5257800" y="914400"/>
            <a:ext cx="2209680" cy="5029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4191120" y="594360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can see I miss it!  Much easier to see when you use a straight edge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rcRect l="20781" t="17439" r="42104" b="48918"/>
          <a:stretch/>
        </p:blipFill>
        <p:spPr>
          <a:xfrm>
            <a:off x="228600" y="138240"/>
            <a:ext cx="8915400" cy="58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rcRect l="2616" t="17439" r="38156" b="37386"/>
          <a:stretch/>
        </p:blipFill>
        <p:spPr>
          <a:xfrm>
            <a:off x="0" y="228600"/>
            <a:ext cx="9144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rcRect l="20781" t="22864" r="42895" b="43488"/>
          <a:stretch/>
        </p:blipFill>
        <p:spPr>
          <a:xfrm>
            <a:off x="0" y="0"/>
            <a:ext cx="5562720" cy="3747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rcRect l="21569" t="25033" r="46843" b="43488"/>
          <a:stretch/>
        </p:blipFill>
        <p:spPr>
          <a:xfrm>
            <a:off x="3581280" y="3276720"/>
            <a:ext cx="4800600" cy="347976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4"/>
          <p:cNvSpPr/>
          <p:nvPr/>
        </p:nvSpPr>
        <p:spPr>
          <a:xfrm>
            <a:off x="304920" y="4114800"/>
            <a:ext cx="1828800" cy="1295280"/>
          </a:xfrm>
          <a:prstGeom prst="wedgeRectCallout">
            <a:avLst>
              <a:gd name="adj1" fmla="val -17967"/>
              <a:gd name="adj2" fmla="val -17365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ice One oxygen molecule is consum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"/>
          <p:cNvSpPr/>
          <p:nvPr/>
        </p:nvSpPr>
        <p:spPr>
          <a:xfrm>
            <a:off x="7467480" y="4038480"/>
            <a:ext cx="1676520" cy="1676520"/>
          </a:xfrm>
          <a:prstGeom prst="wedgeRectCallout">
            <a:avLst>
              <a:gd name="adj1" fmla="val -101800"/>
              <a:gd name="adj2" fmla="val 4469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even more oxygen molecules are gener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rcRect l="19990" t="25033" r="42649" b="16352"/>
          <a:stretch/>
        </p:blipFill>
        <p:spPr>
          <a:xfrm>
            <a:off x="1424160" y="0"/>
            <a:ext cx="600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rcRect l="2616" t="62619" r="38156" b="7666"/>
          <a:stretch/>
        </p:blipFill>
        <p:spPr>
          <a:xfrm>
            <a:off x="228600" y="457200"/>
            <a:ext cx="8915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rcRect l="20781" t="25033" r="48422" b="43421"/>
          <a:stretch/>
        </p:blipFill>
        <p:spPr>
          <a:xfrm>
            <a:off x="0" y="457200"/>
            <a:ext cx="6019920" cy="4486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rcRect l="21569" t="31545" r="53952" b="46744"/>
          <a:stretch/>
        </p:blipFill>
        <p:spPr>
          <a:xfrm>
            <a:off x="5181480" y="144792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81" name="Oval 4"/>
          <p:cNvSpPr/>
          <p:nvPr/>
        </p:nvSpPr>
        <p:spPr>
          <a:xfrm>
            <a:off x="1981080" y="4648320"/>
            <a:ext cx="6629400" cy="1904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dark, oxygen is consumed by respiration bu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there are no photons, there is no photosynthesi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is no oxygen produ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609480" y="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THE “ZERO” BOTT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rcRect l="20781" t="25033" r="46843" b="46744"/>
          <a:stretch/>
        </p:blipFill>
        <p:spPr>
          <a:xfrm>
            <a:off x="0" y="685800"/>
            <a:ext cx="5105520" cy="3238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rcRect l="20781" t="31545" r="53161" b="46744"/>
          <a:stretch/>
        </p:blipFill>
        <p:spPr>
          <a:xfrm>
            <a:off x="4495680" y="1371600"/>
            <a:ext cx="4114800" cy="2494080"/>
          </a:xfrm>
          <a:prstGeom prst="rect">
            <a:avLst/>
          </a:prstGeom>
          <a:ln w="0">
            <a:noFill/>
          </a:ln>
        </p:spPr>
      </p:pic>
      <p:sp>
        <p:nvSpPr>
          <p:cNvPr id="85" name="Oval 4"/>
          <p:cNvSpPr/>
          <p:nvPr/>
        </p:nvSpPr>
        <p:spPr>
          <a:xfrm>
            <a:off x="1295280" y="4038480"/>
            <a:ext cx="6858000" cy="2514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bottle without any screening, maximum photosynth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s place, therefore maximum oxygen produ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609480" y="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THE “100” BOTT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rcRect l="12885" t="23951" r="42104" b="26120"/>
          <a:stretch/>
        </p:blipFill>
        <p:spPr>
          <a:xfrm>
            <a:off x="914400" y="0"/>
            <a:ext cx="7924680" cy="639432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3"/>
          <p:cNvSpPr/>
          <p:nvPr/>
        </p:nvSpPr>
        <p:spPr>
          <a:xfrm>
            <a:off x="304920" y="152280"/>
            <a:ext cx="1904760" cy="2514600"/>
          </a:xfrm>
          <a:prstGeom prst="wedgeRoundRectCallout">
            <a:avLst>
              <a:gd name="adj1" fmla="val 95583"/>
              <a:gd name="adj2" fmla="val 10170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GREENER, the BETT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rcRect l="21569" t="18521" r="40525" b="16352"/>
          <a:stretch/>
        </p:blipFill>
        <p:spPr>
          <a:xfrm>
            <a:off x="1752480" y="0"/>
            <a:ext cx="53038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rcRect l="20781" t="17439" r="38943" b="21777"/>
          <a:stretch/>
        </p:blipFill>
        <p:spPr>
          <a:xfrm>
            <a:off x="304920" y="0"/>
            <a:ext cx="624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rcRect l="21569" t="17439" r="42104" b="32633"/>
          <a:stretch/>
        </p:blipFill>
        <p:spPr>
          <a:xfrm>
            <a:off x="304920" y="0"/>
            <a:ext cx="6781680" cy="6781680"/>
          </a:xfrm>
          <a:prstGeom prst="rect">
            <a:avLst/>
          </a:prstGeom>
          <a:ln w="0">
            <a:noFill/>
          </a:ln>
        </p:spPr>
      </p:pic>
      <p:sp>
        <p:nvSpPr>
          <p:cNvPr id="92" name="Oval 3"/>
          <p:cNvSpPr/>
          <p:nvPr/>
        </p:nvSpPr>
        <p:spPr>
          <a:xfrm>
            <a:off x="6934320" y="5410080"/>
            <a:ext cx="1981080" cy="99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se are per li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rcRect l="22360" t="69542" r="42104" b="4410"/>
          <a:stretch/>
        </p:blipFill>
        <p:spPr>
          <a:xfrm>
            <a:off x="304920" y="228600"/>
            <a:ext cx="83055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rcRect l="4198" t="26120" r="39596" b="35889"/>
          <a:stretch/>
        </p:blipFill>
        <p:spPr>
          <a:xfrm>
            <a:off x="0" y="380880"/>
            <a:ext cx="8915400" cy="43848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rcRect l="4500" t="21777" r="39734" b="42401"/>
          <a:stretch/>
        </p:blipFill>
        <p:spPr>
          <a:xfrm>
            <a:off x="380880" y="609480"/>
            <a:ext cx="8763120" cy="4095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rcRect l="19199" t="17439" r="38943" b="18521"/>
          <a:stretch/>
        </p:blipFill>
        <p:spPr>
          <a:xfrm>
            <a:off x="0" y="0"/>
            <a:ext cx="58863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rcRect l="21569" t="20695" r="42104" b="17434"/>
          <a:stretch/>
        </p:blipFill>
        <p:spPr>
          <a:xfrm>
            <a:off x="0" y="0"/>
            <a:ext cx="553392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3"/>
          <p:cNvSpPr/>
          <p:nvPr/>
        </p:nvSpPr>
        <p:spPr>
          <a:xfrm>
            <a:off x="4419720" y="457200"/>
            <a:ext cx="3276360" cy="838080"/>
          </a:xfrm>
          <a:prstGeom prst="wedgeRectCallout">
            <a:avLst>
              <a:gd name="adj1" fmla="val -88759"/>
              <a:gd name="adj2" fmla="val 4981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ot BOTH gross and net productivity and make a legen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rcRect l="20781" t="23951" r="41317" b="23951"/>
          <a:stretch/>
        </p:blipFill>
        <p:spPr>
          <a:xfrm>
            <a:off x="380880" y="0"/>
            <a:ext cx="6705720" cy="67057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rcRect l="20781" t="17439" r="42895" b="10922"/>
          <a:stretch/>
        </p:blipFill>
        <p:spPr>
          <a:xfrm>
            <a:off x="838080" y="0"/>
            <a:ext cx="478008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rcRect l="20781" t="17439" r="41317" b="31545"/>
          <a:stretch/>
        </p:blipFill>
        <p:spPr>
          <a:xfrm>
            <a:off x="762120" y="173160"/>
            <a:ext cx="6705360" cy="65656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rcRect l="20781" t="17439" r="40525" b="16352"/>
          <a:stretch/>
        </p:blipFill>
        <p:spPr>
          <a:xfrm>
            <a:off x="835200" y="0"/>
            <a:ext cx="550836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rcRect l="19199" t="32925" r="38943" b="39970"/>
          <a:stretch/>
        </p:blipFill>
        <p:spPr>
          <a:xfrm>
            <a:off x="0" y="0"/>
            <a:ext cx="5886360" cy="2133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rcRect l="19990" t="59773" r="42895" b="16352"/>
          <a:stretch/>
        </p:blipFill>
        <p:spPr>
          <a:xfrm>
            <a:off x="533520" y="2647800"/>
            <a:ext cx="6095880" cy="39625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533520" y="21337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more fac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rcRect l="19990" t="23951" r="42895" b="25033"/>
          <a:stretch/>
        </p:blipFill>
        <p:spPr>
          <a:xfrm>
            <a:off x="1676520" y="76320"/>
            <a:ext cx="6705360" cy="67053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rcRect l="20781" t="18521" r="42104" b="5497"/>
          <a:stretch/>
        </p:blipFill>
        <p:spPr>
          <a:xfrm>
            <a:off x="1752480" y="0"/>
            <a:ext cx="460548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rcRect l="20781" t="18521" r="42104" b="22864"/>
          <a:stretch/>
        </p:blipFill>
        <p:spPr>
          <a:xfrm>
            <a:off x="1752480" y="0"/>
            <a:ext cx="597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rcRect l="2616" t="42401" r="39734" b="9840"/>
          <a:stretch/>
        </p:blipFill>
        <p:spPr>
          <a:xfrm>
            <a:off x="0" y="30492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rcRect l="20781" t="25033" r="41317" b="31551"/>
          <a:stretch/>
        </p:blipFill>
        <p:spPr>
          <a:xfrm>
            <a:off x="1143000" y="0"/>
            <a:ext cx="8001000" cy="66675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5562720" y="1752480"/>
            <a:ext cx="838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5T21:21:53Z</dcterms:created>
  <dc:creator>Rene McCormick</dc:creator>
  <dc:description/>
  <dc:language>en-US</dc:language>
  <cp:lastModifiedBy> René McCormick</cp:lastModifiedBy>
  <dcterms:modified xsi:type="dcterms:W3CDTF">2008-02-21T21:25:58Z</dcterms:modified>
  <cp:revision>4</cp:revision>
  <dc:subject/>
  <dc:title>PowerPoint Presentation</dc:title>
</cp:coreProperties>
</file>