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5B12-A678-438A-9EA6-75CF3121C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5FB9-C5A3-4B54-B3E2-C5456CEB3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90B2-BF12-4456-B979-515369F33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8962-BCAF-45CB-B658-DE4B62EB7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5E31-9505-4FC5-A14A-102B1B167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C531-7BCC-4FCC-AD57-EFA703B29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8498-6EBC-48B1-8531-638E670B6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A4E1-80E8-423B-B3BA-A5152B971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316E-A793-4A2F-9D87-D22776833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C34E-DDFB-44AC-8C7F-818221513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BC94-AB97-4F89-92FA-E2B12ED20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7197-E110-4FEA-B1E8-ACB8D5A49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9543-BD54-4902-920D-07D54CE20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48A4-DB10-45D3-843D-5E97830EC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F41C-788B-4DF9-A403-95A6557EB7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FBCB-CF87-4088-98DD-8EFD51B62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80CD-9044-4DA1-B2A1-9B5713BB1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2D5B-A99E-4DC6-A834-894762B5F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1B54-77FA-420B-BBB3-3460DB933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B3DE-E583-49B1-ACA8-5BE4649B1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2C4F-A308-4EAB-BD12-EE02B5EBE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80AB-6027-458C-AD67-60637ED1A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76B8-194F-444D-84FB-A964D6D5C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4918-0C58-4759-ADFE-0AB53BB3C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D4F6-5012-4848-8668-D2593F3BF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3FD1-758C-4CC5-BE13-C17BACBD4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C581-C268-4E52-AF4A-E532619EB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8AFA-D4F5-46A5-9A69-AE91BB543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9F29-1D39-4A87-9F1F-B83D929D7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73EE-7DE8-4DF0-9A33-CDFCF31013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8335-42AC-4B41-BAE9-5929DC6DC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3024-3B54-40F6-8538-3D2006148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D8DC-8930-4AD6-9FCC-7A573A536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15B3-D872-4F06-8659-31C70293A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B535-5577-4880-A40B-926A30217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D95-EF85-4FD5-A0AA-AE1AEA9D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112-5CD7-4351-9BBB-9EED34A3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69E-8103-46E4-AA8E-31C8C3E2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63F-E9DF-42DD-B5E5-9AF3114B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366-5B48-4FC5-B4B9-47E18061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895-3AE1-423F-AB02-46ECA18F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D64-D3F8-4B67-99D2-B989D0EE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B30-44B9-433D-BBA2-F4BF15C8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B89-6267-4957-9C08-52D5CD4D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F12-9110-4AAC-BCD5-61326108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B43-D9C1-4C36-A780-E40C5667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503-DBE8-4A24-8192-37ECCEAB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9018-5C39-419A-8A2F-101FF6E40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6352" r="38156" b="7666"/>
          <a:stretch/>
        </p:blipFill>
        <p:spPr>
          <a:xfrm>
            <a:off x="1600200" y="0"/>
            <a:ext cx="528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18521" r="42104" b="23951"/>
          <a:stretch/>
        </p:blipFill>
        <p:spPr>
          <a:xfrm>
            <a:off x="1752480" y="0"/>
            <a:ext cx="60818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20781" t="53261" r="42895" b="17439"/>
          <a:stretch/>
        </p:blipFill>
        <p:spPr>
          <a:xfrm>
            <a:off x="0" y="347760"/>
            <a:ext cx="9144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990" t="17439" r="42104" b="31545"/>
          <a:stretch/>
        </p:blipFill>
        <p:spPr>
          <a:xfrm>
            <a:off x="380880" y="0"/>
            <a:ext cx="6934320" cy="6789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20781" t="16352" r="42895" b="60860"/>
          <a:stretch/>
        </p:blipFill>
        <p:spPr>
          <a:xfrm>
            <a:off x="609480" y="1066680"/>
            <a:ext cx="7696440" cy="396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2616" t="39145" r="41317" b="4410"/>
          <a:stretch/>
        </p:blipFill>
        <p:spPr>
          <a:xfrm>
            <a:off x="0" y="44280"/>
            <a:ext cx="8991720" cy="6585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6643" t="38105" r="7058" b="34211"/>
          <a:stretch/>
        </p:blipFill>
        <p:spPr>
          <a:xfrm>
            <a:off x="0" y="0"/>
            <a:ext cx="7391520" cy="113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4198" t="16352" r="41317" b="42401"/>
          <a:stretch/>
        </p:blipFill>
        <p:spPr>
          <a:xfrm>
            <a:off x="152280" y="1676520"/>
            <a:ext cx="8991720" cy="4951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4985" t="28289" r="80013" b="14178"/>
          <a:stretch/>
        </p:blipFill>
        <p:spPr>
          <a:xfrm>
            <a:off x="304920" y="0"/>
            <a:ext cx="2720880" cy="65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21285" t="16352" r="42238" b="42401"/>
          <a:stretch/>
        </p:blipFill>
        <p:spPr>
          <a:xfrm>
            <a:off x="3124080" y="685800"/>
            <a:ext cx="6019920" cy="4951440"/>
          </a:xfrm>
          <a:prstGeom prst="rect">
            <a:avLst/>
          </a:prstGeom>
          <a:ln w="0">
            <a:noFill/>
          </a:ln>
        </p:spPr>
      </p:pic>
      <p:sp>
        <p:nvSpPr>
          <p:cNvPr id="69" name="Line 4"/>
          <p:cNvSpPr/>
          <p:nvPr/>
        </p:nvSpPr>
        <p:spPr>
          <a:xfrm flipH="1">
            <a:off x="5257800" y="838080"/>
            <a:ext cx="2209680" cy="518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 flipH="1">
            <a:off x="5257800" y="914400"/>
            <a:ext cx="2209680" cy="502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1911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see I miss it!  Much easier to see when you use a straight edg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17439" r="42104" b="48918"/>
          <a:stretch/>
        </p:blipFill>
        <p:spPr>
          <a:xfrm>
            <a:off x="228600" y="138240"/>
            <a:ext cx="89154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616" t="17439" r="38156" b="37386"/>
          <a:stretch/>
        </p:blipFill>
        <p:spPr>
          <a:xfrm>
            <a:off x="0" y="22860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781" t="22864" r="42895" b="43488"/>
          <a:stretch/>
        </p:blipFill>
        <p:spPr>
          <a:xfrm>
            <a:off x="0" y="0"/>
            <a:ext cx="5562720" cy="3747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rcRect l="21569" t="25033" r="46843" b="43488"/>
          <a:stretch/>
        </p:blipFill>
        <p:spPr>
          <a:xfrm>
            <a:off x="3581280" y="3276720"/>
            <a:ext cx="4800600" cy="34797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"/>
          <p:cNvSpPr/>
          <p:nvPr/>
        </p:nvSpPr>
        <p:spPr>
          <a:xfrm>
            <a:off x="304920" y="4114800"/>
            <a:ext cx="1828800" cy="1295280"/>
          </a:xfrm>
          <a:prstGeom prst="wedgeRectCallout">
            <a:avLst>
              <a:gd name="adj1" fmla="val -17967"/>
              <a:gd name="adj2" fmla="val -173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One oxygen molecule is consu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467480" y="4038480"/>
            <a:ext cx="1676520" cy="1676520"/>
          </a:xfrm>
          <a:prstGeom prst="wedgeRectCallout">
            <a:avLst>
              <a:gd name="adj1" fmla="val -101800"/>
              <a:gd name="adj2" fmla="val 44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even more oxygen molecules are gene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25033" r="42649" b="16352"/>
          <a:stretch/>
        </p:blipFill>
        <p:spPr>
          <a:xfrm>
            <a:off x="1424160" y="0"/>
            <a:ext cx="600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616" t="62619" r="38156" b="7666"/>
          <a:stretch/>
        </p:blipFill>
        <p:spPr>
          <a:xfrm>
            <a:off x="228600" y="45720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8422" b="43421"/>
          <a:stretch/>
        </p:blipFill>
        <p:spPr>
          <a:xfrm>
            <a:off x="0" y="457200"/>
            <a:ext cx="6019920" cy="4486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rcRect l="21569" t="31545" r="53952" b="46744"/>
          <a:stretch/>
        </p:blipFill>
        <p:spPr>
          <a:xfrm>
            <a:off x="5181480" y="1447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Oval 4"/>
          <p:cNvSpPr/>
          <p:nvPr/>
        </p:nvSpPr>
        <p:spPr>
          <a:xfrm>
            <a:off x="1981080" y="4648320"/>
            <a:ext cx="6629400" cy="190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dark, oxygen is consumed by respiration b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re are no photons, there is no photosynthesi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ZERO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781" t="25033" r="46843" b="46744"/>
          <a:stretch/>
        </p:blipFill>
        <p:spPr>
          <a:xfrm>
            <a:off x="0" y="685800"/>
            <a:ext cx="5105520" cy="32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rcRect l="20781" t="31545" r="53161" b="46744"/>
          <a:stretch/>
        </p:blipFill>
        <p:spPr>
          <a:xfrm>
            <a:off x="4495680" y="1371600"/>
            <a:ext cx="4114800" cy="24940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1295280" y="4038480"/>
            <a:ext cx="68580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bottle without any screening, maximum photo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lace, therefore maximum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100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12885" t="23951" r="42104" b="26120"/>
          <a:stretch/>
        </p:blipFill>
        <p:spPr>
          <a:xfrm>
            <a:off x="914400" y="0"/>
            <a:ext cx="7924680" cy="6394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304920" y="152280"/>
            <a:ext cx="1904760" cy="2514600"/>
          </a:xfrm>
          <a:prstGeom prst="wedgeRoundRectCallout">
            <a:avLst>
              <a:gd name="adj1" fmla="val 95583"/>
              <a:gd name="adj2" fmla="val 1017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REENER, the B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1569" t="18521" r="40525" b="16352"/>
          <a:stretch/>
        </p:blipFill>
        <p:spPr>
          <a:xfrm>
            <a:off x="1752480" y="0"/>
            <a:ext cx="5303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781" t="17439" r="38943" b="21777"/>
          <a:stretch/>
        </p:blipFill>
        <p:spPr>
          <a:xfrm>
            <a:off x="304920" y="0"/>
            <a:ext cx="62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1569" t="17439" r="42104" b="32633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92" name="Oval 3"/>
          <p:cNvSpPr/>
          <p:nvPr/>
        </p:nvSpPr>
        <p:spPr>
          <a:xfrm>
            <a:off x="6934320" y="5410080"/>
            <a:ext cx="198108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per li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2360" t="69542" r="42104" b="4410"/>
          <a:stretch/>
        </p:blipFill>
        <p:spPr>
          <a:xfrm>
            <a:off x="304920" y="228600"/>
            <a:ext cx="8305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4198" t="26120" r="39596" b="35889"/>
          <a:stretch/>
        </p:blipFill>
        <p:spPr>
          <a:xfrm>
            <a:off x="0" y="380880"/>
            <a:ext cx="8915400" cy="4384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4500" t="21777" r="39734" b="42401"/>
          <a:stretch/>
        </p:blipFill>
        <p:spPr>
          <a:xfrm>
            <a:off x="380880" y="609480"/>
            <a:ext cx="8763120" cy="409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9199" t="17439" r="38943" b="18521"/>
          <a:stretch/>
        </p:blipFill>
        <p:spPr>
          <a:xfrm>
            <a:off x="0" y="0"/>
            <a:ext cx="5886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1569" t="20695" r="42104" b="17434"/>
          <a:stretch/>
        </p:blipFill>
        <p:spPr>
          <a:xfrm>
            <a:off x="0" y="0"/>
            <a:ext cx="5533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4419720" y="457200"/>
            <a:ext cx="3276360" cy="838080"/>
          </a:xfrm>
          <a:prstGeom prst="wedgeRectCallout">
            <a:avLst>
              <a:gd name="adj1" fmla="val -88759"/>
              <a:gd name="adj2" fmla="val 498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 BOTH gross and net productivity and make a leg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20781" t="23951" r="41317" b="23951"/>
          <a:stretch/>
        </p:blipFill>
        <p:spPr>
          <a:xfrm>
            <a:off x="38088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20781" t="17439" r="42895" b="10922"/>
          <a:stretch/>
        </p:blipFill>
        <p:spPr>
          <a:xfrm>
            <a:off x="838080" y="0"/>
            <a:ext cx="47800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20781" t="17439" r="41317" b="31545"/>
          <a:stretch/>
        </p:blipFill>
        <p:spPr>
          <a:xfrm>
            <a:off x="762120" y="173160"/>
            <a:ext cx="6705360" cy="6565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17439" r="40525" b="16352"/>
          <a:stretch/>
        </p:blipFill>
        <p:spPr>
          <a:xfrm>
            <a:off x="83520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9199" t="32925" r="38943" b="39970"/>
          <a:stretch/>
        </p:blipFill>
        <p:spPr>
          <a:xfrm>
            <a:off x="0" y="0"/>
            <a:ext cx="58863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19990" t="59773" r="42895" b="16352"/>
          <a:stretch/>
        </p:blipFill>
        <p:spPr>
          <a:xfrm>
            <a:off x="533520" y="2647800"/>
            <a:ext cx="609588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33520" y="2133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re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19990" t="23951" r="42895" b="25033"/>
          <a:stretch/>
        </p:blipFill>
        <p:spPr>
          <a:xfrm>
            <a:off x="16765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0781" t="18521" r="42104" b="5497"/>
          <a:stretch/>
        </p:blipFill>
        <p:spPr>
          <a:xfrm>
            <a:off x="175248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18521" r="42104" b="22864"/>
          <a:stretch/>
        </p:blipFill>
        <p:spPr>
          <a:xfrm>
            <a:off x="1752480" y="0"/>
            <a:ext cx="59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616" t="42401" r="39734" b="9840"/>
          <a:stretch/>
        </p:blipFill>
        <p:spPr>
          <a:xfrm>
            <a:off x="0" y="3049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25033" r="41317" b="31551"/>
          <a:stretch/>
        </p:blipFill>
        <p:spPr>
          <a:xfrm>
            <a:off x="1143000" y="0"/>
            <a:ext cx="8001000" cy="6667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562720" y="175248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21:21:53Z</dcterms:created>
  <dc:creator>Rene McCormick</dc:creator>
  <dc:description/>
  <dc:language>en-US</dc:language>
  <cp:lastModifiedBy> René McCormick</cp:lastModifiedBy>
  <dcterms:modified xsi:type="dcterms:W3CDTF">2008-02-21T21:25:58Z</dcterms:modified>
  <cp:revision>4</cp:revision>
  <dc:subject/>
  <dc:title>PowerPoint Presentation</dc:title>
</cp:coreProperties>
</file>