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08FF-3AB3-422E-9D0E-EFA87F5F8A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FA5-D99D-42E0-B2AB-23771E528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6940-7AE3-4A34-9358-A450B7254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5B0B-171F-426E-92F8-D4BAFFE24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5F8D-4FEB-4BAE-88FD-FD587CBC9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7035-F79A-4D7C-8420-A9F926CF6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16F9-5DF0-4A38-B1F3-6D6CD4066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195E-B374-410B-8DBC-B63DF2148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B18E-461A-4EB0-81F6-6DE27DD9F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E278-882C-47D9-8963-84CA9064E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EC54-2D6D-4D73-B640-BBBAD833E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CC69-D313-4803-8F37-F92C300B3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2627-82CD-45C9-8245-B6089A77A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C290-C9D8-4F13-8F75-9B1B886EA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BEC6-F8D7-4EE0-84B1-4DF5692D9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EFDC-C983-4B7E-B32B-88568667A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14A3-DD51-4BED-A9F2-72914EDB0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C6D5-AE1C-4C68-8EDC-F4D8CADB1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0910-BBDB-456F-BA53-C11C772C5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AA7F-FAB1-470E-A237-C01FFDEA3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E96C-FAC6-49DD-B9A9-86E740C17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3948-C135-4813-8907-73804BBE0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E94A-781E-4D05-9FA1-9DF280605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4BE2-33C2-4678-A7AC-58ADB3F7D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40C-1F9A-47B3-8E87-D96CB978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60F-5DD8-49E9-93BD-1EB6E9E9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6DE-B578-4EFD-8ACB-0695C5AF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E73-386F-4E84-9327-90919A84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292-B856-43DE-8556-76C54D25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733-327F-4E35-A2F0-411B599F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C90-1A74-40FD-AAC0-40BE6C14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9E0-63C6-48B9-98D6-2A032753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9EB-74D4-461C-AF57-6D3E9021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7BD-CD45-49A4-B735-CB091A3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BF6-7939-4238-9F8E-9019B63F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A4E-5FA7-49A5-8B4D-25ED5429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C20C-1933-45D4-A229-112CFC564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8521" r="39734" b="6584"/>
          <a:stretch/>
        </p:blipFill>
        <p:spPr>
          <a:xfrm>
            <a:off x="160020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19199" t="25033" r="42895" b="23951"/>
          <a:stretch/>
        </p:blipFill>
        <p:spPr>
          <a:xfrm>
            <a:off x="1600200" y="34920"/>
            <a:ext cx="6858000" cy="671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1303" t="17439" r="38943" b="20695"/>
          <a:stretch/>
        </p:blipFill>
        <p:spPr>
          <a:xfrm>
            <a:off x="838080" y="109440"/>
            <a:ext cx="7315200" cy="6618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685800" y="0"/>
            <a:ext cx="12952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21043" t="58686" r="43156" b="14178"/>
          <a:stretch/>
        </p:blipFill>
        <p:spPr>
          <a:xfrm>
            <a:off x="990720" y="2590920"/>
            <a:ext cx="7086600" cy="390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10512" t="16352" r="38943" b="64117"/>
          <a:stretch/>
        </p:blipFill>
        <p:spPr>
          <a:xfrm>
            <a:off x="228600" y="228600"/>
            <a:ext cx="8534520" cy="2400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13673" t="25033" r="41317" b="27207"/>
          <a:stretch/>
        </p:blipFill>
        <p:spPr>
          <a:xfrm>
            <a:off x="533520" y="304920"/>
            <a:ext cx="8610480" cy="6235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380880" y="304920"/>
            <a:ext cx="10670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228600" y="3733920"/>
            <a:ext cx="1676520" cy="2361960"/>
          </a:xfrm>
          <a:prstGeom prst="wedgeRectCallout">
            <a:avLst>
              <a:gd name="adj1" fmla="val 134847"/>
              <a:gd name="adj2" fmla="val 26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know the “If…, then...” format is sort of cheesy—humor the graders and do it any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7621" t="16352" r="38156" b="34807"/>
          <a:stretch/>
        </p:blipFill>
        <p:spPr>
          <a:xfrm>
            <a:off x="152280" y="25560"/>
            <a:ext cx="8458200" cy="6797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7886" t="65198" r="39734" b="10922"/>
          <a:stretch/>
        </p:blipFill>
        <p:spPr>
          <a:xfrm>
            <a:off x="0" y="228600"/>
            <a:ext cx="8839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7099" t="70629" r="39734" b="19608"/>
          <a:stretch/>
        </p:blipFill>
        <p:spPr>
          <a:xfrm>
            <a:off x="0" y="152280"/>
            <a:ext cx="9144000" cy="1959120"/>
          </a:xfrm>
          <a:prstGeom prst="rect">
            <a:avLst/>
          </a:prstGeom>
          <a:ln w="0">
            <a:noFill/>
          </a:ln>
        </p:spPr>
      </p:pic>
      <p:sp>
        <p:nvSpPr>
          <p:cNvPr id="76" name="Oval 3"/>
          <p:cNvSpPr/>
          <p:nvPr/>
        </p:nvSpPr>
        <p:spPr>
          <a:xfrm>
            <a:off x="762120" y="2362320"/>
            <a:ext cx="8381880" cy="3733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having that evil science teach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know… the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made you do that dreadful, agoniz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rid science project…, pays of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write them a “Thank You” note i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Biology exam has a “design an experimen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this y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19990" t="23951" r="42895" b="19608"/>
          <a:stretch/>
        </p:blipFill>
        <p:spPr>
          <a:xfrm>
            <a:off x="167652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23951" r="42895" b="52748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16352" r="42104" b="28182"/>
          <a:stretch/>
        </p:blipFill>
        <p:spPr>
          <a:xfrm>
            <a:off x="1447920" y="0"/>
            <a:ext cx="63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17439" r="42895" b="4410"/>
          <a:stretch/>
        </p:blipFill>
        <p:spPr>
          <a:xfrm>
            <a:off x="0" y="0"/>
            <a:ext cx="4327560" cy="66294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5486400" y="304920"/>
            <a:ext cx="3657600" cy="3429000"/>
          </a:xfrm>
          <a:prstGeom prst="wedgeEllipseCallout">
            <a:avLst>
              <a:gd name="adj1" fmla="val -81250"/>
              <a:gd name="adj2" fmla="val 78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ime to design your own protoc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 “Scientific Meth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562720" y="4343400"/>
            <a:ext cx="3352680" cy="2209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activiti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aboratory. 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may ask you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ither or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569" t="72798" r="43682" b="4410"/>
          <a:stretch/>
        </p:blipFill>
        <p:spPr>
          <a:xfrm>
            <a:off x="0" y="762120"/>
            <a:ext cx="91440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17439" r="42104" b="40232"/>
          <a:stretch/>
        </p:blipFill>
        <p:spPr>
          <a:xfrm>
            <a:off x="457200" y="152280"/>
            <a:ext cx="8001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990" t="17434" r="42104" b="29376"/>
          <a:stretch/>
        </p:blipFill>
        <p:spPr>
          <a:xfrm>
            <a:off x="1676520" y="0"/>
            <a:ext cx="67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50005" r="42104" b="20695"/>
          <a:stretch/>
        </p:blipFill>
        <p:spPr>
          <a:xfrm>
            <a:off x="0" y="762120"/>
            <a:ext cx="89917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4985" t="16352" r="42895" b="14178"/>
          <a:stretch/>
        </p:blipFill>
        <p:spPr>
          <a:xfrm>
            <a:off x="228600" y="106200"/>
            <a:ext cx="6858000" cy="665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8142" t="16352" r="40525" b="17439"/>
          <a:stretch/>
        </p:blipFill>
        <p:spPr>
          <a:xfrm>
            <a:off x="533520" y="-6480"/>
            <a:ext cx="7162560" cy="6723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228600" y="5334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1569" t="18521" r="42104" b="45662"/>
          <a:stretch/>
        </p:blipFill>
        <p:spPr>
          <a:xfrm>
            <a:off x="0" y="0"/>
            <a:ext cx="9144000" cy="6559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981080" y="685800"/>
            <a:ext cx="6400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refer the name “rolly poley” or “doodle bu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1569" t="55430" r="42104" b="20695"/>
          <a:stretch/>
        </p:blipFill>
        <p:spPr>
          <a:xfrm>
            <a:off x="0" y="39600"/>
            <a:ext cx="8839080" cy="422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21569" t="79310" r="42104" b="12009"/>
          <a:stretch/>
        </p:blipFill>
        <p:spPr>
          <a:xfrm>
            <a:off x="0" y="4952880"/>
            <a:ext cx="9144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rcRect l="12094" t="17439" r="42104" b="48918"/>
          <a:stretch/>
        </p:blipFill>
        <p:spPr>
          <a:xfrm>
            <a:off x="0" y="654120"/>
            <a:ext cx="9144000" cy="4887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533520"/>
            <a:ext cx="121932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2094" t="35868" r="41317" b="14178"/>
          <a:stretch/>
        </p:blipFill>
        <p:spPr>
          <a:xfrm>
            <a:off x="0" y="0"/>
            <a:ext cx="85345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20781" t="87996" r="46843" b="6584"/>
          <a:stretch/>
        </p:blipFill>
        <p:spPr>
          <a:xfrm>
            <a:off x="228600" y="304920"/>
            <a:ext cx="8305920" cy="101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etup"/>
          <p:cNvPicPr/>
          <p:nvPr/>
        </p:nvPicPr>
        <p:blipFill>
          <a:blip r:embed="rId2"/>
          <a:stretch/>
        </p:blipFill>
        <p:spPr>
          <a:xfrm>
            <a:off x="2590920" y="1676520"/>
            <a:ext cx="4876560" cy="3906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/>
          <p:cNvSpPr/>
          <p:nvPr/>
        </p:nvSpPr>
        <p:spPr>
          <a:xfrm>
            <a:off x="6934320" y="609480"/>
            <a:ext cx="2209680" cy="2286000"/>
          </a:xfrm>
          <a:prstGeom prst="cloudCallout">
            <a:avLst>
              <a:gd name="adj1" fmla="val -133189"/>
              <a:gd name="adj2" fmla="val 19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certainly wish they’d left us under those rocks and rotting leaves near the tree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21:27:35Z</dcterms:created>
  <dc:creator>Rene McCormick</dc:creator>
  <dc:description/>
  <dc:language>en-US</dc:language>
  <cp:lastModifiedBy> René McCormick</cp:lastModifiedBy>
  <dcterms:modified xsi:type="dcterms:W3CDTF">2008-02-21T21:25:10Z</dcterms:modified>
  <cp:revision>3</cp:revision>
  <dc:subject/>
  <dc:title>PowerPoint Presentation</dc:title>
</cp:coreProperties>
</file>