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41B3-0F98-4AD9-B70E-F1E3312EF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840D-2C64-4E1B-9D54-B8C0B62D6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EC68-C6F1-42A3-B421-94AD43D1E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5AED-97B0-472A-A330-A55E32554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4DB9-50BF-4E8A-A674-12C3FCB39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A56D-B6A6-4021-85C5-5C86C64A0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4C3-BA5E-4038-AD55-F398925EA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5144-42AB-4BE2-B8B3-6DEC43A1D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C2A-0279-48A3-ADCC-AB132257C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7DD-ABBE-4983-B660-DAA75B751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BFD-E6EB-4587-9B0E-95B640F30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73AA-668A-430A-A52E-CEBAA1F14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54B-F547-4943-9FD6-B0E2703B5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99EE-2A02-43C0-8248-E50DC9B90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40E-F1EE-480C-8817-001EFD4E6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AA3-AD7F-4A17-B2EC-1A83A4657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A274-1ABD-4CEC-85D9-A2E9F506F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2400-90CA-410D-942D-41278652F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857-A745-480C-93B5-DC80D5BB7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238C-2217-4085-928B-58794E250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5A22-6C43-48FB-AC9A-683C5D4A6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7954-91B4-4D2A-843A-77E4ADCC9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D53A-AC69-4E27-B07D-53452C169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B01-7D20-4C14-9AAE-8767863A1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7E3-CED1-4D8C-8733-A74F864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55D-B2B3-454D-ABD7-30CA5A8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962-267C-4999-B896-BE761A9A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302-8427-4BE3-8D9A-21F92615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605-5CD2-46DB-97AA-F7AFD79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6FE-4F0A-4FBB-B8D4-183B69E7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BAE-91D5-4A26-90B4-268C97F3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8EE-4234-4B0A-A0EE-D532794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973-A2F4-4B04-8574-13136BB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1D8-8D6B-41AA-9077-D8D0155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501-6D5A-4C95-82A0-0724CF6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27B-1564-4CEA-9BA4-12C2BC85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9CB-2742-40E0-A3B7-6AA5CA5F6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8521" r="39734" b="6584"/>
          <a:stretch/>
        </p:blipFill>
        <p:spPr>
          <a:xfrm>
            <a:off x="160020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9199" t="25033" r="42895" b="23951"/>
          <a:stretch/>
        </p:blipFill>
        <p:spPr>
          <a:xfrm>
            <a:off x="1600200" y="34920"/>
            <a:ext cx="6858000" cy="671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1303" t="17439" r="38943" b="20695"/>
          <a:stretch/>
        </p:blipFill>
        <p:spPr>
          <a:xfrm>
            <a:off x="838080" y="109440"/>
            <a:ext cx="7315200" cy="6618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0"/>
            <a:ext cx="1295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1043" t="58686" r="43156" b="14178"/>
          <a:stretch/>
        </p:blipFill>
        <p:spPr>
          <a:xfrm>
            <a:off x="990720" y="2590920"/>
            <a:ext cx="70866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0512" t="16352" r="38943" b="64117"/>
          <a:stretch/>
        </p:blipFill>
        <p:spPr>
          <a:xfrm>
            <a:off x="228600" y="228600"/>
            <a:ext cx="853452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3673" t="25033" r="41317" b="27207"/>
          <a:stretch/>
        </p:blipFill>
        <p:spPr>
          <a:xfrm>
            <a:off x="533520" y="304920"/>
            <a:ext cx="8610480" cy="6235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80880" y="304920"/>
            <a:ext cx="1067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28600" y="3733920"/>
            <a:ext cx="1676520" cy="2361960"/>
          </a:xfrm>
          <a:prstGeom prst="wedgeRectCallout">
            <a:avLst>
              <a:gd name="adj1" fmla="val 134847"/>
              <a:gd name="adj2" fmla="val 2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 “If…, then...” format is sort of cheesy—humor the graders and do it any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7621" t="16352" r="38156" b="34807"/>
          <a:stretch/>
        </p:blipFill>
        <p:spPr>
          <a:xfrm>
            <a:off x="152280" y="25560"/>
            <a:ext cx="845820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7886" t="65198" r="39734" b="10922"/>
          <a:stretch/>
        </p:blipFill>
        <p:spPr>
          <a:xfrm>
            <a:off x="0" y="22860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7099" t="70629" r="39734" b="19608"/>
          <a:stretch/>
        </p:blipFill>
        <p:spPr>
          <a:xfrm>
            <a:off x="0" y="15228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762120" y="2362320"/>
            <a:ext cx="838188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having that evil science teac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know… th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ade you do that dreadful, agon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d science project…, pays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write them a “Thank You” not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iology exam has a “design an experi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this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9990" t="23951" r="42895" b="19608"/>
          <a:stretch/>
        </p:blipFill>
        <p:spPr>
          <a:xfrm>
            <a:off x="167652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23951" r="42895" b="52748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16352" r="42104" b="28182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17439" r="42895" b="4410"/>
          <a:stretch/>
        </p:blipFill>
        <p:spPr>
          <a:xfrm>
            <a:off x="0" y="0"/>
            <a:ext cx="432756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486400" y="304920"/>
            <a:ext cx="3657600" cy="3429000"/>
          </a:xfrm>
          <a:prstGeom prst="wedgeEllipseCallout">
            <a:avLst>
              <a:gd name="adj1" fmla="val -81250"/>
              <a:gd name="adj2" fmla="val 7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ime to design your own protoc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 “Scientific Meth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62720" y="4343400"/>
            <a:ext cx="33526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ctivit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boratory. 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may ask you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ither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569" t="72798" r="43682" b="4410"/>
          <a:stretch/>
        </p:blipFill>
        <p:spPr>
          <a:xfrm>
            <a:off x="0" y="762120"/>
            <a:ext cx="91440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17439" r="42104" b="40232"/>
          <a:stretch/>
        </p:blipFill>
        <p:spPr>
          <a:xfrm>
            <a:off x="457200" y="15228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990" t="17434" r="42104" b="29376"/>
          <a:stretch/>
        </p:blipFill>
        <p:spPr>
          <a:xfrm>
            <a:off x="1676520" y="0"/>
            <a:ext cx="67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50005" r="42104" b="20695"/>
          <a:stretch/>
        </p:blipFill>
        <p:spPr>
          <a:xfrm>
            <a:off x="0" y="762120"/>
            <a:ext cx="89917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985" t="16352" r="42895" b="14178"/>
          <a:stretch/>
        </p:blipFill>
        <p:spPr>
          <a:xfrm>
            <a:off x="228600" y="106200"/>
            <a:ext cx="6858000" cy="665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8142" t="16352" r="40525" b="17439"/>
          <a:stretch/>
        </p:blipFill>
        <p:spPr>
          <a:xfrm>
            <a:off x="533520" y="-6480"/>
            <a:ext cx="7162560" cy="6723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28600" y="5334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1569" t="18521" r="42104" b="4566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efer the name “rolly poley” or “doodle 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1569" t="55430" r="42104" b="20695"/>
          <a:stretch/>
        </p:blipFill>
        <p:spPr>
          <a:xfrm>
            <a:off x="0" y="39600"/>
            <a:ext cx="883908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1569" t="79310" r="42104" b="12009"/>
          <a:stretch/>
        </p:blipFill>
        <p:spPr>
          <a:xfrm>
            <a:off x="0" y="4952880"/>
            <a:ext cx="914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2094" t="17439" r="42104" b="48918"/>
          <a:stretch/>
        </p:blipFill>
        <p:spPr>
          <a:xfrm>
            <a:off x="0" y="65412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533520"/>
            <a:ext cx="1219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2094" t="35868" r="41317" b="14178"/>
          <a:stretch/>
        </p:blipFill>
        <p:spPr>
          <a:xfrm>
            <a:off x="0" y="0"/>
            <a:ext cx="85345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20781" t="87996" r="46843" b="6584"/>
          <a:stretch/>
        </p:blipFill>
        <p:spPr>
          <a:xfrm>
            <a:off x="228600" y="304920"/>
            <a:ext cx="830592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etup"/>
          <p:cNvPicPr/>
          <p:nvPr/>
        </p:nvPicPr>
        <p:blipFill>
          <a:blip r:embed="rId2"/>
          <a:stretch/>
        </p:blipFill>
        <p:spPr>
          <a:xfrm>
            <a:off x="2590920" y="1676520"/>
            <a:ext cx="4876560" cy="3906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6934320" y="609480"/>
            <a:ext cx="2209680" cy="2286000"/>
          </a:xfrm>
          <a:prstGeom prst="cloudCallout">
            <a:avLst>
              <a:gd name="adj1" fmla="val -133189"/>
              <a:gd name="adj2" fmla="val 19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certainly wish they’d left us under those rocks and rotting leaves near the tree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21:27:35Z</dcterms:created>
  <dc:creator>Rene McCormick</dc:creator>
  <dc:description/>
  <dc:language>en-US</dc:language>
  <cp:lastModifiedBy> René McCormick</cp:lastModifiedBy>
  <dcterms:modified xsi:type="dcterms:W3CDTF">2008-02-21T21:25:10Z</dcterms:modified>
  <cp:revision>3</cp:revision>
  <dc:subject/>
  <dc:title>PowerPoint Presentation</dc:title>
</cp:coreProperties>
</file>