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63F0-CD54-4F2F-B8DE-F115AC868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29FE-B9BB-447C-B097-D1A6DEFBB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7C8A-ADB5-45CC-BFE9-F90FDB7F4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A06A-3B7D-4645-9340-893DE71FA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E659-55F9-49D4-A7AC-BAF1B2FDD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C0D5-BC3D-4838-9EAE-7BCF98619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8F45-53F3-4F8A-989B-3AD028DD9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A511-12E6-4B20-9AC6-12ABB7B9F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AA98-723B-400D-A2F0-360304476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C3F9-623D-4292-A0B0-912912751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AECB-128D-4B3D-9DFF-DB9E03088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2579-208B-4E4B-AFFF-1F873A38C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EAEF-F00C-4038-BA40-770886585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4B5E-5EF7-4F8E-9850-20E4DC4AD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F060-B3C4-4AEB-AF5E-D3C32C31D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2C6E-5898-407E-B7C5-35E4D38AC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F3CF-5A8B-4C2E-82EF-D2708D9B2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3B1A-9643-40FA-9875-08CF6D629A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E923-AA3A-444F-B242-86F49EFA0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0216-59BD-4C0E-A61F-BF245060A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C2FF-59FB-4851-8C22-B148E1104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3887-3818-4219-A479-A5078C85A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4F0B-401B-4667-8969-B6AF5EA84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C340-655D-4D6A-9C7A-8EDCB06D5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7C1-DAEA-4F78-8424-B7EB7341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5B7-5D7E-46E3-9747-B49F43D1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933-AB14-4310-B08E-63B7980F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382-F8C5-4C04-8192-8CBDDD89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EAC-5945-4BD3-B016-C9CF4001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D85-F6CD-478F-8D0E-65608CE4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1FD-2D23-4123-B33F-6935635C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85C-33DF-4748-9BBA-E5D8BD20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CD67-91C6-421D-BC03-C3066159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E05-3DC8-4E6E-8D06-68FBC774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B74-7F95-480D-8279-00ED7DA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C65-E5BB-450B-9FC0-5FF90A9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83F-0F93-4B2B-8851-84D8A0C82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8521" r="39734" b="6584"/>
          <a:stretch/>
        </p:blipFill>
        <p:spPr>
          <a:xfrm>
            <a:off x="160020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9199" t="25033" r="42895" b="23951"/>
          <a:stretch/>
        </p:blipFill>
        <p:spPr>
          <a:xfrm>
            <a:off x="1600200" y="34920"/>
            <a:ext cx="6858000" cy="671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1303" t="17439" r="38943" b="20695"/>
          <a:stretch/>
        </p:blipFill>
        <p:spPr>
          <a:xfrm>
            <a:off x="838080" y="109440"/>
            <a:ext cx="7315200" cy="6618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685800" y="0"/>
            <a:ext cx="12952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21043" t="58686" r="43156" b="14178"/>
          <a:stretch/>
        </p:blipFill>
        <p:spPr>
          <a:xfrm>
            <a:off x="990720" y="2590920"/>
            <a:ext cx="7086600" cy="390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10512" t="16352" r="38943" b="64117"/>
          <a:stretch/>
        </p:blipFill>
        <p:spPr>
          <a:xfrm>
            <a:off x="228600" y="228600"/>
            <a:ext cx="8534520" cy="2400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13673" t="25033" r="41317" b="27207"/>
          <a:stretch/>
        </p:blipFill>
        <p:spPr>
          <a:xfrm>
            <a:off x="533520" y="304920"/>
            <a:ext cx="8610480" cy="6235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80880" y="304920"/>
            <a:ext cx="10670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28600" y="3733920"/>
            <a:ext cx="1676520" cy="2361960"/>
          </a:xfrm>
          <a:prstGeom prst="wedgeRectCallout">
            <a:avLst>
              <a:gd name="adj1" fmla="val 134847"/>
              <a:gd name="adj2" fmla="val 26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know the “If…, then...” format is sort of cheesy—humor the graders and do it any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7621" t="16352" r="38156" b="34807"/>
          <a:stretch/>
        </p:blipFill>
        <p:spPr>
          <a:xfrm>
            <a:off x="152280" y="25560"/>
            <a:ext cx="8458200" cy="6797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7886" t="65198" r="39734" b="10922"/>
          <a:stretch/>
        </p:blipFill>
        <p:spPr>
          <a:xfrm>
            <a:off x="0" y="228600"/>
            <a:ext cx="8839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7099" t="70629" r="39734" b="19608"/>
          <a:stretch/>
        </p:blipFill>
        <p:spPr>
          <a:xfrm>
            <a:off x="0" y="152280"/>
            <a:ext cx="9144000" cy="1959120"/>
          </a:xfrm>
          <a:prstGeom prst="rect">
            <a:avLst/>
          </a:prstGeom>
          <a:ln w="0">
            <a:noFill/>
          </a:ln>
        </p:spPr>
      </p:pic>
      <p:sp>
        <p:nvSpPr>
          <p:cNvPr id="76" name="Oval 3"/>
          <p:cNvSpPr/>
          <p:nvPr/>
        </p:nvSpPr>
        <p:spPr>
          <a:xfrm>
            <a:off x="762120" y="2362320"/>
            <a:ext cx="8381880" cy="3733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having that evil science teac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know… the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ade you do that dreadful, agoniz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rid science project…, pays of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write them a “Thank You” note i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Biology exam has a “design an experimen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this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19990" t="23951" r="42895" b="19608"/>
          <a:stretch/>
        </p:blipFill>
        <p:spPr>
          <a:xfrm>
            <a:off x="167652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23951" r="42895" b="52748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16352" r="42104" b="28182"/>
          <a:stretch/>
        </p:blipFill>
        <p:spPr>
          <a:xfrm>
            <a:off x="144792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17439" r="42895" b="4410"/>
          <a:stretch/>
        </p:blipFill>
        <p:spPr>
          <a:xfrm>
            <a:off x="0" y="0"/>
            <a:ext cx="4327560" cy="66294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5486400" y="304920"/>
            <a:ext cx="3657600" cy="3429000"/>
          </a:xfrm>
          <a:prstGeom prst="wedgeEllipseCallout">
            <a:avLst>
              <a:gd name="adj1" fmla="val -81250"/>
              <a:gd name="adj2" fmla="val 78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ime to design your own protoc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 “Scientific Meth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562720" y="4343400"/>
            <a:ext cx="335268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activiti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aboratory. 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may ask you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ither or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569" t="72798" r="43682" b="4410"/>
          <a:stretch/>
        </p:blipFill>
        <p:spPr>
          <a:xfrm>
            <a:off x="0" y="762120"/>
            <a:ext cx="91440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17439" r="42104" b="40232"/>
          <a:stretch/>
        </p:blipFill>
        <p:spPr>
          <a:xfrm>
            <a:off x="457200" y="152280"/>
            <a:ext cx="8001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990" t="17434" r="42104" b="29376"/>
          <a:stretch/>
        </p:blipFill>
        <p:spPr>
          <a:xfrm>
            <a:off x="1676520" y="0"/>
            <a:ext cx="67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50005" r="42104" b="20695"/>
          <a:stretch/>
        </p:blipFill>
        <p:spPr>
          <a:xfrm>
            <a:off x="0" y="762120"/>
            <a:ext cx="89917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4985" t="16352" r="42895" b="14178"/>
          <a:stretch/>
        </p:blipFill>
        <p:spPr>
          <a:xfrm>
            <a:off x="228600" y="106200"/>
            <a:ext cx="6858000" cy="665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8142" t="16352" r="40525" b="17439"/>
          <a:stretch/>
        </p:blipFill>
        <p:spPr>
          <a:xfrm>
            <a:off x="533520" y="-6480"/>
            <a:ext cx="7162560" cy="6723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228600" y="5334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1569" t="18521" r="42104" b="45662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981080" y="685800"/>
            <a:ext cx="6400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refer the name “rolly poley” or “doodle bu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1569" t="55430" r="42104" b="20695"/>
          <a:stretch/>
        </p:blipFill>
        <p:spPr>
          <a:xfrm>
            <a:off x="0" y="39600"/>
            <a:ext cx="8839080" cy="422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21569" t="79310" r="42104" b="12009"/>
          <a:stretch/>
        </p:blipFill>
        <p:spPr>
          <a:xfrm>
            <a:off x="0" y="4952880"/>
            <a:ext cx="9144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12094" t="17439" r="42104" b="48918"/>
          <a:stretch/>
        </p:blipFill>
        <p:spPr>
          <a:xfrm>
            <a:off x="0" y="654120"/>
            <a:ext cx="9144000" cy="4887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533520"/>
            <a:ext cx="121932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2094" t="35868" r="41317" b="14178"/>
          <a:stretch/>
        </p:blipFill>
        <p:spPr>
          <a:xfrm>
            <a:off x="0" y="0"/>
            <a:ext cx="85345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20781" t="87996" r="46843" b="6584"/>
          <a:stretch/>
        </p:blipFill>
        <p:spPr>
          <a:xfrm>
            <a:off x="228600" y="304920"/>
            <a:ext cx="8305920" cy="101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etup"/>
          <p:cNvPicPr/>
          <p:nvPr/>
        </p:nvPicPr>
        <p:blipFill>
          <a:blip r:embed="rId2"/>
          <a:stretch/>
        </p:blipFill>
        <p:spPr>
          <a:xfrm>
            <a:off x="2590920" y="1676520"/>
            <a:ext cx="4876560" cy="3906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>
            <a:off x="6934320" y="609480"/>
            <a:ext cx="2209680" cy="2286000"/>
          </a:xfrm>
          <a:prstGeom prst="cloudCallout">
            <a:avLst>
              <a:gd name="adj1" fmla="val -133189"/>
              <a:gd name="adj2" fmla="val 19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certainly wish they’d left us under those rocks and rotting leaves near the tree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21:27:35Z</dcterms:created>
  <dc:creator>Rene McCormick</dc:creator>
  <dc:description/>
  <dc:language>en-US</dc:language>
  <cp:lastModifiedBy> René McCormick</cp:lastModifiedBy>
  <dcterms:modified xsi:type="dcterms:W3CDTF">2008-02-21T21:25:10Z</dcterms:modified>
  <cp:revision>3</cp:revision>
  <dc:subject/>
  <dc:title>PowerPoint Presentation</dc:title>
</cp:coreProperties>
</file>