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CC54-6648-4867-8985-F0403D9987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DADA-0592-48F3-B851-7A48046466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AF0A-CD2D-4AE9-B7BD-1BDF7CC9C4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5D80-A722-4019-9D9C-5BEE69773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7469-B9AB-463B-88DB-15A31072A1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3E6A-45C1-4D07-A1AA-32A0F0062C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3FD9-E9AD-4521-B5FF-0E4C5D31E9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776D-C535-4F8A-A956-CC625B6D7D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773E-CCD4-4F7D-980A-334C0A4A55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82CA-48DB-49BF-B586-299B1A1199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4D26-25FF-48F1-9117-035FEF8490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06DA-AD9C-4F87-8870-F21992DC2F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22C4-C45D-4B19-8945-0507AE8CC4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24A3-18F4-4DE0-8D5D-A6B3C78973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D7B3-F457-40AD-A6FA-34FA46F423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5BE5-B997-41FB-B4BF-14E9912F1F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7CD3-EE78-456D-9A68-99240112B9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5C03-CD3F-4115-AC3D-80819D631B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BDDD-41D4-42DC-B693-DC30BC8A1F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D716-3560-4B9B-83F2-A4AA52C81F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D024-B614-472D-8502-219EB4E05F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3ACA-2920-4140-A72B-753179A2D9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03E3-8934-444E-AC7B-155D715D5E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527C-EFF5-4390-AD2A-3FF24A2FD6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0E2A-744F-4ED0-A31E-F1B4D9DC7E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36FD-B7C9-4966-A216-32CF733C0D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6E49-1D89-42D4-8868-05FA2EE61F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ACBE-3BE6-4D82-BF9F-B770CD7DA2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59D3-AAA5-40A6-90E2-C26129B564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75F1-56C1-4E03-B812-141AC1F330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5E13-DF76-4797-BA93-FDC5663EBD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EB76-1174-482B-8C95-F2FE24561D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6C38-A027-42AC-824B-016ABD210E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FAAE-94DA-4158-9884-077F358B2D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61E7-ABA3-4BFC-8BF9-AA1DBFAC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6B42-40E5-4115-95F3-AD6BAB88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9FB-9A73-4C85-A679-2D8E2F22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38D-E227-4C48-A2FF-1996A656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4D0B-B6C0-4193-AF9A-1EA43830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620F-AD80-476A-8ACD-4C2C8EB4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C0EB-4667-4D5C-98FA-95EFDA49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C1E8-0C7E-42AE-94BA-35785D5A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4322-810B-4F32-88C0-50055378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7028-6B70-4761-8BC7-519FE7ED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D8A3-DD1E-45EC-A53B-10863DED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561B-09E4-49F3-82CA-E22C9243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53EB-1618-4D2C-8CAF-1D4C2BCA9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9990" t="23951" r="39734" b="4410"/>
          <a:stretch/>
        </p:blipFill>
        <p:spPr>
          <a:xfrm>
            <a:off x="1600200" y="0"/>
            <a:ext cx="553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rcRect l="20781" t="82494" r="42104" b="10922"/>
          <a:stretch/>
        </p:blipFill>
        <p:spPr>
          <a:xfrm>
            <a:off x="228600" y="5638680"/>
            <a:ext cx="8610480" cy="1006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rcRect l="21569" t="29376" r="60221" b="31545"/>
          <a:stretch/>
        </p:blipFill>
        <p:spPr>
          <a:xfrm>
            <a:off x="4191120" y="0"/>
            <a:ext cx="3660480" cy="5715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4"/>
          <p:cNvSpPr/>
          <p:nvPr/>
        </p:nvSpPr>
        <p:spPr>
          <a:xfrm>
            <a:off x="228600" y="457200"/>
            <a:ext cx="3429000" cy="3733920"/>
          </a:xfrm>
          <a:prstGeom prst="cloudCallout">
            <a:avLst>
              <a:gd name="adj1" fmla="val 104861"/>
              <a:gd name="adj2" fmla="val -524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n’t be surprised if your device has a circular dial with a needle rather than this old-fashioned wall-mounted typ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[That’s right, it’s not usually mounted on the patient’s chest!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20781" t="22864" r="41317" b="52061"/>
          <a:stretch/>
        </p:blipFill>
        <p:spPr>
          <a:xfrm>
            <a:off x="0" y="0"/>
            <a:ext cx="89917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20781" t="48780" r="41317" b="4410"/>
          <a:stretch/>
        </p:blipFill>
        <p:spPr>
          <a:xfrm>
            <a:off x="0" y="-11160"/>
            <a:ext cx="7391520" cy="664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1569" t="25033" r="42895" b="33720"/>
          <a:stretch/>
        </p:blipFill>
        <p:spPr>
          <a:xfrm>
            <a:off x="380880" y="0"/>
            <a:ext cx="77724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20781" t="16352" r="41317" b="16352"/>
          <a:stretch/>
        </p:blipFill>
        <p:spPr>
          <a:xfrm>
            <a:off x="0" y="0"/>
            <a:ext cx="5132520" cy="6629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rcRect l="21569" t="16352" r="42895" b="6584"/>
          <a:stretch/>
        </p:blipFill>
        <p:spPr>
          <a:xfrm>
            <a:off x="4800600" y="0"/>
            <a:ext cx="434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21569" t="16352" r="42895" b="20695"/>
          <a:stretch/>
        </p:blipFill>
        <p:spPr>
          <a:xfrm>
            <a:off x="1828800" y="0"/>
            <a:ext cx="5143680" cy="66294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0781" t="16352" r="42895" b="18521"/>
          <a:stretch/>
        </p:blipFill>
        <p:spPr>
          <a:xfrm>
            <a:off x="175248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20781" t="45662" r="42895" b="17439"/>
          <a:stretch/>
        </p:blipFill>
        <p:spPr>
          <a:xfrm>
            <a:off x="380880" y="331920"/>
            <a:ext cx="8534520" cy="63068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20781" t="17439" r="40525" b="5497"/>
          <a:stretch/>
        </p:blipFill>
        <p:spPr>
          <a:xfrm>
            <a:off x="1752480" y="0"/>
            <a:ext cx="473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19990" t="22864" r="41317" b="20695"/>
          <a:stretch/>
        </p:blipFill>
        <p:spPr>
          <a:xfrm>
            <a:off x="1676520" y="0"/>
            <a:ext cx="64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22360" t="21777" r="58691" b="4410"/>
          <a:stretch/>
        </p:blipFill>
        <p:spPr>
          <a:xfrm>
            <a:off x="0" y="0"/>
            <a:ext cx="1828800" cy="6324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rcRect l="21569" t="21777" r="58687" b="4410"/>
          <a:stretch/>
        </p:blipFill>
        <p:spPr>
          <a:xfrm>
            <a:off x="1828800" y="0"/>
            <a:ext cx="1905120" cy="6324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rcRect l="22360" t="21777" r="58687" b="4410"/>
          <a:stretch/>
        </p:blipFill>
        <p:spPr>
          <a:xfrm>
            <a:off x="3657600" y="0"/>
            <a:ext cx="1828800" cy="6324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4"/>
          <a:srcRect l="21569" t="16352" r="42895" b="12009"/>
          <a:stretch/>
        </p:blipFill>
        <p:spPr>
          <a:xfrm>
            <a:off x="5254560" y="0"/>
            <a:ext cx="3889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19199" t="17439" r="42895" b="21777"/>
          <a:stretch/>
        </p:blipFill>
        <p:spPr>
          <a:xfrm>
            <a:off x="1600200" y="152280"/>
            <a:ext cx="5746680" cy="6705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21569" t="17439" r="38943" b="5497"/>
          <a:stretch/>
        </p:blipFill>
        <p:spPr>
          <a:xfrm>
            <a:off x="1828800" y="0"/>
            <a:ext cx="482904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20781" t="18521" r="42895" b="20695"/>
          <a:stretch/>
        </p:blipFill>
        <p:spPr>
          <a:xfrm>
            <a:off x="1752480" y="0"/>
            <a:ext cx="563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20781" t="17439" r="42895" b="21777"/>
          <a:stretch/>
        </p:blipFill>
        <p:spPr>
          <a:xfrm>
            <a:off x="228600" y="0"/>
            <a:ext cx="563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19990" t="17439" r="42104" b="16352"/>
          <a:stretch/>
        </p:blipFill>
        <p:spPr>
          <a:xfrm>
            <a:off x="1676520" y="0"/>
            <a:ext cx="539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20781" t="18521" r="42104" b="13096"/>
          <a:stretch/>
        </p:blipFill>
        <p:spPr>
          <a:xfrm>
            <a:off x="1752480" y="0"/>
            <a:ext cx="511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rcRect l="20781" t="43488" r="42104" b="17434"/>
          <a:stretch/>
        </p:blipFill>
        <p:spPr>
          <a:xfrm>
            <a:off x="1143000" y="228600"/>
            <a:ext cx="7391520" cy="5661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20781" t="42401" r="42104" b="17439"/>
          <a:stretch/>
        </p:blipFill>
        <p:spPr>
          <a:xfrm>
            <a:off x="457200" y="136440"/>
            <a:ext cx="8381880" cy="6597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4198" t="17439" r="38943" b="5497"/>
          <a:stretch/>
        </p:blipFill>
        <p:spPr>
          <a:xfrm>
            <a:off x="152280" y="15840"/>
            <a:ext cx="6629400" cy="6537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3"/>
          <p:cNvSpPr/>
          <p:nvPr/>
        </p:nvSpPr>
        <p:spPr>
          <a:xfrm>
            <a:off x="1676520" y="0"/>
            <a:ext cx="380880" cy="1447920"/>
          </a:xfrm>
          <a:prstGeom prst="downArrow">
            <a:avLst>
              <a:gd name="adj1" fmla="val 50000"/>
              <a:gd name="adj2" fmla="val 950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rcRect l="20781" t="25033" r="42895" b="28289"/>
          <a:stretch/>
        </p:blipFill>
        <p:spPr>
          <a:xfrm>
            <a:off x="0" y="0"/>
            <a:ext cx="5029200" cy="4702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rcRect l="20781" t="45662" r="53161" b="27207"/>
          <a:stretch/>
        </p:blipFill>
        <p:spPr>
          <a:xfrm>
            <a:off x="5562720" y="2057400"/>
            <a:ext cx="3352680" cy="2540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rcRect l="21569" t="46744" r="53952" b="28289"/>
          <a:stretch/>
        </p:blipFill>
        <p:spPr>
          <a:xfrm>
            <a:off x="2666880" y="4346640"/>
            <a:ext cx="3276720" cy="243036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5"/>
          <p:cNvSpPr/>
          <p:nvPr/>
        </p:nvSpPr>
        <p:spPr>
          <a:xfrm>
            <a:off x="5410080" y="228600"/>
            <a:ext cx="3505320" cy="13716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you can’t see the animations, I’ve put the counts under each pi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4343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 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9343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 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733920" y="6400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 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40080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pm = beats per min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rcRect l="21569" t="38063" r="60269" b="20695"/>
          <a:stretch/>
        </p:blipFill>
        <p:spPr>
          <a:xfrm>
            <a:off x="838080" y="1905120"/>
            <a:ext cx="2675160" cy="4419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rcRect l="20781" t="19608" r="42895" b="15265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6"/>
          <p:cNvSpPr/>
          <p:nvPr/>
        </p:nvSpPr>
        <p:spPr>
          <a:xfrm>
            <a:off x="228600" y="0"/>
            <a:ext cx="2209680" cy="1600200"/>
          </a:xfrm>
          <a:prstGeom prst="wedgeRoundRectCallout">
            <a:avLst>
              <a:gd name="adj1" fmla="val 45472"/>
              <a:gd name="adj2" fmla="val 16914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e ventricles are smaller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19990" t="17439" r="42104" b="33720"/>
          <a:stretch/>
        </p:blipFill>
        <p:spPr>
          <a:xfrm>
            <a:off x="1371600" y="0"/>
            <a:ext cx="7086600" cy="66438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rcRect l="20781" t="35889" r="42895" b="13096"/>
          <a:stretch/>
        </p:blipFill>
        <p:spPr>
          <a:xfrm>
            <a:off x="1295280" y="0"/>
            <a:ext cx="67122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rcRect l="20781" t="16352" r="42104" b="4410"/>
          <a:stretch/>
        </p:blipFill>
        <p:spPr>
          <a:xfrm>
            <a:off x="1752480" y="0"/>
            <a:ext cx="4268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rcRect l="20781" t="32633" r="43686" b="20695"/>
          <a:stretch/>
        </p:blipFill>
        <p:spPr>
          <a:xfrm>
            <a:off x="1752480" y="98280"/>
            <a:ext cx="6934320" cy="662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rcRect l="20781" t="25033" r="42104" b="26120"/>
          <a:stretch/>
        </p:blipFill>
        <p:spPr>
          <a:xfrm>
            <a:off x="1523880" y="152280"/>
            <a:ext cx="685800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20781" t="25033" r="42895" b="30464"/>
          <a:stretch/>
        </p:blipFill>
        <p:spPr>
          <a:xfrm>
            <a:off x="990720" y="0"/>
            <a:ext cx="739116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20781" t="17439" r="42104" b="10922"/>
          <a:stretch/>
        </p:blipFill>
        <p:spPr>
          <a:xfrm>
            <a:off x="1371600" y="0"/>
            <a:ext cx="4721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20781" t="17439" r="42104" b="64450"/>
          <a:stretch/>
        </p:blipFill>
        <p:spPr>
          <a:xfrm>
            <a:off x="0" y="0"/>
            <a:ext cx="4721400" cy="1676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rcRect l="20781" t="30464" r="60269" b="30464"/>
          <a:stretch/>
        </p:blipFill>
        <p:spPr>
          <a:xfrm>
            <a:off x="228600" y="1905120"/>
            <a:ext cx="3301920" cy="4952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rcRect l="21569" t="30464" r="60269" b="31551"/>
          <a:stretch/>
        </p:blipFill>
        <p:spPr>
          <a:xfrm>
            <a:off x="4419720" y="1981080"/>
            <a:ext cx="3055680" cy="46483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5486400" y="304920"/>
            <a:ext cx="3352680" cy="1600200"/>
          </a:xfrm>
          <a:custGeom>
            <a:avLst/>
            <a:gdLst>
              <a:gd name="textAreaLeft" fmla="*/ 0 w 3352680"/>
              <a:gd name="textAreaRight" fmla="*/ 3353040 w 335268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tient may w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is proced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39951" t="36771" r="43279" b="47313"/>
          <a:stretch/>
        </p:blipFill>
        <p:spPr>
          <a:xfrm>
            <a:off x="228600" y="457200"/>
            <a:ext cx="4267080" cy="2133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rcRect l="21569" t="29376" r="60269" b="30464"/>
          <a:stretch/>
        </p:blipFill>
        <p:spPr>
          <a:xfrm>
            <a:off x="4786200" y="304920"/>
            <a:ext cx="3884760" cy="6248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rcRect l="21569" t="30464" r="60269" b="30464"/>
          <a:stretch/>
        </p:blipFill>
        <p:spPr>
          <a:xfrm>
            <a:off x="4267080" y="228600"/>
            <a:ext cx="3748320" cy="586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rcRect l="39951" t="54497" r="42104" b="24100"/>
          <a:stretch/>
        </p:blipFill>
        <p:spPr>
          <a:xfrm>
            <a:off x="228600" y="2362320"/>
            <a:ext cx="3962520" cy="344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3"/>
          <a:srcRect l="21979" t="75085" r="42104" b="19752"/>
          <a:stretch/>
        </p:blipFill>
        <p:spPr>
          <a:xfrm>
            <a:off x="228600" y="5776920"/>
            <a:ext cx="8153280" cy="85248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5"/>
          <p:cNvSpPr/>
          <p:nvPr/>
        </p:nvSpPr>
        <p:spPr>
          <a:xfrm>
            <a:off x="8177040" y="685800"/>
            <a:ext cx="914400" cy="2362320"/>
          </a:xfrm>
          <a:prstGeom prst="borderCallout1">
            <a:avLst>
              <a:gd name="adj1" fmla="val 18750"/>
              <a:gd name="adj2" fmla="val -8333"/>
              <a:gd name="adj3" fmla="val 109476"/>
              <a:gd name="adj4" fmla="val -677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apping sounds will get slower and slower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09:11Z</dcterms:created>
  <dc:creator>Rene McCormick</dc:creator>
  <dc:description/>
  <dc:language>en-US</dc:language>
  <cp:lastModifiedBy> René McCormick</cp:lastModifiedBy>
  <dcterms:modified xsi:type="dcterms:W3CDTF">2008-02-21T21:24:26Z</dcterms:modified>
  <cp:revision>4</cp:revision>
  <dc:subject/>
  <dc:title>PowerPoint Presentation</dc:title>
</cp:coreProperties>
</file>