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32FB-C2F7-4841-B1DD-5083CD6E19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ADFE-ACAD-411C-B45D-DE2FCB85CF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3741-EC77-4D8B-AEE2-16C1ECC3D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26B7-D7F2-400F-A7DD-948116A28F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6262-6054-4F1C-840D-031C76B3FA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9F4D-82AD-4D04-A63E-0D74E70CD3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C15D-A1EB-443A-968A-934BFBCE83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5462-E551-472B-9D39-FCF9B938DE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7D30-9655-4EA3-8DD4-6E08F1337A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DD1C-C67E-493D-96DE-759F2E7B31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3B21-D13A-471A-9EA0-4D9690420E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8A71-BCB6-494F-9475-C3FD0D73C2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36AF-FF0D-4387-91A7-BD825BB85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09BC-E597-4B8E-864C-56DEF2085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948A-0C39-4F59-AB3D-8268E3F1BD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D6DB-6334-4E0F-9174-A844519806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B66A-EF54-4477-93AB-EF953186BA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84DB-615D-4DF0-A11E-A603117269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3C00-18C1-4EF7-BB08-C41A05853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A19C-7540-4C5F-A477-D6C293C18F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A729-B842-4CFB-98F3-713A9D9FE8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73CA-FE72-4742-A4C8-B22EB1598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02DB-0A97-48C1-A9C7-617E7C313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4037-D502-4B3E-8CB7-3B496EC73D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BE10-EEF4-4BC7-9478-B6167DE6FA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1EDC-E410-4EA6-B8B3-A8A4676752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5D97-42D3-4ADF-8752-FA75F3220B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2210-B867-4761-B31C-27EB79BC7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2A88-2F40-40A4-99F8-D3FFBDB41B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B0C0-3F1F-4494-8175-6DF4EF9D2E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CAC5-92E7-48CF-9249-B563DC5071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0924-D601-4F02-839C-F16F4DD32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CC95-BFFA-4C6B-B9EF-B800585B02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5552-87E1-4B4F-B558-B471BB9821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ECD-2221-4E9A-9B7E-19E57304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C9C2-54A1-4C48-97F2-411C888E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B04-A8A4-47DC-A61D-D2D3B896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CDB-8E3E-4004-B0FC-A40B4209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C909-0597-4CC9-97F1-A0EA371B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70B-45F5-493D-9FEE-EC2900D0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03B8-C626-4177-88C4-9BF7D343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7E7-E494-4671-A7B2-04271C73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D51A-99A7-490F-8DFF-51F048CA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6690-AD22-4D3D-ACFE-D38D00E6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9C6-45B9-406C-BDE1-65ECFB05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829-B3C3-4453-BE9D-4195B3A0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41CD-DF64-47C4-977D-2C6EA0DA4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990" t="23951" r="39734" b="4410"/>
          <a:stretch/>
        </p:blipFill>
        <p:spPr>
          <a:xfrm>
            <a:off x="1600200" y="0"/>
            <a:ext cx="553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20781" t="82494" r="42104" b="10922"/>
          <a:stretch/>
        </p:blipFill>
        <p:spPr>
          <a:xfrm>
            <a:off x="228600" y="5638680"/>
            <a:ext cx="8610480" cy="1006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rcRect l="21569" t="29376" r="60221" b="31545"/>
          <a:stretch/>
        </p:blipFill>
        <p:spPr>
          <a:xfrm>
            <a:off x="4191120" y="0"/>
            <a:ext cx="366048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4"/>
          <p:cNvSpPr/>
          <p:nvPr/>
        </p:nvSpPr>
        <p:spPr>
          <a:xfrm>
            <a:off x="228600" y="457200"/>
            <a:ext cx="3429000" cy="3733920"/>
          </a:xfrm>
          <a:prstGeom prst="cloudCallout">
            <a:avLst>
              <a:gd name="adj1" fmla="val 104861"/>
              <a:gd name="adj2" fmla="val -524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n’t be surprised if your device has a circular dial with a needle rather than this old-fashioned wall-mounted typ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[That’s right, it’s not usually mounted on the patient’s chest!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20781" t="22864" r="41317" b="52061"/>
          <a:stretch/>
        </p:blipFill>
        <p:spPr>
          <a:xfrm>
            <a:off x="0" y="0"/>
            <a:ext cx="89917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20781" t="48780" r="41317" b="4410"/>
          <a:stretch/>
        </p:blipFill>
        <p:spPr>
          <a:xfrm>
            <a:off x="0" y="-11160"/>
            <a:ext cx="7391520" cy="664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1569" t="25033" r="42895" b="33720"/>
          <a:stretch/>
        </p:blipFill>
        <p:spPr>
          <a:xfrm>
            <a:off x="380880" y="0"/>
            <a:ext cx="77724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20781" t="16352" r="41317" b="16352"/>
          <a:stretch/>
        </p:blipFill>
        <p:spPr>
          <a:xfrm>
            <a:off x="0" y="0"/>
            <a:ext cx="5132520" cy="662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rcRect l="21569" t="16352" r="42895" b="6584"/>
          <a:stretch/>
        </p:blipFill>
        <p:spPr>
          <a:xfrm>
            <a:off x="4800600" y="0"/>
            <a:ext cx="434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21569" t="16352" r="42895" b="20695"/>
          <a:stretch/>
        </p:blipFill>
        <p:spPr>
          <a:xfrm>
            <a:off x="1828800" y="0"/>
            <a:ext cx="5143680" cy="66294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781" t="16352" r="42895" b="18521"/>
          <a:stretch/>
        </p:blipFill>
        <p:spPr>
          <a:xfrm>
            <a:off x="175248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45662" r="42895" b="17439"/>
          <a:stretch/>
        </p:blipFill>
        <p:spPr>
          <a:xfrm>
            <a:off x="380880" y="331920"/>
            <a:ext cx="8534520" cy="63068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0781" t="17439" r="40525" b="5497"/>
          <a:stretch/>
        </p:blipFill>
        <p:spPr>
          <a:xfrm>
            <a:off x="1752480" y="0"/>
            <a:ext cx="47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19990" t="22864" r="41317" b="20695"/>
          <a:stretch/>
        </p:blipFill>
        <p:spPr>
          <a:xfrm>
            <a:off x="1676520" y="0"/>
            <a:ext cx="64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22360" t="21777" r="58691" b="4410"/>
          <a:stretch/>
        </p:blipFill>
        <p:spPr>
          <a:xfrm>
            <a:off x="0" y="0"/>
            <a:ext cx="1828800" cy="6324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rcRect l="21569" t="21777" r="58687" b="4410"/>
          <a:stretch/>
        </p:blipFill>
        <p:spPr>
          <a:xfrm>
            <a:off x="1828800" y="0"/>
            <a:ext cx="1905120" cy="632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rcRect l="22360" t="21777" r="58687" b="4410"/>
          <a:stretch/>
        </p:blipFill>
        <p:spPr>
          <a:xfrm>
            <a:off x="3657600" y="0"/>
            <a:ext cx="1828800" cy="632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4"/>
          <a:srcRect l="21569" t="16352" r="42895" b="12009"/>
          <a:stretch/>
        </p:blipFill>
        <p:spPr>
          <a:xfrm>
            <a:off x="5254560" y="0"/>
            <a:ext cx="3889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19199" t="17439" r="42895" b="21777"/>
          <a:stretch/>
        </p:blipFill>
        <p:spPr>
          <a:xfrm>
            <a:off x="1600200" y="152280"/>
            <a:ext cx="5746680" cy="6705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21569" t="17439" r="38943" b="5497"/>
          <a:stretch/>
        </p:blipFill>
        <p:spPr>
          <a:xfrm>
            <a:off x="1828800" y="0"/>
            <a:ext cx="48290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20781" t="18521" r="42895" b="20695"/>
          <a:stretch/>
        </p:blipFill>
        <p:spPr>
          <a:xfrm>
            <a:off x="1752480" y="0"/>
            <a:ext cx="56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20781" t="17439" r="42895" b="21777"/>
          <a:stretch/>
        </p:blipFill>
        <p:spPr>
          <a:xfrm>
            <a:off x="228600" y="0"/>
            <a:ext cx="56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19990" t="17439" r="42104" b="16352"/>
          <a:stretch/>
        </p:blipFill>
        <p:spPr>
          <a:xfrm>
            <a:off x="1676520" y="0"/>
            <a:ext cx="539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20781" t="18521" r="42104" b="13096"/>
          <a:stretch/>
        </p:blipFill>
        <p:spPr>
          <a:xfrm>
            <a:off x="1752480" y="0"/>
            <a:ext cx="511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20781" t="43488" r="42104" b="17434"/>
          <a:stretch/>
        </p:blipFill>
        <p:spPr>
          <a:xfrm>
            <a:off x="1143000" y="228600"/>
            <a:ext cx="7391520" cy="5661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20781" t="42401" r="42104" b="17439"/>
          <a:stretch/>
        </p:blipFill>
        <p:spPr>
          <a:xfrm>
            <a:off x="457200" y="136440"/>
            <a:ext cx="8381880" cy="6597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4198" t="17439" r="38943" b="5497"/>
          <a:stretch/>
        </p:blipFill>
        <p:spPr>
          <a:xfrm>
            <a:off x="152280" y="15840"/>
            <a:ext cx="6629400" cy="6537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3"/>
          <p:cNvSpPr/>
          <p:nvPr/>
        </p:nvSpPr>
        <p:spPr>
          <a:xfrm>
            <a:off x="1676520" y="0"/>
            <a:ext cx="380880" cy="1447920"/>
          </a:xfrm>
          <a:prstGeom prst="downArrow">
            <a:avLst>
              <a:gd name="adj1" fmla="val 50000"/>
              <a:gd name="adj2" fmla="val 950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rcRect l="20781" t="25033" r="42895" b="28289"/>
          <a:stretch/>
        </p:blipFill>
        <p:spPr>
          <a:xfrm>
            <a:off x="0" y="0"/>
            <a:ext cx="5029200" cy="4702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rcRect l="20781" t="45662" r="53161" b="27207"/>
          <a:stretch/>
        </p:blipFill>
        <p:spPr>
          <a:xfrm>
            <a:off x="5562720" y="2057400"/>
            <a:ext cx="3352680" cy="2540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rcRect l="21569" t="46744" r="53952" b="28289"/>
          <a:stretch/>
        </p:blipFill>
        <p:spPr>
          <a:xfrm>
            <a:off x="2666880" y="4346640"/>
            <a:ext cx="3276720" cy="24303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5410080" y="228600"/>
            <a:ext cx="3505320" cy="13716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you can’t see the animations, I’ve put the counts under each pi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4343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9343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733920" y="6400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40080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m = beats per min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rcRect l="21569" t="38063" r="60269" b="20695"/>
          <a:stretch/>
        </p:blipFill>
        <p:spPr>
          <a:xfrm>
            <a:off x="838080" y="1905120"/>
            <a:ext cx="2675160" cy="4419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rcRect l="20781" t="19608" r="42895" b="15265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6"/>
          <p:cNvSpPr/>
          <p:nvPr/>
        </p:nvSpPr>
        <p:spPr>
          <a:xfrm>
            <a:off x="228600" y="0"/>
            <a:ext cx="2209680" cy="1600200"/>
          </a:xfrm>
          <a:prstGeom prst="wedgeRoundRectCallout">
            <a:avLst>
              <a:gd name="adj1" fmla="val 45472"/>
              <a:gd name="adj2" fmla="val 1691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e ventricles are smaller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19990" t="17439" r="42104" b="33720"/>
          <a:stretch/>
        </p:blipFill>
        <p:spPr>
          <a:xfrm>
            <a:off x="1371600" y="0"/>
            <a:ext cx="7086600" cy="6643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rcRect l="20781" t="35889" r="42895" b="13096"/>
          <a:stretch/>
        </p:blipFill>
        <p:spPr>
          <a:xfrm>
            <a:off x="1295280" y="0"/>
            <a:ext cx="67122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rcRect l="20781" t="16352" r="42104" b="4410"/>
          <a:stretch/>
        </p:blipFill>
        <p:spPr>
          <a:xfrm>
            <a:off x="1752480" y="0"/>
            <a:ext cx="4268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rcRect l="20781" t="32633" r="43686" b="20695"/>
          <a:stretch/>
        </p:blipFill>
        <p:spPr>
          <a:xfrm>
            <a:off x="1752480" y="98280"/>
            <a:ext cx="6934320" cy="662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rcRect l="20781" t="25033" r="42104" b="26120"/>
          <a:stretch/>
        </p:blipFill>
        <p:spPr>
          <a:xfrm>
            <a:off x="1523880" y="152280"/>
            <a:ext cx="685800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0781" t="25033" r="42895" b="30464"/>
          <a:stretch/>
        </p:blipFill>
        <p:spPr>
          <a:xfrm>
            <a:off x="990720" y="0"/>
            <a:ext cx="739116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20781" t="17439" r="42104" b="10922"/>
          <a:stretch/>
        </p:blipFill>
        <p:spPr>
          <a:xfrm>
            <a:off x="1371600" y="0"/>
            <a:ext cx="4721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20781" t="17439" r="42104" b="64450"/>
          <a:stretch/>
        </p:blipFill>
        <p:spPr>
          <a:xfrm>
            <a:off x="0" y="0"/>
            <a:ext cx="472140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rcRect l="20781" t="30464" r="60269" b="30464"/>
          <a:stretch/>
        </p:blipFill>
        <p:spPr>
          <a:xfrm>
            <a:off x="228600" y="1905120"/>
            <a:ext cx="3301920" cy="4952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rcRect l="21569" t="30464" r="60269" b="31551"/>
          <a:stretch/>
        </p:blipFill>
        <p:spPr>
          <a:xfrm>
            <a:off x="4419720" y="1981080"/>
            <a:ext cx="3055680" cy="46483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5486400" y="304920"/>
            <a:ext cx="3352680" cy="1600200"/>
          </a:xfrm>
          <a:custGeom>
            <a:avLst/>
            <a:gdLst>
              <a:gd name="textAreaLeft" fmla="*/ 0 w 3352680"/>
              <a:gd name="textAreaRight" fmla="*/ 3353040 w 335268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tient may w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is proced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39951" t="36771" r="43279" b="47313"/>
          <a:stretch/>
        </p:blipFill>
        <p:spPr>
          <a:xfrm>
            <a:off x="228600" y="457200"/>
            <a:ext cx="4267080" cy="2133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rcRect l="21569" t="29376" r="60269" b="30464"/>
          <a:stretch/>
        </p:blipFill>
        <p:spPr>
          <a:xfrm>
            <a:off x="4786200" y="304920"/>
            <a:ext cx="3884760" cy="6248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rcRect l="21569" t="30464" r="60269" b="30464"/>
          <a:stretch/>
        </p:blipFill>
        <p:spPr>
          <a:xfrm>
            <a:off x="4267080" y="228600"/>
            <a:ext cx="3748320" cy="586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rcRect l="39951" t="54497" r="42104" b="24100"/>
          <a:stretch/>
        </p:blipFill>
        <p:spPr>
          <a:xfrm>
            <a:off x="228600" y="2362320"/>
            <a:ext cx="3962520" cy="344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3"/>
          <a:srcRect l="21979" t="75085" r="42104" b="19752"/>
          <a:stretch/>
        </p:blipFill>
        <p:spPr>
          <a:xfrm>
            <a:off x="228600" y="5776920"/>
            <a:ext cx="8153280" cy="85248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5"/>
          <p:cNvSpPr/>
          <p:nvPr/>
        </p:nvSpPr>
        <p:spPr>
          <a:xfrm>
            <a:off x="8177040" y="685800"/>
            <a:ext cx="914400" cy="2362320"/>
          </a:xfrm>
          <a:prstGeom prst="borderCallout1">
            <a:avLst>
              <a:gd name="adj1" fmla="val 18750"/>
              <a:gd name="adj2" fmla="val -8333"/>
              <a:gd name="adj3" fmla="val 109476"/>
              <a:gd name="adj4" fmla="val -677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apping sounds will get slower and slower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09:11Z</dcterms:created>
  <dc:creator>Rene McCormick</dc:creator>
  <dc:description/>
  <dc:language>en-US</dc:language>
  <cp:lastModifiedBy> René McCormick</cp:lastModifiedBy>
  <dcterms:modified xsi:type="dcterms:W3CDTF">2008-02-21T21:24:26Z</dcterms:modified>
  <cp:revision>4</cp:revision>
  <dc:subject/>
  <dc:title>PowerPoint Presentation</dc:title>
</cp:coreProperties>
</file>