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9397-C169-4F3F-AD48-6806C6ABF3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C994-9154-4393-9107-844DA340A3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C4A4-3155-48A2-97A8-045D32921B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94AA-B259-4902-8A5B-D4B4BE1A49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0B53-E34E-4483-AF4E-1AD37CA1BC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2AEF-3955-4C31-9494-092CFA5581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7F17-3F43-43BB-98CA-EE7AE31319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E85A-9962-4AD5-A5FF-11CA885F35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6D97-3A44-46C3-8A5B-F7C93B8D85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D565-ABF3-4A65-A3FF-FF64ACE2AE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18BD-73DE-433B-999F-43E5836129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B9C4-9B9A-4B9E-AC07-349B67C423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F5DD-FE2E-44BD-8445-F11BE67F64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938A-4091-40E9-ACFC-D2C026036C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F4DE-C87F-4C4A-A085-D569812761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AF20-04A5-49D1-90E9-87595D6504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F411-57DC-4D29-BF53-FF2E3B905D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A5E6-7749-412A-917C-54BD982E34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F03B-715E-4822-BA49-B249A6593F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76A3-A3B1-4AB1-9605-22339F4360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DC9E-BCA3-455A-808C-9E5425065B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60E3-0920-4850-9CFF-3E0B6E2673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E034-106B-4239-AD19-D6D74F9164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0C2D-FF00-41C3-8175-4E35686347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ABDE-EB29-46ED-8553-D1A67D9F99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4266-94C0-496A-B1E2-98C9998365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8F4A-3818-43BE-B203-17FE0C1033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011B-C4BE-4448-9062-BBAB212882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FED8-FDD9-43A0-B992-1A0A9D878F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C229-A9EF-4D39-89BB-FD1001ED73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ED3B-89F1-4FDA-9BC3-D76255596F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E900-BC54-40AF-9DC0-96BD2E0596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D89B-2EBA-444A-B3E1-C0A2AE6E2D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8E61-62D6-4F25-BBFA-347397AD2D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581B-442B-4703-8105-C6532FEE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D4FB-D828-45BE-BC9E-3CA719BA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EFEF-917D-46DD-A289-1A177894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F3CE-E218-4AE5-8615-002D09F0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7866-0B38-4E09-8DFC-6420D131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02B7-049F-4071-9A01-18CDA241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4197-203B-4F69-BDF4-9BED99B8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56AF-2222-4DEA-A5F6-5D62516D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8C2A-EFA0-4451-8B69-E6311748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A02D-7E07-4583-BBC6-993B0449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294E-1481-4754-84BF-FEBF3091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221D-2634-40BB-9808-CA5FAA16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C92F-5257-4634-8DE8-1504ACC21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9990" t="23951" r="39734" b="4410"/>
          <a:stretch/>
        </p:blipFill>
        <p:spPr>
          <a:xfrm>
            <a:off x="1600200" y="0"/>
            <a:ext cx="553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rcRect l="20781" t="82494" r="42104" b="10922"/>
          <a:stretch/>
        </p:blipFill>
        <p:spPr>
          <a:xfrm>
            <a:off x="228600" y="5638680"/>
            <a:ext cx="8610480" cy="1006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rcRect l="21569" t="29376" r="60221" b="31545"/>
          <a:stretch/>
        </p:blipFill>
        <p:spPr>
          <a:xfrm>
            <a:off x="4191120" y="0"/>
            <a:ext cx="3660480" cy="5715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4"/>
          <p:cNvSpPr/>
          <p:nvPr/>
        </p:nvSpPr>
        <p:spPr>
          <a:xfrm>
            <a:off x="228600" y="457200"/>
            <a:ext cx="3429000" cy="3733920"/>
          </a:xfrm>
          <a:prstGeom prst="cloudCallout">
            <a:avLst>
              <a:gd name="adj1" fmla="val 104861"/>
              <a:gd name="adj2" fmla="val -524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n’t be surprised if your device has a circular dial with a needle rather than this old-fashioned wall-mounted type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[That’s right, it’s not usually mounted on the patient’s chest!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20781" t="22864" r="41317" b="52061"/>
          <a:stretch/>
        </p:blipFill>
        <p:spPr>
          <a:xfrm>
            <a:off x="0" y="0"/>
            <a:ext cx="899172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20781" t="48780" r="41317" b="4410"/>
          <a:stretch/>
        </p:blipFill>
        <p:spPr>
          <a:xfrm>
            <a:off x="0" y="-11160"/>
            <a:ext cx="7391520" cy="664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1569" t="25033" r="42895" b="33720"/>
          <a:stretch/>
        </p:blipFill>
        <p:spPr>
          <a:xfrm>
            <a:off x="380880" y="0"/>
            <a:ext cx="77724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20781" t="16352" r="41317" b="16352"/>
          <a:stretch/>
        </p:blipFill>
        <p:spPr>
          <a:xfrm>
            <a:off x="0" y="0"/>
            <a:ext cx="5132520" cy="6629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rcRect l="21569" t="16352" r="42895" b="6584"/>
          <a:stretch/>
        </p:blipFill>
        <p:spPr>
          <a:xfrm>
            <a:off x="4800600" y="0"/>
            <a:ext cx="434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21569" t="16352" r="42895" b="20695"/>
          <a:stretch/>
        </p:blipFill>
        <p:spPr>
          <a:xfrm>
            <a:off x="1828800" y="0"/>
            <a:ext cx="5143680" cy="66294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20781" t="16352" r="42895" b="18521"/>
          <a:stretch/>
        </p:blipFill>
        <p:spPr>
          <a:xfrm>
            <a:off x="175248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rcRect l="20781" t="45662" r="42895" b="17439"/>
          <a:stretch/>
        </p:blipFill>
        <p:spPr>
          <a:xfrm>
            <a:off x="380880" y="331920"/>
            <a:ext cx="8534520" cy="63068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20781" t="17439" r="40525" b="5497"/>
          <a:stretch/>
        </p:blipFill>
        <p:spPr>
          <a:xfrm>
            <a:off x="1752480" y="0"/>
            <a:ext cx="473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19990" t="22864" r="41317" b="20695"/>
          <a:stretch/>
        </p:blipFill>
        <p:spPr>
          <a:xfrm>
            <a:off x="1676520" y="0"/>
            <a:ext cx="64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22360" t="21777" r="58691" b="4410"/>
          <a:stretch/>
        </p:blipFill>
        <p:spPr>
          <a:xfrm>
            <a:off x="0" y="0"/>
            <a:ext cx="1828800" cy="6324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rcRect l="21569" t="21777" r="58687" b="4410"/>
          <a:stretch/>
        </p:blipFill>
        <p:spPr>
          <a:xfrm>
            <a:off x="1828800" y="0"/>
            <a:ext cx="1905120" cy="6324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rcRect l="22360" t="21777" r="58687" b="4410"/>
          <a:stretch/>
        </p:blipFill>
        <p:spPr>
          <a:xfrm>
            <a:off x="3657600" y="0"/>
            <a:ext cx="1828800" cy="6324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4"/>
          <a:srcRect l="21569" t="16352" r="42895" b="12009"/>
          <a:stretch/>
        </p:blipFill>
        <p:spPr>
          <a:xfrm>
            <a:off x="5254560" y="0"/>
            <a:ext cx="3889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19199" t="17439" r="42895" b="21777"/>
          <a:stretch/>
        </p:blipFill>
        <p:spPr>
          <a:xfrm>
            <a:off x="1600200" y="152280"/>
            <a:ext cx="5746680" cy="6705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21569" t="17439" r="38943" b="5497"/>
          <a:stretch/>
        </p:blipFill>
        <p:spPr>
          <a:xfrm>
            <a:off x="1828800" y="0"/>
            <a:ext cx="482904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rcRect l="20781" t="18521" r="42895" b="20695"/>
          <a:stretch/>
        </p:blipFill>
        <p:spPr>
          <a:xfrm>
            <a:off x="1752480" y="0"/>
            <a:ext cx="563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20781" t="17439" r="42895" b="21777"/>
          <a:stretch/>
        </p:blipFill>
        <p:spPr>
          <a:xfrm>
            <a:off x="228600" y="0"/>
            <a:ext cx="563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19990" t="17439" r="42104" b="16352"/>
          <a:stretch/>
        </p:blipFill>
        <p:spPr>
          <a:xfrm>
            <a:off x="1676520" y="0"/>
            <a:ext cx="539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20781" t="18521" r="42104" b="13096"/>
          <a:stretch/>
        </p:blipFill>
        <p:spPr>
          <a:xfrm>
            <a:off x="1752480" y="0"/>
            <a:ext cx="511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rcRect l="20781" t="43488" r="42104" b="17434"/>
          <a:stretch/>
        </p:blipFill>
        <p:spPr>
          <a:xfrm>
            <a:off x="1143000" y="228600"/>
            <a:ext cx="7391520" cy="5661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20781" t="42401" r="42104" b="17439"/>
          <a:stretch/>
        </p:blipFill>
        <p:spPr>
          <a:xfrm>
            <a:off x="457200" y="136440"/>
            <a:ext cx="8381880" cy="6597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4198" t="17439" r="38943" b="5497"/>
          <a:stretch/>
        </p:blipFill>
        <p:spPr>
          <a:xfrm>
            <a:off x="152280" y="15840"/>
            <a:ext cx="6629400" cy="6537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3"/>
          <p:cNvSpPr/>
          <p:nvPr/>
        </p:nvSpPr>
        <p:spPr>
          <a:xfrm>
            <a:off x="1676520" y="0"/>
            <a:ext cx="380880" cy="1447920"/>
          </a:xfrm>
          <a:prstGeom prst="downArrow">
            <a:avLst>
              <a:gd name="adj1" fmla="val 50000"/>
              <a:gd name="adj2" fmla="val 950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rcRect l="20781" t="25033" r="42895" b="28289"/>
          <a:stretch/>
        </p:blipFill>
        <p:spPr>
          <a:xfrm>
            <a:off x="0" y="0"/>
            <a:ext cx="5029200" cy="4702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rcRect l="20781" t="45662" r="53161" b="27207"/>
          <a:stretch/>
        </p:blipFill>
        <p:spPr>
          <a:xfrm>
            <a:off x="5562720" y="2057400"/>
            <a:ext cx="3352680" cy="2540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rcRect l="21569" t="46744" r="53952" b="28289"/>
          <a:stretch/>
        </p:blipFill>
        <p:spPr>
          <a:xfrm>
            <a:off x="2666880" y="4346640"/>
            <a:ext cx="3276720" cy="243036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5"/>
          <p:cNvSpPr/>
          <p:nvPr/>
        </p:nvSpPr>
        <p:spPr>
          <a:xfrm>
            <a:off x="5410080" y="228600"/>
            <a:ext cx="3505320" cy="13716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you can’t see the animations, I’ve put the counts under each pi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4343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 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934320" y="419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6 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733920" y="6400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8 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400800" y="5029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pm = beats per min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rcRect l="21569" t="38063" r="60269" b="20695"/>
          <a:stretch/>
        </p:blipFill>
        <p:spPr>
          <a:xfrm>
            <a:off x="838080" y="1905120"/>
            <a:ext cx="2675160" cy="4419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rcRect l="20781" t="19608" r="42895" b="15265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6"/>
          <p:cNvSpPr/>
          <p:nvPr/>
        </p:nvSpPr>
        <p:spPr>
          <a:xfrm>
            <a:off x="228600" y="0"/>
            <a:ext cx="2209680" cy="1600200"/>
          </a:xfrm>
          <a:prstGeom prst="wedgeRoundRectCallout">
            <a:avLst>
              <a:gd name="adj1" fmla="val 45472"/>
              <a:gd name="adj2" fmla="val 16914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e ventricles are smaller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rcRect l="19990" t="17439" r="42104" b="33720"/>
          <a:stretch/>
        </p:blipFill>
        <p:spPr>
          <a:xfrm>
            <a:off x="1371600" y="0"/>
            <a:ext cx="7086600" cy="66438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rcRect l="20781" t="35889" r="42895" b="13096"/>
          <a:stretch/>
        </p:blipFill>
        <p:spPr>
          <a:xfrm>
            <a:off x="1295280" y="0"/>
            <a:ext cx="67122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rcRect l="20781" t="16352" r="42104" b="4410"/>
          <a:stretch/>
        </p:blipFill>
        <p:spPr>
          <a:xfrm>
            <a:off x="1752480" y="0"/>
            <a:ext cx="4268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rcRect l="20781" t="32633" r="43686" b="20695"/>
          <a:stretch/>
        </p:blipFill>
        <p:spPr>
          <a:xfrm>
            <a:off x="1752480" y="98280"/>
            <a:ext cx="6934320" cy="662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rcRect l="20781" t="25033" r="42104" b="26120"/>
          <a:stretch/>
        </p:blipFill>
        <p:spPr>
          <a:xfrm>
            <a:off x="1523880" y="152280"/>
            <a:ext cx="685800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20781" t="25033" r="42895" b="30464"/>
          <a:stretch/>
        </p:blipFill>
        <p:spPr>
          <a:xfrm>
            <a:off x="990720" y="0"/>
            <a:ext cx="739116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20781" t="17439" r="42104" b="10922"/>
          <a:stretch/>
        </p:blipFill>
        <p:spPr>
          <a:xfrm>
            <a:off x="1371600" y="0"/>
            <a:ext cx="4721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20781" t="17439" r="42104" b="64450"/>
          <a:stretch/>
        </p:blipFill>
        <p:spPr>
          <a:xfrm>
            <a:off x="0" y="0"/>
            <a:ext cx="4721400" cy="1676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rcRect l="20781" t="30464" r="60269" b="30464"/>
          <a:stretch/>
        </p:blipFill>
        <p:spPr>
          <a:xfrm>
            <a:off x="228600" y="1905120"/>
            <a:ext cx="3301920" cy="4952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rcRect l="21569" t="30464" r="60269" b="31551"/>
          <a:stretch/>
        </p:blipFill>
        <p:spPr>
          <a:xfrm>
            <a:off x="4419720" y="1981080"/>
            <a:ext cx="3055680" cy="46483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/>
          <p:cNvSpPr/>
          <p:nvPr/>
        </p:nvSpPr>
        <p:spPr>
          <a:xfrm>
            <a:off x="5486400" y="304920"/>
            <a:ext cx="3352680" cy="1600200"/>
          </a:xfrm>
          <a:custGeom>
            <a:avLst/>
            <a:gdLst>
              <a:gd name="textAreaLeft" fmla="*/ 0 w 3352680"/>
              <a:gd name="textAreaRight" fmla="*/ 3353040 w 3352680"/>
              <a:gd name="textAreaTop" fmla="*/ 207360 h 1600200"/>
              <a:gd name="textAreaBottom" fmla="*/ 1392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tient may w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is proced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39951" t="36771" r="43279" b="47313"/>
          <a:stretch/>
        </p:blipFill>
        <p:spPr>
          <a:xfrm>
            <a:off x="228600" y="457200"/>
            <a:ext cx="4267080" cy="2133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rcRect l="21569" t="29376" r="60269" b="30464"/>
          <a:stretch/>
        </p:blipFill>
        <p:spPr>
          <a:xfrm>
            <a:off x="4786200" y="304920"/>
            <a:ext cx="3884760" cy="6248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rcRect l="21569" t="30464" r="60269" b="30464"/>
          <a:stretch/>
        </p:blipFill>
        <p:spPr>
          <a:xfrm>
            <a:off x="4267080" y="228600"/>
            <a:ext cx="3748320" cy="586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rcRect l="39951" t="54497" r="42104" b="24100"/>
          <a:stretch/>
        </p:blipFill>
        <p:spPr>
          <a:xfrm>
            <a:off x="228600" y="2362320"/>
            <a:ext cx="3962520" cy="344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3"/>
          <a:srcRect l="21979" t="75085" r="42104" b="19752"/>
          <a:stretch/>
        </p:blipFill>
        <p:spPr>
          <a:xfrm>
            <a:off x="228600" y="5776920"/>
            <a:ext cx="8153280" cy="85248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5"/>
          <p:cNvSpPr/>
          <p:nvPr/>
        </p:nvSpPr>
        <p:spPr>
          <a:xfrm>
            <a:off x="8177040" y="685800"/>
            <a:ext cx="914400" cy="2362320"/>
          </a:xfrm>
          <a:prstGeom prst="borderCallout1">
            <a:avLst>
              <a:gd name="adj1" fmla="val 18750"/>
              <a:gd name="adj2" fmla="val -8333"/>
              <a:gd name="adj3" fmla="val 109476"/>
              <a:gd name="adj4" fmla="val -677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apping sounds will get slower and slower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09:11Z</dcterms:created>
  <dc:creator>Rene McCormick</dc:creator>
  <dc:description/>
  <dc:language>en-US</dc:language>
  <cp:lastModifiedBy> René McCormick</cp:lastModifiedBy>
  <dcterms:modified xsi:type="dcterms:W3CDTF">2008-02-21T21:24:26Z</dcterms:modified>
  <cp:revision>4</cp:revision>
  <dc:subject/>
  <dc:title>PowerPoint Presentation</dc:title>
</cp:coreProperties>
</file>