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85DC-B211-41A4-B6DE-65AD98F61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1E94-369A-4583-BA46-349B3DE0F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8631-1755-40BB-AC4F-4BB0A3F6E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6706-1FB2-41F4-9FFF-D23AB7924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FFFA-49DC-4CFD-B616-AC647D62D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4499-7071-42A3-BF92-4BE3C66FD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EE16-8BBA-4138-9F85-F2C34F7C6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E0B9-ECD3-4C3E-AF20-BB9BE9F91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42D-294F-4272-A44B-E72D52CD8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1FD-BF2E-4B41-867B-526040CD5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DBDF-6E1A-47FD-BFAB-F5BCB0F08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4091-F44E-4A6E-A641-2ADDC6B5C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14F-3725-41BC-ABD6-9D1D05846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BF41-A652-4D01-A26C-A2E1C29CA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1531-919C-4D16-9E63-7B4CD151E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7006-1719-40F0-89BD-A39B55A05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BDEF-FAA4-4D2C-89DD-1043A935C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FFC0-D922-4B58-8159-8D09683D8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00A9-D060-42BE-80ED-71509EC93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919-E4DC-49A2-B1B4-4AF1F951F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996-CB7D-4F53-A909-6F2E3D84D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F2D2-D5F1-47F1-A77B-6E17F4A82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FE0F-A0F6-4893-9026-5238F9D17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B60-0ECB-4C07-918B-4B271BE46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698-D28B-4B9E-8A5B-2031D6038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3D75-DDF8-4FAF-AC62-23A2AADE3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274D-B316-4C18-BCBE-E7F42DD48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1F4-E4E6-4D95-A174-69CA43C00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463-AA63-46A4-AFEF-3C0F01D79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2A9-F463-4966-9CDE-A36A1C7A1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C71E-7EE4-44FE-A78E-9C1FBEB54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143E-6F94-43B7-9C60-1A30FA5B2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0EA8-81AB-4E42-B8B6-79497D71F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C3A-0661-4199-9B5C-AE57D2CC2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ED2-3B71-4B76-B087-4FAFE7374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280-1147-4948-94B4-628E049D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B60-0532-4E99-8E33-AED16F53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D36-E00D-46B8-B23D-263C2606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6F8-C6C0-43E7-A2E5-30AEE0EA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6A2-EE35-4716-BD0B-1F5B8EF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AEE-B10B-4BC7-ABF6-2DBC5AF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5D3-FD3A-4648-96D2-17D27DD6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E80-32DA-46CB-BA42-58AC72F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6A2-059B-4CE5-A706-D65980E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0F9-C2DB-487F-BDA5-7FC060A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3A5-9D31-4D1C-A22B-C161BDF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02C-FBEB-47AD-9481-CB8F363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B42-D9F8-4A18-9930-02194E0A4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324" t="25033" r="38202" b="15265"/>
          <a:stretch/>
        </p:blipFill>
        <p:spPr>
          <a:xfrm>
            <a:off x="1600200" y="16765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9324" t="22864" r="36630" b="12009"/>
          <a:stretch/>
        </p:blipFill>
        <p:spPr>
          <a:xfrm>
            <a:off x="1523880" y="0"/>
            <a:ext cx="6045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29376" r="42104" b="31110"/>
          <a:stretch/>
        </p:blipFill>
        <p:spPr>
          <a:xfrm>
            <a:off x="0" y="61920"/>
            <a:ext cx="77724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620120" y="2133720"/>
            <a:ext cx="1523880" cy="1828800"/>
          </a:xfrm>
          <a:prstGeom prst="wedgeRoundRectCallout">
            <a:avLst>
              <a:gd name="adj1" fmla="val -167500"/>
              <a:gd name="adj2" fmla="val 47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 the sensitive weeds died, only the naturally resistant re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199" t="20695" r="38156" b="7666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9199" t="18521" r="38156" b="6584"/>
          <a:stretch/>
        </p:blipFill>
        <p:spPr>
          <a:xfrm>
            <a:off x="160020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19199" t="17439" r="40525" b="44575"/>
          <a:stretch/>
        </p:blipFill>
        <p:spPr>
          <a:xfrm>
            <a:off x="0" y="228600"/>
            <a:ext cx="8915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0781" t="30464" r="42104" b="17439"/>
          <a:stretch/>
        </p:blipFill>
        <p:spPr>
          <a:xfrm>
            <a:off x="175248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28600" y="1219320"/>
            <a:ext cx="1219320" cy="685800"/>
          </a:xfrm>
          <a:prstGeom prst="wedgeRectCallout">
            <a:avLst>
              <a:gd name="adj1" fmla="val 90106"/>
              <a:gd name="adj2" fmla="val 2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80880" y="4952880"/>
            <a:ext cx="1067040" cy="609840"/>
          </a:xfrm>
          <a:prstGeom prst="wedgeRectCallout">
            <a:avLst>
              <a:gd name="adj1" fmla="val 100745"/>
              <a:gd name="adj2" fmla="val -19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28600" y="2666880"/>
            <a:ext cx="1143000" cy="1752840"/>
          </a:xfrm>
          <a:prstGeom prst="wedgeRectCallout">
            <a:avLst>
              <a:gd name="adj1" fmla="val 98055"/>
              <a:gd name="adj2" fmla="val -1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nett square—2 “boxes” would have Aa, 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Aa = 2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23-03a-HardyWeinberg-L"/>
          <p:cNvPicPr/>
          <p:nvPr/>
        </p:nvPicPr>
        <p:blipFill>
          <a:blip r:embed="rId1"/>
          <a:stretch/>
        </p:blipFill>
        <p:spPr>
          <a:xfrm>
            <a:off x="1143000" y="304920"/>
            <a:ext cx="71629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23-03b-HardyWeinberg-L"/>
          <p:cNvPicPr/>
          <p:nvPr/>
        </p:nvPicPr>
        <p:blipFill>
          <a:blip r:embed="rId1"/>
          <a:stretch/>
        </p:blipFill>
        <p:spPr>
          <a:xfrm>
            <a:off x="838080" y="96840"/>
            <a:ext cx="754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9990" t="20695" r="38156" b="5497"/>
          <a:stretch/>
        </p:blipFill>
        <p:spPr>
          <a:xfrm>
            <a:off x="1676520" y="0"/>
            <a:ext cx="51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16352" r="42895" b="13096"/>
          <a:stretch/>
        </p:blipFill>
        <p:spPr>
          <a:xfrm>
            <a:off x="182880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9199" t="16352" r="39734" b="4410"/>
          <a:stretch/>
        </p:blipFill>
        <p:spPr>
          <a:xfrm>
            <a:off x="1600200" y="0"/>
            <a:ext cx="4722840" cy="662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109" t="23951" r="42923" b="25033"/>
          <a:stretch/>
        </p:blipFill>
        <p:spPr>
          <a:xfrm>
            <a:off x="160020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1569" t="17439" r="42895" b="16352"/>
          <a:stretch/>
        </p:blipFill>
        <p:spPr>
          <a:xfrm>
            <a:off x="182880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781" t="23951" r="42895" b="5497"/>
          <a:stretch/>
        </p:blipFill>
        <p:spPr>
          <a:xfrm>
            <a:off x="175248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9608" r="42104" b="5497"/>
          <a:stretch/>
        </p:blipFill>
        <p:spPr>
          <a:xfrm>
            <a:off x="1752480" y="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2104" b="20695"/>
          <a:stretch/>
        </p:blipFill>
        <p:spPr>
          <a:xfrm>
            <a:off x="175248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9608" r="42895" b="4410"/>
          <a:stretch/>
        </p:blipFill>
        <p:spPr>
          <a:xfrm>
            <a:off x="17524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0423" t="25033" r="41876" b="33720"/>
          <a:stretch/>
        </p:blipFill>
        <p:spPr>
          <a:xfrm>
            <a:off x="0" y="349200"/>
            <a:ext cx="7924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0781" t="23951" r="42895" b="23951"/>
          <a:stretch/>
        </p:blipFill>
        <p:spPr>
          <a:xfrm>
            <a:off x="1752480" y="0"/>
            <a:ext cx="6572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18521" r="41317" b="5497"/>
          <a:stretch/>
        </p:blipFill>
        <p:spPr>
          <a:xfrm>
            <a:off x="1676520" y="1219320"/>
            <a:ext cx="3733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9990" t="18521" r="42104" b="7666"/>
          <a:stretch/>
        </p:blipFill>
        <p:spPr>
          <a:xfrm>
            <a:off x="16765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1569" t="23951" r="42895" b="44575"/>
          <a:stretch/>
        </p:blipFill>
        <p:spPr>
          <a:xfrm>
            <a:off x="228600" y="380880"/>
            <a:ext cx="89154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19990" t="23951" r="40525" b="9840"/>
          <a:stretch/>
        </p:blipFill>
        <p:spPr>
          <a:xfrm>
            <a:off x="167652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198" t="16352" r="42104" b="12153"/>
          <a:stretch/>
        </p:blipFill>
        <p:spPr>
          <a:xfrm>
            <a:off x="1143000" y="0"/>
            <a:ext cx="76201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6352" r="42895" b="3323"/>
          <a:stretch/>
        </p:blipFill>
        <p:spPr>
          <a:xfrm>
            <a:off x="1752480" y="0"/>
            <a:ext cx="41688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1569" t="17952" r="41317" b="31120"/>
          <a:stretch/>
        </p:blipFill>
        <p:spPr>
          <a:xfrm>
            <a:off x="1676520" y="380880"/>
            <a:ext cx="6257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9990" t="18521" r="42104" b="8753"/>
          <a:stretch/>
        </p:blipFill>
        <p:spPr>
          <a:xfrm>
            <a:off x="167652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9990" t="18521" r="42895" b="16352"/>
          <a:stretch/>
        </p:blipFill>
        <p:spPr>
          <a:xfrm>
            <a:off x="1676520" y="0"/>
            <a:ext cx="5194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603" t="37418" r="6603" b="27160"/>
          <a:stretch/>
        </p:blipFill>
        <p:spPr>
          <a:xfrm>
            <a:off x="609480" y="1752480"/>
            <a:ext cx="8229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9199" t="17439" r="40525" b="18521"/>
          <a:stretch/>
        </p:blipFill>
        <p:spPr>
          <a:xfrm>
            <a:off x="1447920" y="0"/>
            <a:ext cx="579600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2057400"/>
            <a:ext cx="1524240" cy="2133720"/>
          </a:xfrm>
          <a:prstGeom prst="wedgeRectCallout">
            <a:avLst>
              <a:gd name="adj1" fmla="val 117291"/>
              <a:gd name="adj2" fmla="val 40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the gametes are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9990" t="23951" r="40525" b="6584"/>
          <a:stretch/>
        </p:blipFill>
        <p:spPr>
          <a:xfrm>
            <a:off x="1378080" y="0"/>
            <a:ext cx="53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25033" r="41317" b="17439"/>
          <a:stretch/>
        </p:blipFill>
        <p:spPr>
          <a:xfrm>
            <a:off x="1752480" y="0"/>
            <a:ext cx="60724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095880" y="2971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9990" t="25033" r="42104" b="7666"/>
          <a:stretch/>
        </p:blipFill>
        <p:spPr>
          <a:xfrm>
            <a:off x="167652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1569" t="29376" r="42104" b="27207"/>
          <a:stretch/>
        </p:blipFill>
        <p:spPr>
          <a:xfrm>
            <a:off x="914400" y="298440"/>
            <a:ext cx="7543800" cy="655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2:46Z</dcterms:modified>
  <cp:revision>9</cp:revision>
  <dc:subject/>
  <dc:title>PowerPoint Presentation</dc:title>
</cp:coreProperties>
</file>