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38CF-0D9F-410E-8F14-F60E8FB2AC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7ADD-B76D-4B39-A5E7-143515B91D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4B7D-3FCE-4437-96BD-C65081EB20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63D6-B99A-4A8A-ADB7-43F1FFDD9B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C7C5-1FF1-4A5D-AA3A-B26E3CAF9D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76D6-A1BD-4896-BA82-5DEB9425A8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A4CF-CA8D-49FF-9D6D-5A55AB9B62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E016-5688-4F75-A3D8-1D3E6C27DE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4282-FBE1-4288-BD6C-8B2D5257AC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9735-C704-44EB-8098-2A8E1C3A32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525D-D848-4478-89E6-2684AE2AF2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E691-AA99-4B6A-BE35-CF915DAB7E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9708-CD1D-4E2D-8304-400EF3669F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6E84-69E8-4A2E-81E7-0959E52221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AD92-DB8E-4ECB-8D5D-FD6C5A0D8B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E9BF-96D7-480E-8F29-D1F5925FFA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DB4A-7788-4B5E-8AB2-1AE031B938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F292-8344-4BEC-BD10-82DC50A3AF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0A0E-BDC7-47B1-BD10-F063561455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A8D7-4777-40C1-BE3C-AD8397F6B0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A3C0-8B60-4A66-AC9F-E60B473B14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2BA1-BFE5-4214-B9DB-442B088498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6FF6-1003-4F14-981A-A19143E263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095D-D8EA-4613-9ED5-B37A7CC248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E7DF-2C84-460A-B516-5E558D5914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B998-E4DE-4958-A41D-A062548C5F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0FAB-9A75-4C91-A489-5B02C5318D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7AC3-511D-4DD2-B2BA-AC81F4144E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3ADD-3DD6-4BDF-863E-F62EE5BFAB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37FE-FDB3-421F-8D1D-E113373374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3D3D-705D-4130-8130-0B0BDA8E09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46C3-CEB9-46F4-A790-B68A4CF382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86A1-15EF-4249-9BA8-5A069FE15B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38CB-7460-47F4-ADCB-7A6FA3B6E3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3FEB-13D2-4F28-A8B6-9D16B21651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76A5-2D56-4528-9679-CF37679F5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025A-3584-4FF8-8A08-1321BC4A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E4F0-D6CB-4B0F-8DA6-34D057EE9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6812-098F-4684-ACFE-DE9418C9A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4FA8-0568-4C67-AE9E-89E67E58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1181-F830-4EDC-9270-E0E31C26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0B40-BCA6-4071-A859-40C1A7A0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61CC-B611-477D-B8BF-C274415B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0D27-71C5-472D-92E4-93DC679F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1D8B-0E41-4784-A0DA-2D9B9598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4F48-E260-46D9-B4FB-258EC9DB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7C48-65D1-466F-9DB7-8A30169E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2C15-C1A1-41AB-A5A4-FCBDCC8F8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19324" t="25033" r="38202" b="15265"/>
          <a:stretch/>
        </p:blipFill>
        <p:spPr>
          <a:xfrm>
            <a:off x="1600200" y="1676520"/>
            <a:ext cx="4114800" cy="4190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rcRect l="19324" t="22864" r="36630" b="12009"/>
          <a:stretch/>
        </p:blipFill>
        <p:spPr>
          <a:xfrm>
            <a:off x="1523880" y="0"/>
            <a:ext cx="60454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rcRect l="20781" t="29376" r="42104" b="31110"/>
          <a:stretch/>
        </p:blipFill>
        <p:spPr>
          <a:xfrm>
            <a:off x="0" y="61920"/>
            <a:ext cx="7772400" cy="601992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3"/>
          <p:cNvSpPr/>
          <p:nvPr/>
        </p:nvSpPr>
        <p:spPr>
          <a:xfrm>
            <a:off x="7620120" y="2133720"/>
            <a:ext cx="1523880" cy="1828800"/>
          </a:xfrm>
          <a:prstGeom prst="wedgeRoundRectCallout">
            <a:avLst>
              <a:gd name="adj1" fmla="val -167500"/>
              <a:gd name="adj2" fmla="val 47134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ice the sensitive weeds died, only the naturally resistant remai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19199" t="20695" r="38156" b="7666"/>
          <a:stretch/>
        </p:blipFill>
        <p:spPr>
          <a:xfrm>
            <a:off x="1600200" y="0"/>
            <a:ext cx="561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rcRect l="19199" t="18521" r="38156" b="6584"/>
          <a:stretch/>
        </p:blipFill>
        <p:spPr>
          <a:xfrm>
            <a:off x="1600200" y="0"/>
            <a:ext cx="536724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rcRect l="19199" t="17439" r="40525" b="44575"/>
          <a:stretch/>
        </p:blipFill>
        <p:spPr>
          <a:xfrm>
            <a:off x="0" y="228600"/>
            <a:ext cx="89154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rcRect l="20781" t="30464" r="42104" b="17439"/>
          <a:stretch/>
        </p:blipFill>
        <p:spPr>
          <a:xfrm>
            <a:off x="1752480" y="0"/>
            <a:ext cx="671508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4"/>
          <p:cNvSpPr/>
          <p:nvPr/>
        </p:nvSpPr>
        <p:spPr>
          <a:xfrm>
            <a:off x="228600" y="1219320"/>
            <a:ext cx="1219320" cy="685800"/>
          </a:xfrm>
          <a:prstGeom prst="wedgeRectCallout">
            <a:avLst>
              <a:gd name="adj1" fmla="val 90106"/>
              <a:gd name="adj2" fmla="val 237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k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 = AA = p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380880" y="4952880"/>
            <a:ext cx="1067040" cy="609840"/>
          </a:xfrm>
          <a:prstGeom prst="wedgeRectCallout">
            <a:avLst>
              <a:gd name="adj1" fmla="val 100745"/>
              <a:gd name="adj2" fmla="val -19791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k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q = aa = p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228600" y="2666880"/>
            <a:ext cx="1143000" cy="1752840"/>
          </a:xfrm>
          <a:prstGeom prst="wedgeRectCallout">
            <a:avLst>
              <a:gd name="adj1" fmla="val 98055"/>
              <a:gd name="adj2" fmla="val -154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nk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nnett square—2 “boxes” would have Aa, 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Aa = 2p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" descr="23-03a-HardyWeinberg-L"/>
          <p:cNvPicPr/>
          <p:nvPr/>
        </p:nvPicPr>
        <p:blipFill>
          <a:blip r:embed="rId1"/>
          <a:stretch/>
        </p:blipFill>
        <p:spPr>
          <a:xfrm>
            <a:off x="1143000" y="304920"/>
            <a:ext cx="7162920" cy="63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23-03b-HardyWeinberg-L"/>
          <p:cNvPicPr/>
          <p:nvPr/>
        </p:nvPicPr>
        <p:blipFill>
          <a:blip r:embed="rId1"/>
          <a:stretch/>
        </p:blipFill>
        <p:spPr>
          <a:xfrm>
            <a:off x="838080" y="96840"/>
            <a:ext cx="75438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rcRect l="19990" t="20695" r="38156" b="5497"/>
          <a:stretch/>
        </p:blipFill>
        <p:spPr>
          <a:xfrm>
            <a:off x="1676520" y="0"/>
            <a:ext cx="51069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rcRect l="21569" t="16352" r="42895" b="13096"/>
          <a:stretch/>
        </p:blipFill>
        <p:spPr>
          <a:xfrm>
            <a:off x="1828800" y="0"/>
            <a:ext cx="4748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rcRect l="19199" t="16352" r="39734" b="4410"/>
          <a:stretch/>
        </p:blipFill>
        <p:spPr>
          <a:xfrm>
            <a:off x="1600200" y="0"/>
            <a:ext cx="4722840" cy="66294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rcRect l="20109" t="23951" r="42923" b="25033"/>
          <a:stretch/>
        </p:blipFill>
        <p:spPr>
          <a:xfrm>
            <a:off x="1600200" y="0"/>
            <a:ext cx="67057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rcRect l="21569" t="17439" r="42895" b="16352"/>
          <a:stretch/>
        </p:blipFill>
        <p:spPr>
          <a:xfrm>
            <a:off x="1828800" y="0"/>
            <a:ext cx="505944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rcRect l="20781" t="23951" r="42895" b="5497"/>
          <a:stretch/>
        </p:blipFill>
        <p:spPr>
          <a:xfrm>
            <a:off x="1752480" y="0"/>
            <a:ext cx="4853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rcRect l="20781" t="19608" r="42104" b="5497"/>
          <a:stretch/>
        </p:blipFill>
        <p:spPr>
          <a:xfrm>
            <a:off x="1752480" y="0"/>
            <a:ext cx="4464000" cy="6553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rcRect l="20781" t="25033" r="42104" b="20695"/>
          <a:stretch/>
        </p:blipFill>
        <p:spPr>
          <a:xfrm>
            <a:off x="1752480" y="0"/>
            <a:ext cx="644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rcRect l="20781" t="19608" r="42895" b="4410"/>
          <a:stretch/>
        </p:blipFill>
        <p:spPr>
          <a:xfrm>
            <a:off x="1752480" y="0"/>
            <a:ext cx="45072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rcRect l="20423" t="25033" r="41876" b="33720"/>
          <a:stretch/>
        </p:blipFill>
        <p:spPr>
          <a:xfrm>
            <a:off x="0" y="349200"/>
            <a:ext cx="7924680" cy="62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rcRect l="20781" t="23951" r="42895" b="23951"/>
          <a:stretch/>
        </p:blipFill>
        <p:spPr>
          <a:xfrm>
            <a:off x="1752480" y="0"/>
            <a:ext cx="657252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rcRect l="19990" t="18521" r="41317" b="5497"/>
          <a:stretch/>
        </p:blipFill>
        <p:spPr>
          <a:xfrm>
            <a:off x="1676520" y="1219320"/>
            <a:ext cx="37335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rcRect l="19990" t="18521" r="42104" b="7666"/>
          <a:stretch/>
        </p:blipFill>
        <p:spPr>
          <a:xfrm>
            <a:off x="1676520" y="0"/>
            <a:ext cx="48402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rcRect l="21569" t="23951" r="42895" b="44575"/>
          <a:stretch/>
        </p:blipFill>
        <p:spPr>
          <a:xfrm>
            <a:off x="228600" y="380880"/>
            <a:ext cx="891540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rcRect l="19990" t="23951" r="40525" b="9840"/>
          <a:stretch/>
        </p:blipFill>
        <p:spPr>
          <a:xfrm>
            <a:off x="1676520" y="0"/>
            <a:ext cx="5621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rcRect l="4198" t="16352" r="42104" b="12153"/>
          <a:stretch/>
        </p:blipFill>
        <p:spPr>
          <a:xfrm>
            <a:off x="1143000" y="0"/>
            <a:ext cx="7620120" cy="67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rcRect l="20781" t="16352" r="42895" b="3323"/>
          <a:stretch/>
        </p:blipFill>
        <p:spPr>
          <a:xfrm>
            <a:off x="1752480" y="0"/>
            <a:ext cx="4168800" cy="6705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rcRect l="21569" t="17952" r="41317" b="31120"/>
          <a:stretch/>
        </p:blipFill>
        <p:spPr>
          <a:xfrm>
            <a:off x="1676520" y="380880"/>
            <a:ext cx="6257880" cy="624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rcRect l="19990" t="18521" r="42104" b="8753"/>
          <a:stretch/>
        </p:blipFill>
        <p:spPr>
          <a:xfrm>
            <a:off x="1676520" y="0"/>
            <a:ext cx="491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rcRect l="19990" t="18521" r="42895" b="16352"/>
          <a:stretch/>
        </p:blipFill>
        <p:spPr>
          <a:xfrm>
            <a:off x="1676520" y="0"/>
            <a:ext cx="51940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rcRect l="6603" t="37418" r="6603" b="27160"/>
          <a:stretch/>
        </p:blipFill>
        <p:spPr>
          <a:xfrm>
            <a:off x="609480" y="1752480"/>
            <a:ext cx="822960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rcRect l="19199" t="17439" r="40525" b="18521"/>
          <a:stretch/>
        </p:blipFill>
        <p:spPr>
          <a:xfrm>
            <a:off x="1447920" y="0"/>
            <a:ext cx="5796000" cy="670572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3"/>
          <p:cNvSpPr/>
          <p:nvPr/>
        </p:nvSpPr>
        <p:spPr>
          <a:xfrm>
            <a:off x="152280" y="2057400"/>
            <a:ext cx="1524240" cy="2133720"/>
          </a:xfrm>
          <a:prstGeom prst="wedgeRectCallout">
            <a:avLst>
              <a:gd name="adj1" fmla="val 117291"/>
              <a:gd name="adj2" fmla="val 4084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where the gametes are relea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rcRect l="19990" t="23951" r="40525" b="6584"/>
          <a:stretch/>
        </p:blipFill>
        <p:spPr>
          <a:xfrm>
            <a:off x="1378080" y="0"/>
            <a:ext cx="535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rcRect l="20781" t="25033" r="41317" b="17439"/>
          <a:stretch/>
        </p:blipFill>
        <p:spPr>
          <a:xfrm>
            <a:off x="1752480" y="0"/>
            <a:ext cx="6072480" cy="670572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4"/>
          <p:cNvSpPr/>
          <p:nvPr/>
        </p:nvSpPr>
        <p:spPr>
          <a:xfrm>
            <a:off x="6095880" y="2971800"/>
            <a:ext cx="1143000" cy="457200"/>
          </a:xfrm>
          <a:prstGeom prst="leftArrow">
            <a:avLst>
              <a:gd name="adj1" fmla="val 50000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rcRect l="19990" t="25033" r="42104" b="7666"/>
          <a:stretch/>
        </p:blipFill>
        <p:spPr>
          <a:xfrm>
            <a:off x="1676520" y="0"/>
            <a:ext cx="531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rcRect l="21569" t="29376" r="42104" b="27207"/>
          <a:stretch/>
        </p:blipFill>
        <p:spPr>
          <a:xfrm>
            <a:off x="914400" y="298440"/>
            <a:ext cx="7543800" cy="6559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5T16:59:56Z</dcterms:created>
  <dc:creator>Rene McCormick</dc:creator>
  <dc:description/>
  <dc:language>en-US</dc:language>
  <cp:lastModifiedBy> René McCormick</cp:lastModifiedBy>
  <dcterms:modified xsi:type="dcterms:W3CDTF">2008-02-21T21:22:46Z</dcterms:modified>
  <cp:revision>9</cp:revision>
  <dc:subject/>
  <dc:title>PowerPoint Presentation</dc:title>
</cp:coreProperties>
</file>