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92F5-F695-4A9F-B3DC-99BDDDFBA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B803-4907-4885-BFEC-2CBA3BD695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5611-2ACF-4B06-ACEF-3A03E36E0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E265-8389-405B-8AA0-6B95FCA1D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ADAE-26AB-48A7-AD43-17532EC69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E651-345D-4D81-BCE9-08AC95BE4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4F9B-E0D7-474C-9924-4DE33299A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C24B-D207-4A06-BE6F-5156C7BE2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2588-0FE3-4F43-BA58-72FC86479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3D57-E5B6-436A-9AE8-3CF71A5B4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A1C7-D79F-47F0-8680-9124E3CF9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D7FD-EFEF-40E3-97EE-38E871998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5735-38E1-4EEB-81B3-B99EA6DB6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0F81-A961-44E5-899E-FB27E6F00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8AB1-CBE9-4DE7-82EC-AA54C0340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CAC2-F129-4836-8C4A-C49F13AF1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763D-F8E2-4CEB-B5A2-D68A351B9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F4A-7C2C-4160-8E63-F226DF9A42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8A4-487D-4C85-9CB0-DBDF7127F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C4BA-9F76-404A-97AA-3A4E7971B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8900-6BDD-401D-9E75-19F70C6B3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F491-EC63-4961-987E-6C8C033F7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BDED-50C2-438C-8B87-74BA8CCC1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D12F-9B14-4F92-942E-809EA8C11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86E1-7BED-47B5-91C4-D03B75249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A4F7-7D08-43AE-A957-C6A64C5FA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7FC8-883F-474E-A5D2-C77548689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82F5-DB60-4357-8902-86ABE490B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BED-6F69-4A51-9E1A-F94FAC455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7F4F-0D94-4DA9-AD76-DA708E364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BB1C-E807-44DD-911C-CEA2CE33B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3FCD-C063-42A0-8576-A055A5A27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8465-E6CF-4DC2-B711-97B78FFC8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B5EA-A209-4B35-A136-DF7E5315A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7330-BB23-42DD-B1CC-ED28186FE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407-69A8-40E6-BFFE-48C63E96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EA9-FD24-4198-AA59-F9BC6B24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FB8-B58C-49C7-896A-DD250BB5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090-B3D3-41CE-8B86-77B63534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AAB-EF5B-473A-99A6-374A3E93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CDC-65DE-4D34-AF46-B54E469E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DD7-1FB1-41D3-812C-0C474EC0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80E-CF6D-4F26-A4C9-ECDD7F03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DF6-0A64-4C0B-A8BF-D0910F47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79A-487E-4564-AB4A-27C9CAC0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220-4868-4B8C-95DB-B2850AFA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9AC-CFDF-44BE-B9E4-3851F0F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9D6-980C-48B5-92DC-54C32820D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324" t="25033" r="38202" b="15265"/>
          <a:stretch/>
        </p:blipFill>
        <p:spPr>
          <a:xfrm>
            <a:off x="1600200" y="1676520"/>
            <a:ext cx="4114800" cy="419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9324" t="22864" r="36630" b="12009"/>
          <a:stretch/>
        </p:blipFill>
        <p:spPr>
          <a:xfrm>
            <a:off x="1523880" y="0"/>
            <a:ext cx="6045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29376" r="42104" b="31110"/>
          <a:stretch/>
        </p:blipFill>
        <p:spPr>
          <a:xfrm>
            <a:off x="0" y="61920"/>
            <a:ext cx="77724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620120" y="2133720"/>
            <a:ext cx="1523880" cy="1828800"/>
          </a:xfrm>
          <a:prstGeom prst="wedgeRoundRectCallout">
            <a:avLst>
              <a:gd name="adj1" fmla="val -167500"/>
              <a:gd name="adj2" fmla="val 47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 the sensitive weeds died, only the naturally resistant re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199" t="20695" r="38156" b="7666"/>
          <a:stretch/>
        </p:blipFill>
        <p:spPr>
          <a:xfrm>
            <a:off x="160020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19199" t="18521" r="38156" b="6584"/>
          <a:stretch/>
        </p:blipFill>
        <p:spPr>
          <a:xfrm>
            <a:off x="160020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19199" t="17439" r="40525" b="44575"/>
          <a:stretch/>
        </p:blipFill>
        <p:spPr>
          <a:xfrm>
            <a:off x="0" y="228600"/>
            <a:ext cx="89154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20781" t="30464" r="42104" b="17439"/>
          <a:stretch/>
        </p:blipFill>
        <p:spPr>
          <a:xfrm>
            <a:off x="1752480" y="0"/>
            <a:ext cx="6715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228600" y="1219320"/>
            <a:ext cx="1219320" cy="685800"/>
          </a:xfrm>
          <a:prstGeom prst="wedgeRectCallout">
            <a:avLst>
              <a:gd name="adj1" fmla="val 90106"/>
              <a:gd name="adj2" fmla="val 2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380880" y="4952880"/>
            <a:ext cx="1067040" cy="609840"/>
          </a:xfrm>
          <a:prstGeom prst="wedgeRectCallout">
            <a:avLst>
              <a:gd name="adj1" fmla="val 100745"/>
              <a:gd name="adj2" fmla="val -197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q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228600" y="2666880"/>
            <a:ext cx="1143000" cy="1752840"/>
          </a:xfrm>
          <a:prstGeom prst="wedgeRectCallout">
            <a:avLst>
              <a:gd name="adj1" fmla="val 98055"/>
              <a:gd name="adj2" fmla="val -15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nett square—2 “boxes” would have Aa, 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Aa = 2p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23-03a-HardyWeinberg-L"/>
          <p:cNvPicPr/>
          <p:nvPr/>
        </p:nvPicPr>
        <p:blipFill>
          <a:blip r:embed="rId1"/>
          <a:stretch/>
        </p:blipFill>
        <p:spPr>
          <a:xfrm>
            <a:off x="1143000" y="304920"/>
            <a:ext cx="71629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23-03b-HardyWeinberg-L"/>
          <p:cNvPicPr/>
          <p:nvPr/>
        </p:nvPicPr>
        <p:blipFill>
          <a:blip r:embed="rId1"/>
          <a:stretch/>
        </p:blipFill>
        <p:spPr>
          <a:xfrm>
            <a:off x="838080" y="96840"/>
            <a:ext cx="7543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9990" t="20695" r="38156" b="5497"/>
          <a:stretch/>
        </p:blipFill>
        <p:spPr>
          <a:xfrm>
            <a:off x="1676520" y="0"/>
            <a:ext cx="5106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16352" r="42895" b="13096"/>
          <a:stretch/>
        </p:blipFill>
        <p:spPr>
          <a:xfrm>
            <a:off x="182880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19199" t="16352" r="39734" b="4410"/>
          <a:stretch/>
        </p:blipFill>
        <p:spPr>
          <a:xfrm>
            <a:off x="1600200" y="0"/>
            <a:ext cx="4722840" cy="662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109" t="23951" r="42923" b="25033"/>
          <a:stretch/>
        </p:blipFill>
        <p:spPr>
          <a:xfrm>
            <a:off x="160020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1569" t="17439" r="42895" b="16352"/>
          <a:stretch/>
        </p:blipFill>
        <p:spPr>
          <a:xfrm>
            <a:off x="1828800" y="0"/>
            <a:ext cx="50594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781" t="23951" r="42895" b="5497"/>
          <a:stretch/>
        </p:blipFill>
        <p:spPr>
          <a:xfrm>
            <a:off x="175248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9608" r="42104" b="5497"/>
          <a:stretch/>
        </p:blipFill>
        <p:spPr>
          <a:xfrm>
            <a:off x="1752480" y="0"/>
            <a:ext cx="4464000" cy="655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2104" b="20695"/>
          <a:stretch/>
        </p:blipFill>
        <p:spPr>
          <a:xfrm>
            <a:off x="1752480" y="0"/>
            <a:ext cx="64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9608" r="42895" b="4410"/>
          <a:stretch/>
        </p:blipFill>
        <p:spPr>
          <a:xfrm>
            <a:off x="1752480" y="0"/>
            <a:ext cx="4507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0423" t="25033" r="41876" b="33720"/>
          <a:stretch/>
        </p:blipFill>
        <p:spPr>
          <a:xfrm>
            <a:off x="0" y="349200"/>
            <a:ext cx="7924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0781" t="23951" r="42895" b="23951"/>
          <a:stretch/>
        </p:blipFill>
        <p:spPr>
          <a:xfrm>
            <a:off x="1752480" y="0"/>
            <a:ext cx="65725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18521" r="41317" b="5497"/>
          <a:stretch/>
        </p:blipFill>
        <p:spPr>
          <a:xfrm>
            <a:off x="1676520" y="1219320"/>
            <a:ext cx="3733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19990" t="18521" r="42104" b="7666"/>
          <a:stretch/>
        </p:blipFill>
        <p:spPr>
          <a:xfrm>
            <a:off x="167652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1569" t="23951" r="42895" b="44575"/>
          <a:stretch/>
        </p:blipFill>
        <p:spPr>
          <a:xfrm>
            <a:off x="228600" y="380880"/>
            <a:ext cx="89154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rcRect l="19990" t="23951" r="40525" b="9840"/>
          <a:stretch/>
        </p:blipFill>
        <p:spPr>
          <a:xfrm>
            <a:off x="1676520" y="0"/>
            <a:ext cx="562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198" t="16352" r="42104" b="12153"/>
          <a:stretch/>
        </p:blipFill>
        <p:spPr>
          <a:xfrm>
            <a:off x="1143000" y="0"/>
            <a:ext cx="76201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6352" r="42895" b="3323"/>
          <a:stretch/>
        </p:blipFill>
        <p:spPr>
          <a:xfrm>
            <a:off x="1752480" y="0"/>
            <a:ext cx="41688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1569" t="17952" r="41317" b="31120"/>
          <a:stretch/>
        </p:blipFill>
        <p:spPr>
          <a:xfrm>
            <a:off x="1676520" y="380880"/>
            <a:ext cx="62578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9990" t="18521" r="42104" b="8753"/>
          <a:stretch/>
        </p:blipFill>
        <p:spPr>
          <a:xfrm>
            <a:off x="1676520" y="0"/>
            <a:ext cx="49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19990" t="18521" r="42895" b="16352"/>
          <a:stretch/>
        </p:blipFill>
        <p:spPr>
          <a:xfrm>
            <a:off x="1676520" y="0"/>
            <a:ext cx="5194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6603" t="37418" r="6603" b="27160"/>
          <a:stretch/>
        </p:blipFill>
        <p:spPr>
          <a:xfrm>
            <a:off x="609480" y="1752480"/>
            <a:ext cx="82296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9199" t="17439" r="40525" b="18521"/>
          <a:stretch/>
        </p:blipFill>
        <p:spPr>
          <a:xfrm>
            <a:off x="1447920" y="0"/>
            <a:ext cx="5796000" cy="6705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152280" y="2057400"/>
            <a:ext cx="1524240" cy="2133720"/>
          </a:xfrm>
          <a:prstGeom prst="wedgeRectCallout">
            <a:avLst>
              <a:gd name="adj1" fmla="val 117291"/>
              <a:gd name="adj2" fmla="val 40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the gametes are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9990" t="23951" r="40525" b="6584"/>
          <a:stretch/>
        </p:blipFill>
        <p:spPr>
          <a:xfrm>
            <a:off x="1378080" y="0"/>
            <a:ext cx="53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25033" r="41317" b="17439"/>
          <a:stretch/>
        </p:blipFill>
        <p:spPr>
          <a:xfrm>
            <a:off x="1752480" y="0"/>
            <a:ext cx="607248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095880" y="29718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19990" t="25033" r="42104" b="7666"/>
          <a:stretch/>
        </p:blipFill>
        <p:spPr>
          <a:xfrm>
            <a:off x="1676520" y="0"/>
            <a:ext cx="531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1569" t="29376" r="42104" b="27207"/>
          <a:stretch/>
        </p:blipFill>
        <p:spPr>
          <a:xfrm>
            <a:off x="914400" y="298440"/>
            <a:ext cx="7543800" cy="655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2:46Z</dcterms:modified>
  <cp:revision>9</cp:revision>
  <dc:subject/>
  <dc:title>PowerPoint Presentation</dc:title>
</cp:coreProperties>
</file>