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A6AF-A484-4C71-A994-3D47BAF7C8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A301-7A93-487A-B05E-3C5DC8D668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6E25-3F0B-499C-B884-9B56FB6B17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E23E-5765-4FF9-BD28-AEC2534682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C5AC-5ECC-4166-BF07-378A73EEFA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FCD8-B7A6-4264-8BCB-3A384EB4C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C4AF-3350-44F8-9CA1-A65D43FC37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FCAC-B25D-4104-A277-715487B374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8EBB-0E48-4598-B768-4B4548339E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4DF5-AFEC-4B02-819A-E4C8C03D1B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9775-0BC5-49AA-85FB-D37F9CC3EC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9F31-D207-4801-9DC8-A07F7D3574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B535-83E8-49E0-A63B-762EC027AE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E623-041A-486F-9594-B0CBA6827B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42B6-AD1B-472D-9CC3-2AC0C9FED3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96C5-DB83-4976-9926-3BB19A4F56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29C6-0F2C-46F2-ACD4-1815F03C84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AE39-6722-489B-8F67-1074F00A39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0044-7E28-44A1-9E7C-2101A48B64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9E0B-0DFB-46D9-B4C4-A637B18316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B5D7-4708-45F9-9076-848FAF5876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C607-51C1-451D-9CCF-775E7986E2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D95E-E368-4D67-90D7-551EC6D5C0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FB66-ABD8-4C07-BB53-A0068DFB00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934D-645F-4F7E-A2BA-78F5F36823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7C04-16B6-42DB-8F63-7F2F4144AD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76CB-0859-4DE6-BC9F-CCE9532A07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C456-58DD-4E0E-A78C-E2B10894D8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04DE-70C5-4257-B214-A8D472A835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F360-2C9F-4CA6-96CB-B333B4CDCA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629D-C2FA-497B-86EB-676554090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0388-A036-4759-9844-3A53337E0C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2EF8-E19C-4FB4-B6B9-C00B6FE01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0470-17FB-4856-BF1D-976CB8C9B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55BD-45F3-43E2-8129-53706E8079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1D37-AEB9-4C95-80C5-C71AC4AB5A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84EE-53D8-43A4-A527-2D0E3E329B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C43C-EF82-4462-9DBF-C19E0E0AF6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6691-D98B-408A-A04B-9A9EFBF947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C429-B7EC-4EDB-981F-0D89F903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FC6-1247-4EA1-A23F-75C71D61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5DF-1455-499C-A009-9289795B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B77-BEE0-40B3-87C8-3108CD96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10D-86DE-4004-9268-AC1F639F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4F9-D950-41E7-8246-66E4EFB5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9D4E-3A7A-4064-B563-EEEE644E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6D95-C2DA-4ED6-B2BE-45B75A89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0B73-DA38-4D7C-ADA1-BCB7D4A8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5386-EC9D-479C-A711-C0329E4E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8F4-C59B-4F3E-9010-342AE034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3FDA-A0D7-4022-9EEB-7279E771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A6C3-7D67-4ED1-B2F5-AF0AA2EE9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20696" t="44626" r="48034" b="5675"/>
          <a:stretch/>
        </p:blipFill>
        <p:spPr>
          <a:xfrm>
            <a:off x="4968720" y="0"/>
            <a:ext cx="4175280" cy="617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18656" t="16490" r="42951" b="55977"/>
          <a:stretch/>
        </p:blipFill>
        <p:spPr>
          <a:xfrm>
            <a:off x="0" y="0"/>
            <a:ext cx="510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19441" t="30543" r="39815" b="17567"/>
          <a:stretch/>
        </p:blipFill>
        <p:spPr>
          <a:xfrm>
            <a:off x="762120" y="176040"/>
            <a:ext cx="7238880" cy="668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17875" t="20811" r="38249" b="23227"/>
          <a:stretch/>
        </p:blipFill>
        <p:spPr>
          <a:xfrm>
            <a:off x="0" y="0"/>
            <a:ext cx="7467480" cy="663588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"/>
          <p:cNvSpPr/>
          <p:nvPr/>
        </p:nvSpPr>
        <p:spPr>
          <a:xfrm>
            <a:off x="7086600" y="1219320"/>
            <a:ext cx="1752480" cy="2654280"/>
          </a:xfrm>
          <a:prstGeom prst="wedgeRectCallout">
            <a:avLst>
              <a:gd name="adj1" fmla="val -54064"/>
              <a:gd name="adj2" fmla="val 67953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often removed the flies so there were no hints about the parent’s m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5"/>
          <p:cNvSpPr/>
          <p:nvPr/>
        </p:nvSpPr>
        <p:spPr>
          <a:xfrm>
            <a:off x="3276720" y="3657600"/>
            <a:ext cx="1904760" cy="60948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18804" t="17297" r="39667" b="16760"/>
          <a:stretch/>
        </p:blipFill>
        <p:spPr>
          <a:xfrm>
            <a:off x="1523880" y="0"/>
            <a:ext cx="5958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3"/>
          <p:cNvSpPr/>
          <p:nvPr/>
        </p:nvSpPr>
        <p:spPr>
          <a:xfrm>
            <a:off x="7620120" y="0"/>
            <a:ext cx="1523880" cy="1143000"/>
          </a:xfrm>
          <a:prstGeom prst="wedgeRectCallout">
            <a:avLst>
              <a:gd name="adj1" fmla="val -43518"/>
              <a:gd name="adj2" fmla="val 6597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the games beg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5410080" y="2133720"/>
            <a:ext cx="3581640" cy="1828800"/>
          </a:xfrm>
          <a:prstGeom prst="wedgeRoundRectCallout">
            <a:avLst>
              <a:gd name="adj1" fmla="val -76597"/>
              <a:gd name="adj2" fmla="val -5920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’s important that you harvest VIRGIN ♀’s.  Once a ♀ has mated, she need never mate again.  She stores enough eggs for a lifetime and YOU won’t know who the father was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257800" y="3962520"/>
            <a:ext cx="1828800" cy="380880"/>
          </a:xfrm>
          <a:prstGeom prst="leftArrow">
            <a:avLst>
              <a:gd name="adj1" fmla="val 72500"/>
              <a:gd name="adj2" fmla="val 1264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rcRect l="19441" t="17567" r="42166" b="15407"/>
          <a:stretch/>
        </p:blipFill>
        <p:spPr>
          <a:xfrm>
            <a:off x="160020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3"/>
          <p:cNvSpPr/>
          <p:nvPr/>
        </p:nvSpPr>
        <p:spPr>
          <a:xfrm>
            <a:off x="6781680" y="0"/>
            <a:ext cx="2362320" cy="5029200"/>
          </a:xfrm>
          <a:prstGeom prst="wedgeEllipseCallout">
            <a:avLst>
              <a:gd name="adj1" fmla="val -82592"/>
              <a:gd name="adj2" fmla="val 4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n’t have all of these….my kids skipped this step since they were handed ONLY a vial of maggo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20226" t="62975" r="42951" b="4664"/>
          <a:stretch/>
        </p:blipFill>
        <p:spPr>
          <a:xfrm>
            <a:off x="304920" y="1189080"/>
            <a:ext cx="8534160" cy="5435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20226" t="20811" r="42166" b="16484"/>
          <a:stretch/>
        </p:blipFill>
        <p:spPr>
          <a:xfrm>
            <a:off x="1676520" y="0"/>
            <a:ext cx="567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20226" t="50005" r="42166" b="17567"/>
          <a:stretch/>
        </p:blipFill>
        <p:spPr>
          <a:xfrm>
            <a:off x="380880" y="228600"/>
            <a:ext cx="8534520" cy="5943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20226" t="24055" r="41381" b="32703"/>
          <a:stretch/>
        </p:blipFill>
        <p:spPr>
          <a:xfrm>
            <a:off x="152280" y="108000"/>
            <a:ext cx="7467840" cy="66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20226" t="20811" r="42951" b="5675"/>
          <a:stretch/>
        </p:blipFill>
        <p:spPr>
          <a:xfrm>
            <a:off x="1465200" y="0"/>
            <a:ext cx="474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0226" t="35947" r="42951" b="16009"/>
          <a:stretch/>
        </p:blipFill>
        <p:spPr>
          <a:xfrm>
            <a:off x="609480" y="12600"/>
            <a:ext cx="72392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20226" t="24055" r="42166" b="17567"/>
          <a:stretch/>
        </p:blipFill>
        <p:spPr>
          <a:xfrm>
            <a:off x="167652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20226" t="20811" r="42166" b="17567"/>
          <a:stretch/>
        </p:blipFill>
        <p:spPr>
          <a:xfrm>
            <a:off x="714240" y="0"/>
            <a:ext cx="577548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rcRect l="20374" t="24867" r="43588" b="8107"/>
          <a:stretch/>
        </p:blipFill>
        <p:spPr>
          <a:xfrm>
            <a:off x="1698480" y="0"/>
            <a:ext cx="508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20226" t="27299" r="42951" b="16484"/>
          <a:stretch/>
        </p:blipFill>
        <p:spPr>
          <a:xfrm>
            <a:off x="712800" y="0"/>
            <a:ext cx="619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226" t="17567" r="42951" b="16490"/>
          <a:stretch/>
        </p:blipFill>
        <p:spPr>
          <a:xfrm>
            <a:off x="1600200" y="0"/>
            <a:ext cx="5343480" cy="69343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"/>
          <p:cNvSpPr/>
          <p:nvPr/>
        </p:nvSpPr>
        <p:spPr>
          <a:xfrm>
            <a:off x="6934320" y="304920"/>
            <a:ext cx="2057400" cy="4495680"/>
          </a:xfrm>
          <a:prstGeom prst="wedgeRoundRectCallout">
            <a:avLst>
              <a:gd name="adj1" fmla="val -150722"/>
              <a:gd name="adj2" fmla="val 5618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sex-linked is on the X chromosome NOT the Y.  That way, whatever is on the X IS expressed in a male that is X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1011" t="17567" r="42951" b="50005"/>
          <a:stretch/>
        </p:blipFill>
        <p:spPr>
          <a:xfrm>
            <a:off x="228600" y="0"/>
            <a:ext cx="838188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21011" t="50005" r="42951" b="13246"/>
          <a:stretch/>
        </p:blipFill>
        <p:spPr>
          <a:xfrm>
            <a:off x="228600" y="228600"/>
            <a:ext cx="8915400" cy="65898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3"/>
          <p:cNvSpPr/>
          <p:nvPr/>
        </p:nvSpPr>
        <p:spPr>
          <a:xfrm>
            <a:off x="4191120" y="441972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20226" t="25138" r="42951" b="21894"/>
          <a:stretch/>
        </p:blipFill>
        <p:spPr>
          <a:xfrm>
            <a:off x="0" y="0"/>
            <a:ext cx="6578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6553080" y="2971800"/>
          <a:ext cx="2362320" cy="2641680"/>
        </p:xfrm>
        <a:graphic>
          <a:graphicData uri="http://schemas.openxmlformats.org/drawingml/2006/table">
            <a:tbl>
              <a:tblPr/>
              <a:tblGrid>
                <a:gridCol w="787680"/>
                <a:gridCol w="787320"/>
                <a:gridCol w="787320"/>
              </a:tblGrid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AutoShape 63"/>
          <p:cNvSpPr/>
          <p:nvPr/>
        </p:nvSpPr>
        <p:spPr>
          <a:xfrm>
            <a:off x="7086600" y="1143000"/>
            <a:ext cx="1828800" cy="1523880"/>
          </a:xfrm>
          <a:prstGeom prst="cloudCallout">
            <a:avLst>
              <a:gd name="adj1" fmla="val 34810"/>
              <a:gd name="adj2" fmla="val 842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Punnett squa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2988" t="19728" r="39034" b="6758"/>
          <a:stretch/>
        </p:blipFill>
        <p:spPr>
          <a:xfrm>
            <a:off x="0" y="34920"/>
            <a:ext cx="800100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rcRect l="2988" t="18650" r="39034" b="12020"/>
          <a:stretch/>
        </p:blipFill>
        <p:spPr>
          <a:xfrm>
            <a:off x="990720" y="0"/>
            <a:ext cx="7696080" cy="66708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5"/>
          <p:cNvSpPr/>
          <p:nvPr/>
        </p:nvSpPr>
        <p:spPr>
          <a:xfrm>
            <a:off x="6172200" y="228600"/>
            <a:ext cx="2514600" cy="1523880"/>
          </a:xfrm>
          <a:custGeom>
            <a:avLst/>
            <a:gdLst>
              <a:gd name="textAreaLeft" fmla="*/ 0 w 2514600"/>
              <a:gd name="textAreaRight" fmla="*/ 2514960 w 2514600"/>
              <a:gd name="textAreaTop" fmla="*/ 197280 h 1523880"/>
              <a:gd name="textAreaBottom" fmla="*/ 13266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7315200" y="6248520"/>
            <a:ext cx="11430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8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20226" t="52166" r="42166" b="18650"/>
          <a:stretch/>
        </p:blipFill>
        <p:spPr>
          <a:xfrm>
            <a:off x="990720" y="1438200"/>
            <a:ext cx="8153280" cy="4586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16527" t="18650" r="39815" b="39191"/>
          <a:stretch/>
        </p:blipFill>
        <p:spPr>
          <a:xfrm>
            <a:off x="0" y="0"/>
            <a:ext cx="6629400" cy="365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20226" t="60814" r="43732" b="19902"/>
          <a:stretch/>
        </p:blipFill>
        <p:spPr>
          <a:xfrm>
            <a:off x="1143000" y="3581280"/>
            <a:ext cx="73915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rcRect l="20226" t="17567" r="42166" b="27661"/>
          <a:stretch/>
        </p:blipFill>
        <p:spPr>
          <a:xfrm>
            <a:off x="1108080" y="0"/>
            <a:ext cx="64990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3"/>
          <p:cNvSpPr/>
          <p:nvPr/>
        </p:nvSpPr>
        <p:spPr>
          <a:xfrm>
            <a:off x="4343400" y="6400800"/>
            <a:ext cx="327672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rcRect l="20226" t="17567" r="41381" b="10002"/>
          <a:stretch/>
        </p:blipFill>
        <p:spPr>
          <a:xfrm>
            <a:off x="1230480" y="0"/>
            <a:ext cx="501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rcRect l="19441" t="26216" r="41385" b="29460"/>
          <a:stretch/>
        </p:blipFill>
        <p:spPr>
          <a:xfrm>
            <a:off x="1143000" y="228600"/>
            <a:ext cx="7315200" cy="5997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20374" t="44595" r="42021" b="14058"/>
          <a:stretch/>
        </p:blipFill>
        <p:spPr>
          <a:xfrm>
            <a:off x="990720" y="341280"/>
            <a:ext cx="7619760" cy="6072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2988" t="17567" r="39034" b="20525"/>
          <a:stretch/>
        </p:blipFill>
        <p:spPr>
          <a:xfrm>
            <a:off x="0" y="39600"/>
            <a:ext cx="8458200" cy="654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rcRect l="18804" t="17838" r="42803" b="49734"/>
          <a:stretch/>
        </p:blipFill>
        <p:spPr>
          <a:xfrm>
            <a:off x="0" y="133200"/>
            <a:ext cx="9372600" cy="57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rcRect l="18660" t="17567" r="43732" b="27299"/>
          <a:stretch/>
        </p:blipFill>
        <p:spPr>
          <a:xfrm>
            <a:off x="1523880" y="0"/>
            <a:ext cx="60962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19441" t="17567" r="42951" b="34864"/>
          <a:stretch/>
        </p:blipFill>
        <p:spPr>
          <a:xfrm>
            <a:off x="457200" y="95400"/>
            <a:ext cx="73152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19441" t="17567" r="41455" b="7841"/>
          <a:stretch/>
        </p:blipFill>
        <p:spPr>
          <a:xfrm>
            <a:off x="53352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18660" t="24055" r="39815" b="8919"/>
          <a:stretch/>
        </p:blipFill>
        <p:spPr>
          <a:xfrm>
            <a:off x="1523880" y="0"/>
            <a:ext cx="586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5339" t="24055" r="38249" b="21894"/>
          <a:stretch/>
        </p:blipFill>
        <p:spPr>
          <a:xfrm>
            <a:off x="228600" y="171360"/>
            <a:ext cx="8686800" cy="603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6124" t="25138" r="39034" b="21894"/>
          <a:stretch/>
        </p:blipFill>
        <p:spPr>
          <a:xfrm>
            <a:off x="304920" y="130320"/>
            <a:ext cx="8839080" cy="61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6124" t="24055" r="39815" b="21894"/>
          <a:stretch/>
        </p:blipFill>
        <p:spPr>
          <a:xfrm>
            <a:off x="304920" y="0"/>
            <a:ext cx="8839080" cy="6405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5339" t="24055" r="40600" b="22977"/>
          <a:stretch/>
        </p:blipFill>
        <p:spPr>
          <a:xfrm>
            <a:off x="228600" y="139680"/>
            <a:ext cx="8763120" cy="622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6124" t="25138" r="39815" b="21894"/>
          <a:stretch/>
        </p:blipFill>
        <p:spPr>
          <a:xfrm>
            <a:off x="304920" y="52560"/>
            <a:ext cx="8839080" cy="627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6:59:56Z</dcterms:created>
  <dc:creator>Rene McCormick</dc:creator>
  <dc:description/>
  <dc:language>en-US</dc:language>
  <cp:lastModifiedBy> René McCormick</cp:lastModifiedBy>
  <dcterms:modified xsi:type="dcterms:W3CDTF">2008-02-21T21:21:52Z</dcterms:modified>
  <cp:revision>8</cp:revision>
  <dc:subject/>
  <dc:title>PowerPoint Presentation</dc:title>
</cp:coreProperties>
</file>