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5651-B598-4A25-A9BE-5D93FA439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BC9-1D59-4B02-92D1-81014E663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8AA-61FB-4AEA-A20F-43169281E6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0DF-751B-4056-B663-763F815EC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029-4070-45DC-BCBE-7F2A99123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7294-F4C3-47ED-9F80-6B60125DB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DFD5-60BC-489D-9207-7766708B5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A6D0-B1A5-4D60-8EAF-64A4190CC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4392-297D-4E7D-BAF4-79BB5313B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22B-71A5-4BA5-9913-7B73651F3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2AD-D4A5-4EF4-8259-A5CB32CAD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852-5D29-408A-B6EB-2AF54815E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71A-FD35-4FEA-936E-6EF784B1B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4B7-1415-41A6-9D9B-6DBD9CD61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2975-4490-4BB3-AD74-0193E5F30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8865-3BC8-479F-BB8B-713BBA47C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B58-0A8E-4FA7-8699-B7BAFBDDE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59C-BCC0-4276-97B5-B31AC3365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4CB4-C0F2-408D-8D8E-4315C7F95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B09-C25E-4FFB-852D-1FFC34346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5C0A-6AE2-4197-880B-8DB67A868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F18-2ED2-4E74-BCDA-07C84615D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E313-AA74-4D43-9069-A052A9486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DDFD-F870-4623-974B-C7B53DA44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D40D-326C-471C-B5AD-244B409C9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3E30-C82E-4705-A8FA-A5AE8FC62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158-A435-438D-921D-FDA524CE6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8D6A-5323-41D6-8991-EE5C7E947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94FF-CEA7-4AD4-810D-EB8E4A673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3A14-DF0F-43C1-B6E1-3A4BCA364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D27B-D6A6-4D67-B760-B3EFED413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AF7-F3B4-42C2-8500-572D1FB4A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6E2C-06AA-464B-B88C-97B0A7BFD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CFC5-CE80-4CF4-9665-6D53A1A8E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FDB-2755-4C3F-947E-126218BE2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6DF-DD44-4192-8FF4-2CD9F711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630-10AB-42CD-897C-C29EE379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88F-004B-42AC-B997-FBCD7130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710-3520-46EF-B987-38BE458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308-4F50-49CB-A971-16AAC3E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8BD-27A4-40A3-8089-AE392218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17D-D17A-4CE4-855D-95984BD3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8B2-6064-4BE0-9C4D-70091A1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133-7DEF-4B5F-848F-8190D8D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CD0-DA1A-4B52-A829-E42D5293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63C-4674-4156-9144-626916A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272-610D-48D7-85C8-E71AAF6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E960-15AD-4821-8F87-CF662466C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9199" t="16352" r="38156" b="7666"/>
          <a:stretch/>
        </p:blipFill>
        <p:spPr>
          <a:xfrm>
            <a:off x="160020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0781" t="18521" r="42104" b="23951"/>
          <a:stretch/>
        </p:blipFill>
        <p:spPr>
          <a:xfrm>
            <a:off x="1752480" y="0"/>
            <a:ext cx="608184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20781" t="53261" r="42895" b="17439"/>
          <a:stretch/>
        </p:blipFill>
        <p:spPr>
          <a:xfrm>
            <a:off x="0" y="347760"/>
            <a:ext cx="91440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9990" t="17439" r="42104" b="31545"/>
          <a:stretch/>
        </p:blipFill>
        <p:spPr>
          <a:xfrm>
            <a:off x="380880" y="0"/>
            <a:ext cx="6934320" cy="6789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20781" t="16352" r="42895" b="60860"/>
          <a:stretch/>
        </p:blipFill>
        <p:spPr>
          <a:xfrm>
            <a:off x="609480" y="1066680"/>
            <a:ext cx="7696440" cy="39625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2616" t="39145" r="41317" b="4410"/>
          <a:stretch/>
        </p:blipFill>
        <p:spPr>
          <a:xfrm>
            <a:off x="0" y="44280"/>
            <a:ext cx="8991720" cy="6585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643" t="38105" r="7058" b="34211"/>
          <a:stretch/>
        </p:blipFill>
        <p:spPr>
          <a:xfrm>
            <a:off x="0" y="0"/>
            <a:ext cx="7391520" cy="113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rcRect l="4198" t="16352" r="41317" b="42401"/>
          <a:stretch/>
        </p:blipFill>
        <p:spPr>
          <a:xfrm>
            <a:off x="152280" y="1676520"/>
            <a:ext cx="8991720" cy="4951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rcRect l="4985" t="28289" r="80013" b="14178"/>
          <a:stretch/>
        </p:blipFill>
        <p:spPr>
          <a:xfrm>
            <a:off x="304920" y="0"/>
            <a:ext cx="2720880" cy="65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21285" t="16352" r="42238" b="42401"/>
          <a:stretch/>
        </p:blipFill>
        <p:spPr>
          <a:xfrm>
            <a:off x="3124080" y="685800"/>
            <a:ext cx="6019920" cy="4951440"/>
          </a:xfrm>
          <a:prstGeom prst="rect">
            <a:avLst/>
          </a:prstGeom>
          <a:ln w="0">
            <a:noFill/>
          </a:ln>
        </p:spPr>
      </p:pic>
      <p:sp>
        <p:nvSpPr>
          <p:cNvPr id="69" name="Line 4"/>
          <p:cNvSpPr/>
          <p:nvPr/>
        </p:nvSpPr>
        <p:spPr>
          <a:xfrm flipH="1">
            <a:off x="5257800" y="838080"/>
            <a:ext cx="2209680" cy="5181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 flipH="1">
            <a:off x="5257800" y="914400"/>
            <a:ext cx="2209680" cy="502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1911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see I miss it!  Much easier to see when you use a straight edg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20781" t="17439" r="42104" b="48918"/>
          <a:stretch/>
        </p:blipFill>
        <p:spPr>
          <a:xfrm>
            <a:off x="228600" y="138240"/>
            <a:ext cx="89154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2616" t="17439" r="38156" b="37386"/>
          <a:stretch/>
        </p:blipFill>
        <p:spPr>
          <a:xfrm>
            <a:off x="0" y="22860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781" t="22864" r="42895" b="43488"/>
          <a:stretch/>
        </p:blipFill>
        <p:spPr>
          <a:xfrm>
            <a:off x="0" y="0"/>
            <a:ext cx="5562720" cy="37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1569" t="25033" r="46843" b="43488"/>
          <a:stretch/>
        </p:blipFill>
        <p:spPr>
          <a:xfrm>
            <a:off x="3581280" y="32767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304920" y="4114800"/>
            <a:ext cx="1828800" cy="1295280"/>
          </a:xfrm>
          <a:prstGeom prst="wedgeRectCallout">
            <a:avLst>
              <a:gd name="adj1" fmla="val -17967"/>
              <a:gd name="adj2" fmla="val -17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One oxygen molecule is consu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467480" y="4038480"/>
            <a:ext cx="1676520" cy="1676520"/>
          </a:xfrm>
          <a:prstGeom prst="wedgeRectCallout">
            <a:avLst>
              <a:gd name="adj1" fmla="val -101800"/>
              <a:gd name="adj2" fmla="val 4469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even more oxygen molecules are gener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9990" t="25033" r="42649" b="16352"/>
          <a:stretch/>
        </p:blipFill>
        <p:spPr>
          <a:xfrm>
            <a:off x="1424160" y="0"/>
            <a:ext cx="600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2616" t="62619" r="38156" b="7666"/>
          <a:stretch/>
        </p:blipFill>
        <p:spPr>
          <a:xfrm>
            <a:off x="228600" y="45720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20781" t="25033" r="48422" b="43421"/>
          <a:stretch/>
        </p:blipFill>
        <p:spPr>
          <a:xfrm>
            <a:off x="0" y="457200"/>
            <a:ext cx="6019920" cy="448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21569" t="31545" r="53952" b="46744"/>
          <a:stretch/>
        </p:blipFill>
        <p:spPr>
          <a:xfrm>
            <a:off x="5181480" y="14479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Oval 4"/>
          <p:cNvSpPr/>
          <p:nvPr/>
        </p:nvSpPr>
        <p:spPr>
          <a:xfrm>
            <a:off x="1981080" y="4648320"/>
            <a:ext cx="6629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dark, oxygen is consumed by respiration b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are no photons, there is no photosynthesi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ZERO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781" t="25033" r="46843" b="46744"/>
          <a:stretch/>
        </p:blipFill>
        <p:spPr>
          <a:xfrm>
            <a:off x="0" y="685800"/>
            <a:ext cx="5105520" cy="3238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0781" t="31545" r="53161" b="46744"/>
          <a:stretch/>
        </p:blipFill>
        <p:spPr>
          <a:xfrm>
            <a:off x="4495680" y="1371600"/>
            <a:ext cx="4114800" cy="24940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1295280" y="4038480"/>
            <a:ext cx="6858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bottle without any screening, maximum photo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lace, therefore maximum oxygen prod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“100” BOTT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12885" t="23951" r="42104" b="26120"/>
          <a:stretch/>
        </p:blipFill>
        <p:spPr>
          <a:xfrm>
            <a:off x="914400" y="0"/>
            <a:ext cx="7924680" cy="6394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/>
          <p:cNvSpPr/>
          <p:nvPr/>
        </p:nvSpPr>
        <p:spPr>
          <a:xfrm>
            <a:off x="304920" y="152280"/>
            <a:ext cx="1904760" cy="2514600"/>
          </a:xfrm>
          <a:prstGeom prst="wedgeRoundRectCallout">
            <a:avLst>
              <a:gd name="adj1" fmla="val 95583"/>
              <a:gd name="adj2" fmla="val 10170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ENER, the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1569" t="18521" r="40525" b="16352"/>
          <a:stretch/>
        </p:blipFill>
        <p:spPr>
          <a:xfrm>
            <a:off x="1752480" y="0"/>
            <a:ext cx="5303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20781" t="17439" r="38943" b="21777"/>
          <a:stretch/>
        </p:blipFill>
        <p:spPr>
          <a:xfrm>
            <a:off x="30492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21569" t="17439" r="42104" b="32633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2" name="Oval 3"/>
          <p:cNvSpPr/>
          <p:nvPr/>
        </p:nvSpPr>
        <p:spPr>
          <a:xfrm>
            <a:off x="6934320" y="5410080"/>
            <a:ext cx="19810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per li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rcRect l="22360" t="69542" r="42104" b="4410"/>
          <a:stretch/>
        </p:blipFill>
        <p:spPr>
          <a:xfrm>
            <a:off x="304920" y="228600"/>
            <a:ext cx="8305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4198" t="26120" r="39596" b="35889"/>
          <a:stretch/>
        </p:blipFill>
        <p:spPr>
          <a:xfrm>
            <a:off x="0" y="380880"/>
            <a:ext cx="8915400" cy="4384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4500" t="21777" r="39734" b="42401"/>
          <a:stretch/>
        </p:blipFill>
        <p:spPr>
          <a:xfrm>
            <a:off x="380880" y="609480"/>
            <a:ext cx="8763120" cy="409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9199" t="17439" r="38943" b="18521"/>
          <a:stretch/>
        </p:blipFill>
        <p:spPr>
          <a:xfrm>
            <a:off x="0" y="0"/>
            <a:ext cx="5886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1569" t="20695" r="42104" b="17434"/>
          <a:stretch/>
        </p:blipFill>
        <p:spPr>
          <a:xfrm>
            <a:off x="0" y="0"/>
            <a:ext cx="5533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/>
          <p:cNvSpPr/>
          <p:nvPr/>
        </p:nvSpPr>
        <p:spPr>
          <a:xfrm>
            <a:off x="4419720" y="457200"/>
            <a:ext cx="3276360" cy="838080"/>
          </a:xfrm>
          <a:prstGeom prst="wedgeRectCallout">
            <a:avLst>
              <a:gd name="adj1" fmla="val -88759"/>
              <a:gd name="adj2" fmla="val 4981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 BOTH gross and net productivity and make a leg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20781" t="23951" r="41317" b="23951"/>
          <a:stretch/>
        </p:blipFill>
        <p:spPr>
          <a:xfrm>
            <a:off x="380880" y="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20781" t="17439" r="42895" b="10922"/>
          <a:stretch/>
        </p:blipFill>
        <p:spPr>
          <a:xfrm>
            <a:off x="838080" y="0"/>
            <a:ext cx="478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20781" t="17439" r="41317" b="31545"/>
          <a:stretch/>
        </p:blipFill>
        <p:spPr>
          <a:xfrm>
            <a:off x="762120" y="173160"/>
            <a:ext cx="6705360" cy="6565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20781" t="17439" r="40525" b="16352"/>
          <a:stretch/>
        </p:blipFill>
        <p:spPr>
          <a:xfrm>
            <a:off x="83520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9199" t="32925" r="38943" b="39970"/>
          <a:stretch/>
        </p:blipFill>
        <p:spPr>
          <a:xfrm>
            <a:off x="0" y="0"/>
            <a:ext cx="5886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19990" t="59773" r="42895" b="16352"/>
          <a:stretch/>
        </p:blipFill>
        <p:spPr>
          <a:xfrm>
            <a:off x="533520" y="2647800"/>
            <a:ext cx="6095880" cy="3962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533520" y="2133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re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9990" t="23951" r="42895" b="25033"/>
          <a:stretch/>
        </p:blipFill>
        <p:spPr>
          <a:xfrm>
            <a:off x="16765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0781" t="18521" r="42104" b="5497"/>
          <a:stretch/>
        </p:blipFill>
        <p:spPr>
          <a:xfrm>
            <a:off x="175248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20781" t="18521" r="42104" b="22864"/>
          <a:stretch/>
        </p:blipFill>
        <p:spPr>
          <a:xfrm>
            <a:off x="175248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616" t="42401" r="39734" b="9840"/>
          <a:stretch/>
        </p:blipFill>
        <p:spPr>
          <a:xfrm>
            <a:off x="0" y="3049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0781" t="25033" r="41317" b="31551"/>
          <a:stretch/>
        </p:blipFill>
        <p:spPr>
          <a:xfrm>
            <a:off x="1143000" y="0"/>
            <a:ext cx="8001000" cy="6667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55627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21:21:53Z</dcterms:created>
  <dc:creator>Rene McCormick</dc:creator>
  <dc:description/>
  <dc:language>en-US</dc:language>
  <cp:lastModifiedBy> René McCormick</cp:lastModifiedBy>
  <dcterms:modified xsi:type="dcterms:W3CDTF">2008-02-21T21:25:58Z</dcterms:modified>
  <cp:revision>4</cp:revision>
  <dc:subject/>
  <dc:title>PowerPoint Presentation</dc:title>
</cp:coreProperties>
</file>