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CD9D-C36A-4467-8EDD-0D6D2B451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5A0A-8CB0-4A14-9317-99EA22E8C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D325-DF73-4572-8B93-57FA56C90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4485-9658-4A72-9A95-5B08B2A89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CBDE-D9C7-47AE-B9E3-0BF390615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1A6F-2EB1-4691-8D1C-86DFFD0A7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1A21-391F-4502-921A-E31246626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E535-5FED-49C0-956E-AEB1B6ABE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ACFF-215E-40FE-9445-16FC25E69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2D6B-8EDC-4016-B66F-DC25C8EBF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ECEA-536C-4588-8D6E-15AAB3285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F5B5-9CB4-46A7-AB24-FCDAB5310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5D26-0CB9-430B-86E2-ADCAC5E14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4331-89B4-4B1B-8A67-B0C66DD00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491D-A84C-4DDB-8B31-7DF2F491E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6C64-639A-44C0-A49A-516D33BBB8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E349-6468-4955-990A-71DE77E76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3E7D-C692-41DB-B12D-90F4FC516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27D9-6ABE-4724-847F-B2B1AB760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941E-C454-43C0-9004-7004C3987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6BCD-75A5-4914-A09D-7AFE56B79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B1B7-0124-46D6-8A72-032857760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C3E-3D2A-4656-9840-CE2679390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5A38-FEAD-4285-993A-706BC39AE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5D5A-6E27-4BA8-87C3-74F369F27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F8D7-5E6E-4A8C-956F-F72F3D785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35BF-EB43-418F-BAC9-2FECAA746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089F-B5CA-43B4-A605-2992E6790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551A-0A1B-4A14-BF98-AEEC70ABC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0C1E-015C-4ED0-AF9C-D60F44F8E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845-64BA-42B5-AF9E-03816ED02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240B-CFC9-4AF9-9E2C-B9147C8D2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362D-5979-4595-AEA8-F505484C7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4CD0-2826-400F-B2CD-7CE484E40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72B4-B0C3-4D5D-9931-F36695526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DB9-5DA0-4792-89BC-0F07486C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B02-A961-41A6-BFAD-E2AE6F9D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5E2-CC82-4CD7-953A-21873E91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0C6-6A4C-447F-89D1-D653E6F5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F21-0ECA-48EF-8703-497965BC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276-441B-4F3C-8F5A-31C06F29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B28-2185-42CB-BEAE-C59FF959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0B7-21C6-4BAF-8CC5-C1F9DC14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A4A-4FE5-48B0-B913-1B0FDE43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938-30DD-45E5-BECA-09117969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7C3-B64B-4FDD-9018-45DB75FD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173-CED5-4559-92A0-6F62E8A3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4F39-1ED8-43B6-8CFE-1CB0F5870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6352" r="38156" b="7666"/>
          <a:stretch/>
        </p:blipFill>
        <p:spPr>
          <a:xfrm>
            <a:off x="1600200" y="0"/>
            <a:ext cx="528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18521" r="42104" b="23951"/>
          <a:stretch/>
        </p:blipFill>
        <p:spPr>
          <a:xfrm>
            <a:off x="1752480" y="0"/>
            <a:ext cx="60818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20781" t="53261" r="42895" b="17439"/>
          <a:stretch/>
        </p:blipFill>
        <p:spPr>
          <a:xfrm>
            <a:off x="0" y="347760"/>
            <a:ext cx="9144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990" t="17439" r="42104" b="31545"/>
          <a:stretch/>
        </p:blipFill>
        <p:spPr>
          <a:xfrm>
            <a:off x="380880" y="0"/>
            <a:ext cx="6934320" cy="6789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20781" t="16352" r="42895" b="60860"/>
          <a:stretch/>
        </p:blipFill>
        <p:spPr>
          <a:xfrm>
            <a:off x="609480" y="1066680"/>
            <a:ext cx="7696440" cy="396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2616" t="39145" r="41317" b="4410"/>
          <a:stretch/>
        </p:blipFill>
        <p:spPr>
          <a:xfrm>
            <a:off x="0" y="44280"/>
            <a:ext cx="8991720" cy="6585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6643" t="38105" r="7058" b="34211"/>
          <a:stretch/>
        </p:blipFill>
        <p:spPr>
          <a:xfrm>
            <a:off x="0" y="0"/>
            <a:ext cx="7391520" cy="113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4198" t="16352" r="41317" b="42401"/>
          <a:stretch/>
        </p:blipFill>
        <p:spPr>
          <a:xfrm>
            <a:off x="152280" y="1676520"/>
            <a:ext cx="8991720" cy="4951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4985" t="28289" r="80013" b="14178"/>
          <a:stretch/>
        </p:blipFill>
        <p:spPr>
          <a:xfrm>
            <a:off x="304920" y="0"/>
            <a:ext cx="2720880" cy="65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21285" t="16352" r="42238" b="42401"/>
          <a:stretch/>
        </p:blipFill>
        <p:spPr>
          <a:xfrm>
            <a:off x="3124080" y="685800"/>
            <a:ext cx="6019920" cy="4951440"/>
          </a:xfrm>
          <a:prstGeom prst="rect">
            <a:avLst/>
          </a:prstGeom>
          <a:ln w="0">
            <a:noFill/>
          </a:ln>
        </p:spPr>
      </p:pic>
      <p:sp>
        <p:nvSpPr>
          <p:cNvPr id="69" name="Line 4"/>
          <p:cNvSpPr/>
          <p:nvPr/>
        </p:nvSpPr>
        <p:spPr>
          <a:xfrm flipH="1">
            <a:off x="5257800" y="838080"/>
            <a:ext cx="2209680" cy="518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 flipH="1">
            <a:off x="5257800" y="914400"/>
            <a:ext cx="2209680" cy="502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1911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see I miss it!  Much easier to see when you use a straight edg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17439" r="42104" b="48918"/>
          <a:stretch/>
        </p:blipFill>
        <p:spPr>
          <a:xfrm>
            <a:off x="228600" y="138240"/>
            <a:ext cx="89154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616" t="17439" r="38156" b="37386"/>
          <a:stretch/>
        </p:blipFill>
        <p:spPr>
          <a:xfrm>
            <a:off x="0" y="22860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781" t="22864" r="42895" b="43488"/>
          <a:stretch/>
        </p:blipFill>
        <p:spPr>
          <a:xfrm>
            <a:off x="0" y="0"/>
            <a:ext cx="5562720" cy="3747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rcRect l="21569" t="25033" r="46843" b="43488"/>
          <a:stretch/>
        </p:blipFill>
        <p:spPr>
          <a:xfrm>
            <a:off x="3581280" y="3276720"/>
            <a:ext cx="4800600" cy="34797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"/>
          <p:cNvSpPr/>
          <p:nvPr/>
        </p:nvSpPr>
        <p:spPr>
          <a:xfrm>
            <a:off x="304920" y="4114800"/>
            <a:ext cx="1828800" cy="1295280"/>
          </a:xfrm>
          <a:prstGeom prst="wedgeRectCallout">
            <a:avLst>
              <a:gd name="adj1" fmla="val -17967"/>
              <a:gd name="adj2" fmla="val -173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One oxygen molecule is consu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467480" y="4038480"/>
            <a:ext cx="1676520" cy="1676520"/>
          </a:xfrm>
          <a:prstGeom prst="wedgeRectCallout">
            <a:avLst>
              <a:gd name="adj1" fmla="val -101800"/>
              <a:gd name="adj2" fmla="val 44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even more oxygen molecules are gene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25033" r="42649" b="16352"/>
          <a:stretch/>
        </p:blipFill>
        <p:spPr>
          <a:xfrm>
            <a:off x="1424160" y="0"/>
            <a:ext cx="600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616" t="62619" r="38156" b="7666"/>
          <a:stretch/>
        </p:blipFill>
        <p:spPr>
          <a:xfrm>
            <a:off x="228600" y="45720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8422" b="43421"/>
          <a:stretch/>
        </p:blipFill>
        <p:spPr>
          <a:xfrm>
            <a:off x="0" y="457200"/>
            <a:ext cx="6019920" cy="4486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rcRect l="21569" t="31545" r="53952" b="46744"/>
          <a:stretch/>
        </p:blipFill>
        <p:spPr>
          <a:xfrm>
            <a:off x="5181480" y="1447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Oval 4"/>
          <p:cNvSpPr/>
          <p:nvPr/>
        </p:nvSpPr>
        <p:spPr>
          <a:xfrm>
            <a:off x="1981080" y="4648320"/>
            <a:ext cx="6629400" cy="190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dark, oxygen is consumed by respiration b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re are no photons, there is no photosynthesi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ZERO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781" t="25033" r="46843" b="46744"/>
          <a:stretch/>
        </p:blipFill>
        <p:spPr>
          <a:xfrm>
            <a:off x="0" y="685800"/>
            <a:ext cx="5105520" cy="32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rcRect l="20781" t="31545" r="53161" b="46744"/>
          <a:stretch/>
        </p:blipFill>
        <p:spPr>
          <a:xfrm>
            <a:off x="4495680" y="1371600"/>
            <a:ext cx="4114800" cy="24940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1295280" y="4038480"/>
            <a:ext cx="68580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bottle without any screening, maximum photo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lace, therefore maximum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100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12885" t="23951" r="42104" b="26120"/>
          <a:stretch/>
        </p:blipFill>
        <p:spPr>
          <a:xfrm>
            <a:off x="914400" y="0"/>
            <a:ext cx="7924680" cy="6394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304920" y="152280"/>
            <a:ext cx="1904760" cy="2514600"/>
          </a:xfrm>
          <a:prstGeom prst="wedgeRoundRectCallout">
            <a:avLst>
              <a:gd name="adj1" fmla="val 95583"/>
              <a:gd name="adj2" fmla="val 1017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REENER, the B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1569" t="18521" r="40525" b="16352"/>
          <a:stretch/>
        </p:blipFill>
        <p:spPr>
          <a:xfrm>
            <a:off x="1752480" y="0"/>
            <a:ext cx="5303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781" t="17439" r="38943" b="21777"/>
          <a:stretch/>
        </p:blipFill>
        <p:spPr>
          <a:xfrm>
            <a:off x="304920" y="0"/>
            <a:ext cx="62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1569" t="17439" r="42104" b="32633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92" name="Oval 3"/>
          <p:cNvSpPr/>
          <p:nvPr/>
        </p:nvSpPr>
        <p:spPr>
          <a:xfrm>
            <a:off x="6934320" y="5410080"/>
            <a:ext cx="198108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per li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2360" t="69542" r="42104" b="4410"/>
          <a:stretch/>
        </p:blipFill>
        <p:spPr>
          <a:xfrm>
            <a:off x="304920" y="228600"/>
            <a:ext cx="8305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4198" t="26120" r="39596" b="35889"/>
          <a:stretch/>
        </p:blipFill>
        <p:spPr>
          <a:xfrm>
            <a:off x="0" y="380880"/>
            <a:ext cx="8915400" cy="4384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4500" t="21777" r="39734" b="42401"/>
          <a:stretch/>
        </p:blipFill>
        <p:spPr>
          <a:xfrm>
            <a:off x="380880" y="609480"/>
            <a:ext cx="8763120" cy="409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9199" t="17439" r="38943" b="18521"/>
          <a:stretch/>
        </p:blipFill>
        <p:spPr>
          <a:xfrm>
            <a:off x="0" y="0"/>
            <a:ext cx="5886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1569" t="20695" r="42104" b="17434"/>
          <a:stretch/>
        </p:blipFill>
        <p:spPr>
          <a:xfrm>
            <a:off x="0" y="0"/>
            <a:ext cx="5533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4419720" y="457200"/>
            <a:ext cx="3276360" cy="838080"/>
          </a:xfrm>
          <a:prstGeom prst="wedgeRectCallout">
            <a:avLst>
              <a:gd name="adj1" fmla="val -88759"/>
              <a:gd name="adj2" fmla="val 498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 BOTH gross and net productivity and make a leg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20781" t="23951" r="41317" b="23951"/>
          <a:stretch/>
        </p:blipFill>
        <p:spPr>
          <a:xfrm>
            <a:off x="38088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20781" t="17439" r="42895" b="10922"/>
          <a:stretch/>
        </p:blipFill>
        <p:spPr>
          <a:xfrm>
            <a:off x="838080" y="0"/>
            <a:ext cx="47800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20781" t="17439" r="41317" b="31545"/>
          <a:stretch/>
        </p:blipFill>
        <p:spPr>
          <a:xfrm>
            <a:off x="762120" y="173160"/>
            <a:ext cx="6705360" cy="6565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17439" r="40525" b="16352"/>
          <a:stretch/>
        </p:blipFill>
        <p:spPr>
          <a:xfrm>
            <a:off x="83520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9199" t="32925" r="38943" b="39970"/>
          <a:stretch/>
        </p:blipFill>
        <p:spPr>
          <a:xfrm>
            <a:off x="0" y="0"/>
            <a:ext cx="58863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19990" t="59773" r="42895" b="16352"/>
          <a:stretch/>
        </p:blipFill>
        <p:spPr>
          <a:xfrm>
            <a:off x="533520" y="2647800"/>
            <a:ext cx="609588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33520" y="2133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re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19990" t="23951" r="42895" b="25033"/>
          <a:stretch/>
        </p:blipFill>
        <p:spPr>
          <a:xfrm>
            <a:off x="16765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0781" t="18521" r="42104" b="5497"/>
          <a:stretch/>
        </p:blipFill>
        <p:spPr>
          <a:xfrm>
            <a:off x="175248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18521" r="42104" b="22864"/>
          <a:stretch/>
        </p:blipFill>
        <p:spPr>
          <a:xfrm>
            <a:off x="1752480" y="0"/>
            <a:ext cx="59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616" t="42401" r="39734" b="9840"/>
          <a:stretch/>
        </p:blipFill>
        <p:spPr>
          <a:xfrm>
            <a:off x="0" y="3049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25033" r="41317" b="31551"/>
          <a:stretch/>
        </p:blipFill>
        <p:spPr>
          <a:xfrm>
            <a:off x="1143000" y="0"/>
            <a:ext cx="8001000" cy="6667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562720" y="175248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21:21:53Z</dcterms:created>
  <dc:creator>Rene McCormick</dc:creator>
  <dc:description/>
  <dc:language>en-US</dc:language>
  <cp:lastModifiedBy> René McCormick</cp:lastModifiedBy>
  <dcterms:modified xsi:type="dcterms:W3CDTF">2008-02-21T21:25:58Z</dcterms:modified>
  <cp:revision>4</cp:revision>
  <dc:subject/>
  <dc:title>PowerPoint Presentation</dc:title>
</cp:coreProperties>
</file>