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3752-9832-47E2-8547-CF73E80351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F045-D9BC-4AD0-AA0E-8CD2ACA82D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28F6-833B-401E-9230-401754DA66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364D-50A7-44A9-853F-5E81A162D7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B8E1-7ED2-47F7-B899-42E26A3B39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E513-A379-45F8-9ECE-F9B57B4CB0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507E-EAEF-4A93-B7D6-A7449CBB31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1F06-4DAC-491D-9BBC-E60583C4EE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4A54-F167-49A3-A134-9C6E22A18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D977-1604-4E9D-ACBB-AE7E4974BE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E09E-045D-4AEB-A78F-B54D802F2F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6BD4-4AF1-452D-85F1-A8AC724532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61D2-F955-44D3-9037-1EEFC679B8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C8E0-354A-45C5-A494-EF9DAD4404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A59D-9763-4907-A57C-0EE46F0069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652B-D913-4B1B-8EB8-B6E470A488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6441-84AC-4321-BDA0-7699DE9160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A245-E46F-4882-9EA7-6A0BC2ED93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4546-F1E3-454B-8160-9FEFE6DFB8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4D8F-93E1-4940-845C-E2BC262719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BA75-2D19-4270-9D8C-5FC1DDD54C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8157-C2FD-4B17-B61A-E3D199BB6B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E6A3-3152-45DC-8C29-DCECCA5532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1AAB-E6DF-4468-8C9D-DBBBFDD61E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5D3-34F8-4FFA-AB36-A8B379ED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83CA-F911-43B4-875D-58279646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E427-59FA-48EF-B0CE-B4C9FE99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75CB-885C-4CFB-976B-EFC307D0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9B9F-9163-4E17-8D7F-A1B5E8E9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6AD-93C5-46F2-A272-52938A4B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BBC-9F60-43BD-AEA6-F1FD8AA8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EDBF-AEEA-4570-B111-C7371C48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8F5-79EE-494D-87B9-F55A3AA5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E359-0E13-4562-8FBF-8162D34A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985-CC5B-41D3-9731-E5AAC9F0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C8A2-44F2-4D03-AECB-3F0B87F9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2B40-B817-4930-AD84-41C237148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199" t="18521" r="39734" b="6584"/>
          <a:stretch/>
        </p:blipFill>
        <p:spPr>
          <a:xfrm>
            <a:off x="1600200" y="0"/>
            <a:ext cx="516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19199" t="25033" r="42895" b="23951"/>
          <a:stretch/>
        </p:blipFill>
        <p:spPr>
          <a:xfrm>
            <a:off x="1600200" y="34920"/>
            <a:ext cx="6858000" cy="6715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11303" t="17439" r="38943" b="20695"/>
          <a:stretch/>
        </p:blipFill>
        <p:spPr>
          <a:xfrm>
            <a:off x="838080" y="109440"/>
            <a:ext cx="7315200" cy="66182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685800" y="0"/>
            <a:ext cx="129528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rcRect l="21043" t="58686" r="43156" b="14178"/>
          <a:stretch/>
        </p:blipFill>
        <p:spPr>
          <a:xfrm>
            <a:off x="990720" y="2590920"/>
            <a:ext cx="7086600" cy="3909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rcRect l="10512" t="16352" r="38943" b="64117"/>
          <a:stretch/>
        </p:blipFill>
        <p:spPr>
          <a:xfrm>
            <a:off x="228600" y="228600"/>
            <a:ext cx="8534520" cy="2400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13673" t="25033" r="41317" b="27207"/>
          <a:stretch/>
        </p:blipFill>
        <p:spPr>
          <a:xfrm>
            <a:off x="533520" y="304920"/>
            <a:ext cx="8610480" cy="6235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380880" y="304920"/>
            <a:ext cx="10670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228600" y="3733920"/>
            <a:ext cx="1676520" cy="2361960"/>
          </a:xfrm>
          <a:prstGeom prst="wedgeRectCallout">
            <a:avLst>
              <a:gd name="adj1" fmla="val 134847"/>
              <a:gd name="adj2" fmla="val 26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know the “If…, then...” format is sort of cheesy—humor the graders and do it anywa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17621" t="16352" r="38156" b="34807"/>
          <a:stretch/>
        </p:blipFill>
        <p:spPr>
          <a:xfrm>
            <a:off x="152280" y="25560"/>
            <a:ext cx="8458200" cy="6797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7886" t="65198" r="39734" b="10922"/>
          <a:stretch/>
        </p:blipFill>
        <p:spPr>
          <a:xfrm>
            <a:off x="0" y="228600"/>
            <a:ext cx="88390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27099" t="70629" r="39734" b="19608"/>
          <a:stretch/>
        </p:blipFill>
        <p:spPr>
          <a:xfrm>
            <a:off x="0" y="152280"/>
            <a:ext cx="9144000" cy="1959120"/>
          </a:xfrm>
          <a:prstGeom prst="rect">
            <a:avLst/>
          </a:prstGeom>
          <a:ln w="0">
            <a:noFill/>
          </a:ln>
        </p:spPr>
      </p:pic>
      <p:sp>
        <p:nvSpPr>
          <p:cNvPr id="76" name="Oval 3"/>
          <p:cNvSpPr/>
          <p:nvPr/>
        </p:nvSpPr>
        <p:spPr>
          <a:xfrm>
            <a:off x="762120" y="2362320"/>
            <a:ext cx="8381880" cy="3733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where having that evil science teach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know… the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made you do that dreadful, agoniz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rid science project…, pays of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need to write them a “Thank You” note i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Biology exam has a “design an experimen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 this ye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19990" t="23951" r="42895" b="19608"/>
          <a:stretch/>
        </p:blipFill>
        <p:spPr>
          <a:xfrm>
            <a:off x="1676520" y="0"/>
            <a:ext cx="61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0781" t="23951" r="42895" b="52748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16352" r="42104" b="28182"/>
          <a:stretch/>
        </p:blipFill>
        <p:spPr>
          <a:xfrm>
            <a:off x="1447920" y="0"/>
            <a:ext cx="630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19990" t="17439" r="42895" b="4410"/>
          <a:stretch/>
        </p:blipFill>
        <p:spPr>
          <a:xfrm>
            <a:off x="0" y="0"/>
            <a:ext cx="4327560" cy="66294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3"/>
          <p:cNvSpPr/>
          <p:nvPr/>
        </p:nvSpPr>
        <p:spPr>
          <a:xfrm>
            <a:off x="5486400" y="304920"/>
            <a:ext cx="3657600" cy="3429000"/>
          </a:xfrm>
          <a:prstGeom prst="wedgeEllipseCallout">
            <a:avLst>
              <a:gd name="adj1" fmla="val -81250"/>
              <a:gd name="adj2" fmla="val 783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time to design your own protoc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:  “Scientific Method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562720" y="4343400"/>
            <a:ext cx="3352680" cy="2209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activiti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laboratory. 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 may ask you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either or bo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21569" t="72798" r="43682" b="4410"/>
          <a:stretch/>
        </p:blipFill>
        <p:spPr>
          <a:xfrm>
            <a:off x="0" y="762120"/>
            <a:ext cx="91440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19990" t="17439" r="42104" b="40232"/>
          <a:stretch/>
        </p:blipFill>
        <p:spPr>
          <a:xfrm>
            <a:off x="457200" y="152280"/>
            <a:ext cx="8001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19990" t="17434" r="42104" b="29376"/>
          <a:stretch/>
        </p:blipFill>
        <p:spPr>
          <a:xfrm>
            <a:off x="1676520" y="0"/>
            <a:ext cx="671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19990" t="50005" r="42104" b="20695"/>
          <a:stretch/>
        </p:blipFill>
        <p:spPr>
          <a:xfrm>
            <a:off x="0" y="762120"/>
            <a:ext cx="89917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4985" t="16352" r="42895" b="14178"/>
          <a:stretch/>
        </p:blipFill>
        <p:spPr>
          <a:xfrm>
            <a:off x="228600" y="106200"/>
            <a:ext cx="6858000" cy="6650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8142" t="16352" r="40525" b="17439"/>
          <a:stretch/>
        </p:blipFill>
        <p:spPr>
          <a:xfrm>
            <a:off x="533520" y="-6480"/>
            <a:ext cx="7162560" cy="6723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3"/>
          <p:cNvSpPr/>
          <p:nvPr/>
        </p:nvSpPr>
        <p:spPr>
          <a:xfrm>
            <a:off x="228600" y="53341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21569" t="18521" r="42104" b="45662"/>
          <a:stretch/>
        </p:blipFill>
        <p:spPr>
          <a:xfrm>
            <a:off x="0" y="0"/>
            <a:ext cx="9144000" cy="65595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1981080" y="685800"/>
            <a:ext cx="64008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prefer the name “rolly poley” or “doodle bu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1569" t="55430" r="42104" b="20695"/>
          <a:stretch/>
        </p:blipFill>
        <p:spPr>
          <a:xfrm>
            <a:off x="0" y="39600"/>
            <a:ext cx="8839080" cy="422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rcRect l="21569" t="79310" r="42104" b="12009"/>
          <a:stretch/>
        </p:blipFill>
        <p:spPr>
          <a:xfrm>
            <a:off x="0" y="4952880"/>
            <a:ext cx="91440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rcRect l="12094" t="17439" r="42104" b="48918"/>
          <a:stretch/>
        </p:blipFill>
        <p:spPr>
          <a:xfrm>
            <a:off x="0" y="654120"/>
            <a:ext cx="9144000" cy="4887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0" y="533520"/>
            <a:ext cx="121932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12094" t="35868" r="41317" b="14178"/>
          <a:stretch/>
        </p:blipFill>
        <p:spPr>
          <a:xfrm>
            <a:off x="0" y="0"/>
            <a:ext cx="853452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20781" t="87996" r="46843" b="6584"/>
          <a:stretch/>
        </p:blipFill>
        <p:spPr>
          <a:xfrm>
            <a:off x="228600" y="304920"/>
            <a:ext cx="8305920" cy="1012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etup"/>
          <p:cNvPicPr/>
          <p:nvPr/>
        </p:nvPicPr>
        <p:blipFill>
          <a:blip r:embed="rId2"/>
          <a:stretch/>
        </p:blipFill>
        <p:spPr>
          <a:xfrm>
            <a:off x="2590920" y="1676520"/>
            <a:ext cx="4876560" cy="39067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5"/>
          <p:cNvSpPr/>
          <p:nvPr/>
        </p:nvSpPr>
        <p:spPr>
          <a:xfrm>
            <a:off x="6934320" y="609480"/>
            <a:ext cx="2209680" cy="2286000"/>
          </a:xfrm>
          <a:prstGeom prst="cloudCallout">
            <a:avLst>
              <a:gd name="adj1" fmla="val -133189"/>
              <a:gd name="adj2" fmla="val 19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certainly wish they’d left us under those rocks and rotting leaves near the trees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21:27:35Z</dcterms:created>
  <dc:creator>Rene McCormick</dc:creator>
  <dc:description/>
  <dc:language>en-US</dc:language>
  <cp:lastModifiedBy> René McCormick</cp:lastModifiedBy>
  <dcterms:modified xsi:type="dcterms:W3CDTF">2008-02-21T21:25:10Z</dcterms:modified>
  <cp:revision>3</cp:revision>
  <dc:subject/>
  <dc:title>PowerPoint Presentation</dc:title>
</cp:coreProperties>
</file>