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2CB9-2C29-4B2D-B3D1-78F7A7C78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56F8-977D-4378-BC1C-C7DADF962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9DC7-7BDE-40FD-AEDC-3986A3EA9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1C57-7F6E-4295-8B4F-1E7D39386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DA76-9855-4F02-935F-93FD5016E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F64E-4EDA-47CB-87AA-A7D6E31AB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835A-084A-4064-866F-247FC2034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D7A9-4026-4D14-BD93-3984C71E7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5713-DF03-4E2A-B5DB-F8B0422D2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488D-40DB-46C8-9ACD-42075B46F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6EA4-B291-470B-B351-1B6FA96EB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746F-EF94-4DDC-943D-48F37900E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7E20-44B0-4F9C-BEAF-B826302023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45C3-38B8-4F31-923B-F607D9B5D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1990-0124-4EE8-8440-0AF33B07E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D2C4-A6E1-45D8-BA4E-21CC35188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536C-CBE4-4DD4-A7EE-5A732849AC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7C91-1A3E-4214-94CE-833BC110F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47E7-D4D9-4B0F-A117-05D92B2A3E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08D2-F6F5-48C4-B3A0-B04BCAFCA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C145-13F5-4B19-8803-75416B45FE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0833-1601-4F84-8A93-95A027FA3A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E70C-D2C7-449B-94BD-8D32D8D89E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B628-2587-4464-BCF8-DA0867C79B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1BF4-BCF8-4A19-BF4C-5A789A59C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A1E5-96F7-4878-B2E1-F1CBF0F6E3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C511-294D-4379-8490-70A089461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C114-8140-4B17-9B34-720B1A22C0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755D-098F-45B0-9865-D1E2836BDC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651B-3DE0-4601-BEB4-3C1FFBFDE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EAE7-2172-4E60-9EE6-8046559EF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B6A0-D766-4EDC-8627-E351B0044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C936-CCC1-4A9B-8274-393A77920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8B30-A4B2-41CE-9270-338ADD00B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674-3EC8-4619-987A-34F95E57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D42-1DDF-4015-A554-D193F11E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E405-8A7E-44DF-A60F-61591F39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FCB-A4B3-47E7-8FFE-A0173D64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7CF-C709-4842-A618-750A5D92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988-758E-461E-A103-C92953CA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49E-EE5B-4279-AD47-3699FA75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64E-569B-42B1-A948-CB9BC7D0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50D-8C10-469F-817A-B1643E83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FD7-7CD0-466E-B107-19A7933A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1EA-78C7-4BEA-8CB8-2ADA6E40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BAF1-9651-4DA7-B755-119535EE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874D-4735-4D9B-B704-8EE5AC0FE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990" t="23951" r="39734" b="4410"/>
          <a:stretch/>
        </p:blipFill>
        <p:spPr>
          <a:xfrm>
            <a:off x="1600200" y="0"/>
            <a:ext cx="553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20781" t="82494" r="42104" b="10922"/>
          <a:stretch/>
        </p:blipFill>
        <p:spPr>
          <a:xfrm>
            <a:off x="228600" y="5638680"/>
            <a:ext cx="8610480" cy="100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rcRect l="21569" t="29376" r="60221" b="31545"/>
          <a:stretch/>
        </p:blipFill>
        <p:spPr>
          <a:xfrm>
            <a:off x="4191120" y="0"/>
            <a:ext cx="366048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4"/>
          <p:cNvSpPr/>
          <p:nvPr/>
        </p:nvSpPr>
        <p:spPr>
          <a:xfrm>
            <a:off x="228600" y="457200"/>
            <a:ext cx="3429000" cy="3733920"/>
          </a:xfrm>
          <a:prstGeom prst="cloudCallout">
            <a:avLst>
              <a:gd name="adj1" fmla="val 104861"/>
              <a:gd name="adj2" fmla="val -524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’t be surprised if your device has a circular dial with a needle rather than this old-fashioned wall-mounted typ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[That’s right, it’s not usually mounted on the patient’s chest!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781" t="22864" r="41317" b="52061"/>
          <a:stretch/>
        </p:blipFill>
        <p:spPr>
          <a:xfrm>
            <a:off x="0" y="0"/>
            <a:ext cx="89917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0781" t="48780" r="41317" b="4410"/>
          <a:stretch/>
        </p:blipFill>
        <p:spPr>
          <a:xfrm>
            <a:off x="0" y="-11160"/>
            <a:ext cx="7391520" cy="664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1569" t="25033" r="42895" b="33720"/>
          <a:stretch/>
        </p:blipFill>
        <p:spPr>
          <a:xfrm>
            <a:off x="380880" y="0"/>
            <a:ext cx="77724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0781" t="16352" r="41317" b="16352"/>
          <a:stretch/>
        </p:blipFill>
        <p:spPr>
          <a:xfrm>
            <a:off x="0" y="0"/>
            <a:ext cx="5132520" cy="662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21569" t="16352" r="42895" b="6584"/>
          <a:stretch/>
        </p:blipFill>
        <p:spPr>
          <a:xfrm>
            <a:off x="4800600" y="0"/>
            <a:ext cx="434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21569" t="16352" r="42895" b="20695"/>
          <a:stretch/>
        </p:blipFill>
        <p:spPr>
          <a:xfrm>
            <a:off x="1828800" y="0"/>
            <a:ext cx="5143680" cy="66294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16352" r="42895" b="18521"/>
          <a:stretch/>
        </p:blipFill>
        <p:spPr>
          <a:xfrm>
            <a:off x="175248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45662" r="42895" b="17439"/>
          <a:stretch/>
        </p:blipFill>
        <p:spPr>
          <a:xfrm>
            <a:off x="380880" y="331920"/>
            <a:ext cx="8534520" cy="63068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0781" t="17439" r="40525" b="5497"/>
          <a:stretch/>
        </p:blipFill>
        <p:spPr>
          <a:xfrm>
            <a:off x="1752480" y="0"/>
            <a:ext cx="47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19990" t="22864" r="41317" b="20695"/>
          <a:stretch/>
        </p:blipFill>
        <p:spPr>
          <a:xfrm>
            <a:off x="1676520" y="0"/>
            <a:ext cx="64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22360" t="21777" r="58691" b="4410"/>
          <a:stretch/>
        </p:blipFill>
        <p:spPr>
          <a:xfrm>
            <a:off x="0" y="0"/>
            <a:ext cx="1828800" cy="6324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rcRect l="21569" t="21777" r="58687" b="4410"/>
          <a:stretch/>
        </p:blipFill>
        <p:spPr>
          <a:xfrm>
            <a:off x="1828800" y="0"/>
            <a:ext cx="1905120" cy="632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rcRect l="22360" t="21777" r="58687" b="4410"/>
          <a:stretch/>
        </p:blipFill>
        <p:spPr>
          <a:xfrm>
            <a:off x="3657600" y="0"/>
            <a:ext cx="1828800" cy="632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rcRect l="21569" t="16352" r="42895" b="12009"/>
          <a:stretch/>
        </p:blipFill>
        <p:spPr>
          <a:xfrm>
            <a:off x="5254560" y="0"/>
            <a:ext cx="3889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19199" t="17439" r="42895" b="21777"/>
          <a:stretch/>
        </p:blipFill>
        <p:spPr>
          <a:xfrm>
            <a:off x="1600200" y="152280"/>
            <a:ext cx="5746680" cy="6705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1569" t="17439" r="38943" b="5497"/>
          <a:stretch/>
        </p:blipFill>
        <p:spPr>
          <a:xfrm>
            <a:off x="1828800" y="0"/>
            <a:ext cx="48290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20781" t="18521" r="42895" b="20695"/>
          <a:stretch/>
        </p:blipFill>
        <p:spPr>
          <a:xfrm>
            <a:off x="1752480" y="0"/>
            <a:ext cx="56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20781" t="17439" r="42895" b="21777"/>
          <a:stretch/>
        </p:blipFill>
        <p:spPr>
          <a:xfrm>
            <a:off x="228600" y="0"/>
            <a:ext cx="56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19990" t="17439" r="42104" b="16352"/>
          <a:stretch/>
        </p:blipFill>
        <p:spPr>
          <a:xfrm>
            <a:off x="1676520" y="0"/>
            <a:ext cx="539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20781" t="18521" r="42104" b="13096"/>
          <a:stretch/>
        </p:blipFill>
        <p:spPr>
          <a:xfrm>
            <a:off x="1752480" y="0"/>
            <a:ext cx="511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20781" t="43488" r="42104" b="17434"/>
          <a:stretch/>
        </p:blipFill>
        <p:spPr>
          <a:xfrm>
            <a:off x="1143000" y="228600"/>
            <a:ext cx="7391520" cy="5661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20781" t="42401" r="42104" b="17439"/>
          <a:stretch/>
        </p:blipFill>
        <p:spPr>
          <a:xfrm>
            <a:off x="457200" y="136440"/>
            <a:ext cx="8381880" cy="6597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4198" t="17439" r="38943" b="5497"/>
          <a:stretch/>
        </p:blipFill>
        <p:spPr>
          <a:xfrm>
            <a:off x="152280" y="15840"/>
            <a:ext cx="6629400" cy="6537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3"/>
          <p:cNvSpPr/>
          <p:nvPr/>
        </p:nvSpPr>
        <p:spPr>
          <a:xfrm>
            <a:off x="1676520" y="0"/>
            <a:ext cx="380880" cy="1447920"/>
          </a:xfrm>
          <a:prstGeom prst="downArrow">
            <a:avLst>
              <a:gd name="adj1" fmla="val 50000"/>
              <a:gd name="adj2" fmla="val 950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rcRect l="20781" t="25033" r="42895" b="28289"/>
          <a:stretch/>
        </p:blipFill>
        <p:spPr>
          <a:xfrm>
            <a:off x="0" y="0"/>
            <a:ext cx="5029200" cy="470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20781" t="45662" r="53161" b="27207"/>
          <a:stretch/>
        </p:blipFill>
        <p:spPr>
          <a:xfrm>
            <a:off x="5562720" y="2057400"/>
            <a:ext cx="3352680" cy="2540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rcRect l="21569" t="46744" r="53952" b="28289"/>
          <a:stretch/>
        </p:blipFill>
        <p:spPr>
          <a:xfrm>
            <a:off x="2666880" y="4346640"/>
            <a:ext cx="3276720" cy="24303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5410080" y="228600"/>
            <a:ext cx="3505320" cy="13716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you can’t see the animations, I’ve put the counts under each pi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934320" y="419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733920" y="6400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400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m = beats per min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rcRect l="21569" t="38063" r="60269" b="20695"/>
          <a:stretch/>
        </p:blipFill>
        <p:spPr>
          <a:xfrm>
            <a:off x="838080" y="1905120"/>
            <a:ext cx="2675160" cy="441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rcRect l="20781" t="19608" r="42895" b="15265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228600" y="0"/>
            <a:ext cx="2209680" cy="1600200"/>
          </a:xfrm>
          <a:prstGeom prst="wedgeRoundRectCallout">
            <a:avLst>
              <a:gd name="adj1" fmla="val 45472"/>
              <a:gd name="adj2" fmla="val 169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e ventricles are smaller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9990" t="17439" r="42104" b="33720"/>
          <a:stretch/>
        </p:blipFill>
        <p:spPr>
          <a:xfrm>
            <a:off x="1371600" y="0"/>
            <a:ext cx="7086600" cy="6643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20781" t="35889" r="42895" b="13096"/>
          <a:stretch/>
        </p:blipFill>
        <p:spPr>
          <a:xfrm>
            <a:off x="1295280" y="0"/>
            <a:ext cx="67122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20781" t="16352" r="42104" b="4410"/>
          <a:stretch/>
        </p:blipFill>
        <p:spPr>
          <a:xfrm>
            <a:off x="1752480" y="0"/>
            <a:ext cx="4268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rcRect l="20781" t="32633" r="43686" b="20695"/>
          <a:stretch/>
        </p:blipFill>
        <p:spPr>
          <a:xfrm>
            <a:off x="1752480" y="98280"/>
            <a:ext cx="6934320" cy="66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rcRect l="20781" t="25033" r="42104" b="26120"/>
          <a:stretch/>
        </p:blipFill>
        <p:spPr>
          <a:xfrm>
            <a:off x="1523880" y="152280"/>
            <a:ext cx="685800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0781" t="25033" r="42895" b="30464"/>
          <a:stretch/>
        </p:blipFill>
        <p:spPr>
          <a:xfrm>
            <a:off x="990720" y="0"/>
            <a:ext cx="739116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0781" t="17439" r="42104" b="10922"/>
          <a:stretch/>
        </p:blipFill>
        <p:spPr>
          <a:xfrm>
            <a:off x="1371600" y="0"/>
            <a:ext cx="4721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20781" t="17439" r="42104" b="64450"/>
          <a:stretch/>
        </p:blipFill>
        <p:spPr>
          <a:xfrm>
            <a:off x="0" y="0"/>
            <a:ext cx="472140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rcRect l="20781" t="30464" r="60269" b="30464"/>
          <a:stretch/>
        </p:blipFill>
        <p:spPr>
          <a:xfrm>
            <a:off x="228600" y="1905120"/>
            <a:ext cx="3301920" cy="4952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rcRect l="21569" t="30464" r="60269" b="31551"/>
          <a:stretch/>
        </p:blipFill>
        <p:spPr>
          <a:xfrm>
            <a:off x="4419720" y="1981080"/>
            <a:ext cx="3055680" cy="46483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5486400" y="304920"/>
            <a:ext cx="3352680" cy="1600200"/>
          </a:xfrm>
          <a:custGeom>
            <a:avLst/>
            <a:gdLst>
              <a:gd name="textAreaLeft" fmla="*/ 0 w 3352680"/>
              <a:gd name="textAreaRight" fmla="*/ 3353040 w 335268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ient may w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roced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39951" t="36771" r="43279" b="47313"/>
          <a:stretch/>
        </p:blipFill>
        <p:spPr>
          <a:xfrm>
            <a:off x="228600" y="457200"/>
            <a:ext cx="4267080" cy="2133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rcRect l="21569" t="29376" r="60269" b="30464"/>
          <a:stretch/>
        </p:blipFill>
        <p:spPr>
          <a:xfrm>
            <a:off x="4786200" y="304920"/>
            <a:ext cx="3884760" cy="6248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rcRect l="21569" t="30464" r="60269" b="30464"/>
          <a:stretch/>
        </p:blipFill>
        <p:spPr>
          <a:xfrm>
            <a:off x="4267080" y="228600"/>
            <a:ext cx="3748320" cy="586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rcRect l="39951" t="54497" r="42104" b="24100"/>
          <a:stretch/>
        </p:blipFill>
        <p:spPr>
          <a:xfrm>
            <a:off x="228600" y="2362320"/>
            <a:ext cx="3962520" cy="344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3"/>
          <a:srcRect l="21979" t="75085" r="42104" b="19752"/>
          <a:stretch/>
        </p:blipFill>
        <p:spPr>
          <a:xfrm>
            <a:off x="228600" y="5776920"/>
            <a:ext cx="8153280" cy="8524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/>
          <p:cNvSpPr/>
          <p:nvPr/>
        </p:nvSpPr>
        <p:spPr>
          <a:xfrm>
            <a:off x="8177040" y="685800"/>
            <a:ext cx="914400" cy="2362320"/>
          </a:xfrm>
          <a:prstGeom prst="borderCallout1">
            <a:avLst>
              <a:gd name="adj1" fmla="val 18750"/>
              <a:gd name="adj2" fmla="val -8333"/>
              <a:gd name="adj3" fmla="val 109476"/>
              <a:gd name="adj4" fmla="val -67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apping sounds will get slower and slower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09:11Z</dcterms:created>
  <dc:creator>Rene McCormick</dc:creator>
  <dc:description/>
  <dc:language>en-US</dc:language>
  <cp:lastModifiedBy> René McCormick</cp:lastModifiedBy>
  <dcterms:modified xsi:type="dcterms:W3CDTF">2008-02-21T21:24:26Z</dcterms:modified>
  <cp:revision>4</cp:revision>
  <dc:subject/>
  <dc:title>PowerPoint Presentation</dc:title>
</cp:coreProperties>
</file>