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28A-E096-4314-9468-F0CCE7435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1B6F-15E6-4341-82C2-D4BE112AD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390-E619-4928-B3E3-2DCBED542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448A-6BDB-44DE-9870-DB927EE61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D696-6CD7-470F-A712-4550BC4E1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829F-5D73-4048-A578-41FBC0854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15B-098E-43ED-8597-B90CC9037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5DF4-E47D-44EC-A6F3-2B8546060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9425-9FC1-4E0F-BD08-48DD90351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23C-5BD9-4384-8529-45990612B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0202-A1C0-4D14-86CD-F7815D1B5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DB84-57F5-4DDB-ABB6-57D024043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411D-8897-4197-AFC9-C4CAF85CF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C868-5287-4E36-8FE8-49365F085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1A8-80D9-4A93-AD2D-09E2C132D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F0A-EEB8-4895-A139-DF63C27D3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56A0-1D3F-40BD-B069-747550A07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2871-38FE-43A6-A12B-E78EB7861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F00A-997E-4FAF-B9A5-568DF7888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F3B-AB96-4904-AC1D-66FC9E448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6565-1AA4-43B9-A513-DBD5C1EA5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A197-690D-47D0-AE89-0A12F0834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F6B-52C2-4CE1-BCD7-5684F122C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FDAE-82E8-4581-B37F-D2DDB9A6A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E269-8E42-4A1B-9910-8D67F3A57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DAC-1D51-4A92-A355-F6FBE081D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45E-7AF3-4A3F-8072-A039BC4FF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4CB9-616B-4CCC-8396-6FE8B1393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3B8-FFB0-4C20-A064-7195CC705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E9BE-0812-4373-AB99-DCE3141B7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492D-C90D-42BA-921E-6D6B93EA4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A1F4-1A64-4FAC-803A-67C9A9ECE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4D7C-5D0C-4FBC-B7F5-D9F186826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EF27-304F-4543-BA00-1DFCA3600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1825-14AD-4DC6-AB71-501A84412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6F9-D861-478D-8BFD-036E1481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276-EAAA-40E9-A154-46E9FFD5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94C-9053-4ACA-8D90-1F723EEE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FBC-8648-44D4-96C2-D2DBC09D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B28-66E5-4644-ABF1-860E624F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475-6BDB-4F29-8491-E7D2E5A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CF8-0A21-4666-A94D-6657A1FD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CF7-27EA-489D-93A9-DBD8AA0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A9B-3DAF-4B25-B93E-4F7C83E2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235-5D2D-4C50-A8FE-310E92B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998-C278-4B35-9BCC-9D412525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ED9-BEDE-4F1F-B4C5-3837BC07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D4FC-9753-448B-9110-46ADBA52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324" t="25033" r="38202" b="15265"/>
          <a:stretch/>
        </p:blipFill>
        <p:spPr>
          <a:xfrm>
            <a:off x="1600200" y="16765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19324" t="22864" r="36630" b="12009"/>
          <a:stretch/>
        </p:blipFill>
        <p:spPr>
          <a:xfrm>
            <a:off x="1523880" y="0"/>
            <a:ext cx="6045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29376" r="42104" b="31110"/>
          <a:stretch/>
        </p:blipFill>
        <p:spPr>
          <a:xfrm>
            <a:off x="0" y="61920"/>
            <a:ext cx="77724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3"/>
          <p:cNvSpPr/>
          <p:nvPr/>
        </p:nvSpPr>
        <p:spPr>
          <a:xfrm>
            <a:off x="7620120" y="2133720"/>
            <a:ext cx="1523880" cy="1828800"/>
          </a:xfrm>
          <a:prstGeom prst="wedgeRoundRectCallout">
            <a:avLst>
              <a:gd name="adj1" fmla="val -167500"/>
              <a:gd name="adj2" fmla="val 47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ice the sensitive weeds died, only the naturally resistant rem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199" t="20695" r="38156" b="7666"/>
          <a:stretch/>
        </p:blipFill>
        <p:spPr>
          <a:xfrm>
            <a:off x="1600200" y="0"/>
            <a:ext cx="561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19199" t="18521" r="38156" b="6584"/>
          <a:stretch/>
        </p:blipFill>
        <p:spPr>
          <a:xfrm>
            <a:off x="160020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19199" t="17439" r="40525" b="44575"/>
          <a:stretch/>
        </p:blipFill>
        <p:spPr>
          <a:xfrm>
            <a:off x="0" y="228600"/>
            <a:ext cx="89154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20781" t="30464" r="42104" b="17439"/>
          <a:stretch/>
        </p:blipFill>
        <p:spPr>
          <a:xfrm>
            <a:off x="1752480" y="0"/>
            <a:ext cx="6715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"/>
          <p:cNvSpPr/>
          <p:nvPr/>
        </p:nvSpPr>
        <p:spPr>
          <a:xfrm>
            <a:off x="228600" y="1219320"/>
            <a:ext cx="1219320" cy="685800"/>
          </a:xfrm>
          <a:prstGeom prst="wedgeRectCallout">
            <a:avLst>
              <a:gd name="adj1" fmla="val 90106"/>
              <a:gd name="adj2" fmla="val 23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380880" y="4952880"/>
            <a:ext cx="1067040" cy="609840"/>
          </a:xfrm>
          <a:prstGeom prst="wedgeRectCallout">
            <a:avLst>
              <a:gd name="adj1" fmla="val 100745"/>
              <a:gd name="adj2" fmla="val -197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q = aa = 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228600" y="2666880"/>
            <a:ext cx="1143000" cy="1752840"/>
          </a:xfrm>
          <a:prstGeom prst="wedgeRectCallout">
            <a:avLst>
              <a:gd name="adj1" fmla="val 98055"/>
              <a:gd name="adj2" fmla="val -15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nett square—2 “boxes” would have Aa, 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Aa = 2p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23-03a-HardyWeinberg-L"/>
          <p:cNvPicPr/>
          <p:nvPr/>
        </p:nvPicPr>
        <p:blipFill>
          <a:blip r:embed="rId1"/>
          <a:stretch/>
        </p:blipFill>
        <p:spPr>
          <a:xfrm>
            <a:off x="1143000" y="304920"/>
            <a:ext cx="71629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23-03b-HardyWeinberg-L"/>
          <p:cNvPicPr/>
          <p:nvPr/>
        </p:nvPicPr>
        <p:blipFill>
          <a:blip r:embed="rId1"/>
          <a:stretch/>
        </p:blipFill>
        <p:spPr>
          <a:xfrm>
            <a:off x="838080" y="96840"/>
            <a:ext cx="754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9990" t="20695" r="38156" b="5497"/>
          <a:stretch/>
        </p:blipFill>
        <p:spPr>
          <a:xfrm>
            <a:off x="1676520" y="0"/>
            <a:ext cx="51069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16352" r="42895" b="13096"/>
          <a:stretch/>
        </p:blipFill>
        <p:spPr>
          <a:xfrm>
            <a:off x="182880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19199" t="16352" r="39734" b="4410"/>
          <a:stretch/>
        </p:blipFill>
        <p:spPr>
          <a:xfrm>
            <a:off x="1600200" y="0"/>
            <a:ext cx="4722840" cy="662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20109" t="23951" r="42923" b="25033"/>
          <a:stretch/>
        </p:blipFill>
        <p:spPr>
          <a:xfrm>
            <a:off x="160020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21569" t="17439" r="42895" b="16352"/>
          <a:stretch/>
        </p:blipFill>
        <p:spPr>
          <a:xfrm>
            <a:off x="1828800" y="0"/>
            <a:ext cx="50594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0781" t="23951" r="42895" b="5497"/>
          <a:stretch/>
        </p:blipFill>
        <p:spPr>
          <a:xfrm>
            <a:off x="175248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9608" r="42104" b="5497"/>
          <a:stretch/>
        </p:blipFill>
        <p:spPr>
          <a:xfrm>
            <a:off x="1752480" y="0"/>
            <a:ext cx="4464000" cy="65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2104" b="20695"/>
          <a:stretch/>
        </p:blipFill>
        <p:spPr>
          <a:xfrm>
            <a:off x="175248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9608" r="42895" b="4410"/>
          <a:stretch/>
        </p:blipFill>
        <p:spPr>
          <a:xfrm>
            <a:off x="1752480" y="0"/>
            <a:ext cx="4507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20423" t="25033" r="41876" b="33720"/>
          <a:stretch/>
        </p:blipFill>
        <p:spPr>
          <a:xfrm>
            <a:off x="0" y="349200"/>
            <a:ext cx="7924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0781" t="23951" r="42895" b="23951"/>
          <a:stretch/>
        </p:blipFill>
        <p:spPr>
          <a:xfrm>
            <a:off x="1752480" y="0"/>
            <a:ext cx="657252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18521" r="41317" b="5497"/>
          <a:stretch/>
        </p:blipFill>
        <p:spPr>
          <a:xfrm>
            <a:off x="1676520" y="1219320"/>
            <a:ext cx="3733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19990" t="18521" r="42104" b="7666"/>
          <a:stretch/>
        </p:blipFill>
        <p:spPr>
          <a:xfrm>
            <a:off x="1676520" y="0"/>
            <a:ext cx="48402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1569" t="23951" r="42895" b="44575"/>
          <a:stretch/>
        </p:blipFill>
        <p:spPr>
          <a:xfrm>
            <a:off x="228600" y="380880"/>
            <a:ext cx="891540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rcRect l="19990" t="23951" r="40525" b="9840"/>
          <a:stretch/>
        </p:blipFill>
        <p:spPr>
          <a:xfrm>
            <a:off x="167652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198" t="16352" r="42104" b="12153"/>
          <a:stretch/>
        </p:blipFill>
        <p:spPr>
          <a:xfrm>
            <a:off x="1143000" y="0"/>
            <a:ext cx="76201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6352" r="42895" b="3323"/>
          <a:stretch/>
        </p:blipFill>
        <p:spPr>
          <a:xfrm>
            <a:off x="1752480" y="0"/>
            <a:ext cx="41688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1569" t="17952" r="41317" b="31120"/>
          <a:stretch/>
        </p:blipFill>
        <p:spPr>
          <a:xfrm>
            <a:off x="1676520" y="380880"/>
            <a:ext cx="62578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9990" t="18521" r="42104" b="8753"/>
          <a:stretch/>
        </p:blipFill>
        <p:spPr>
          <a:xfrm>
            <a:off x="1676520" y="0"/>
            <a:ext cx="49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19990" t="18521" r="42895" b="16352"/>
          <a:stretch/>
        </p:blipFill>
        <p:spPr>
          <a:xfrm>
            <a:off x="1676520" y="0"/>
            <a:ext cx="5194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6603" t="37418" r="6603" b="27160"/>
          <a:stretch/>
        </p:blipFill>
        <p:spPr>
          <a:xfrm>
            <a:off x="609480" y="1752480"/>
            <a:ext cx="8229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9199" t="17439" r="40525" b="18521"/>
          <a:stretch/>
        </p:blipFill>
        <p:spPr>
          <a:xfrm>
            <a:off x="1447920" y="0"/>
            <a:ext cx="5796000" cy="6705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2057400"/>
            <a:ext cx="1524240" cy="2133720"/>
          </a:xfrm>
          <a:prstGeom prst="wedgeRectCallout">
            <a:avLst>
              <a:gd name="adj1" fmla="val 117291"/>
              <a:gd name="adj2" fmla="val 40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the gametes are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9990" t="23951" r="40525" b="6584"/>
          <a:stretch/>
        </p:blipFill>
        <p:spPr>
          <a:xfrm>
            <a:off x="1378080" y="0"/>
            <a:ext cx="53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25033" r="41317" b="17439"/>
          <a:stretch/>
        </p:blipFill>
        <p:spPr>
          <a:xfrm>
            <a:off x="1752480" y="0"/>
            <a:ext cx="6072480" cy="6705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6095880" y="29718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9990" t="25033" r="42104" b="7666"/>
          <a:stretch/>
        </p:blipFill>
        <p:spPr>
          <a:xfrm>
            <a:off x="1676520" y="0"/>
            <a:ext cx="531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1569" t="29376" r="42104" b="27207"/>
          <a:stretch/>
        </p:blipFill>
        <p:spPr>
          <a:xfrm>
            <a:off x="914400" y="298440"/>
            <a:ext cx="7543800" cy="655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6:59:56Z</dcterms:created>
  <dc:creator>Rene McCormick</dc:creator>
  <dc:description/>
  <dc:language>en-US</dc:language>
  <cp:lastModifiedBy> René McCormick</cp:lastModifiedBy>
  <dcterms:modified xsi:type="dcterms:W3CDTF">2008-02-21T21:22:46Z</dcterms:modified>
  <cp:revision>9</cp:revision>
  <dc:subject/>
  <dc:title>PowerPoint Presentation</dc:title>
</cp:coreProperties>
</file>