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9390-445C-4AD0-A215-F45C77A7CC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7BEC-DDB9-4D1D-B7C4-2C550A136B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E669-3594-48F5-BEEC-EBF9AC1400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6C87-C79B-41A9-A653-7FF5935BEF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3581-7EA9-4B0E-B994-32D9AACFAA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59C6-13AB-41BD-9071-DCAA721949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6ED6-397F-439B-B655-3004EE1CA9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7B25-9DB9-417A-8448-3F4B6439C0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5DA8-50A3-49F8-A11E-99529E4358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7D70-04C2-469B-B262-6D8EB0ACE7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3E72-C494-417D-8904-2842C6F08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02B3-3E18-4140-AFBE-C8CADB281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6E6B-EB3E-46BD-9505-6260D2808E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3806-4FA4-4D20-9DFD-764EF65515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3A52-3AA7-4616-8A63-155CEF727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3463-C17C-4801-8976-4259A14FA3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E910-7104-4B04-8E12-9BE2BC26D7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80A0-643B-4FA2-A254-3C5B25A248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1CD3-FF5D-47F9-8B6A-FDB2E214F4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7CAE-DBF9-4403-A22D-DB36A26287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939D-DF29-440F-B287-9B511E0EF1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B4E8-6122-4CF8-A252-1540C4EF01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DE9F-52CE-4C99-8DA8-DD7965FDB2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4CF7-EB77-4B4F-B489-08E107CFF4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5289-6C17-4749-8B04-D26E36F208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072C-1036-4A0F-89C4-A38FCFDF9E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25E9-B4E4-4603-BE72-AA8F3B6B65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004A-522E-4A54-9408-40727DCF1B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8E57-7AD5-45AD-973C-EF4134F4E6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05EC-3C47-4DE5-B02C-098DC55234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000C-D4C9-41CD-A3AD-64BD4F3B1F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5559-A042-470C-A625-7D98DE2DC5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6D75-5AC8-4256-BD3C-3CC8978F7B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7F78-1DC2-4E7B-AA03-FBF9A1F51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CF04-8B07-4C7C-BF91-02BEC292C7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4F31-A791-453C-950A-B5BABAC2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79DD-3682-4A7F-8029-C464B93E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260-F7D6-49E2-945F-FAC64A2C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240D-FA68-4D1A-8EAC-C27705CF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65B9-422A-4196-BAAC-5478F097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9179-D426-47F9-86A6-7D06DAF3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C7F-341A-4247-8008-C454498B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257-9F66-4E41-9FDE-25F98A82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5AE8-E0AF-48D3-BD91-2F30D3DB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35E-5B0B-4028-A831-A8EE5E08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6347-886B-4B3D-89B3-310D9279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9ED-5CAA-43B8-9F45-913E28EE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756F-94EF-475C-88CF-859BDC0D0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324" t="25033" r="38202" b="15265"/>
          <a:stretch/>
        </p:blipFill>
        <p:spPr>
          <a:xfrm>
            <a:off x="1600200" y="1676520"/>
            <a:ext cx="4114800" cy="419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19324" t="22864" r="36630" b="12009"/>
          <a:stretch/>
        </p:blipFill>
        <p:spPr>
          <a:xfrm>
            <a:off x="1523880" y="0"/>
            <a:ext cx="60454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20781" t="29376" r="42104" b="31110"/>
          <a:stretch/>
        </p:blipFill>
        <p:spPr>
          <a:xfrm>
            <a:off x="0" y="61920"/>
            <a:ext cx="7772400" cy="6019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"/>
          <p:cNvSpPr/>
          <p:nvPr/>
        </p:nvSpPr>
        <p:spPr>
          <a:xfrm>
            <a:off x="7620120" y="2133720"/>
            <a:ext cx="1523880" cy="1828800"/>
          </a:xfrm>
          <a:prstGeom prst="wedgeRoundRectCallout">
            <a:avLst>
              <a:gd name="adj1" fmla="val -167500"/>
              <a:gd name="adj2" fmla="val 4713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ice the sensitive weeds died, only the naturally resistant rem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19199" t="20695" r="38156" b="7666"/>
          <a:stretch/>
        </p:blipFill>
        <p:spPr>
          <a:xfrm>
            <a:off x="1600200" y="0"/>
            <a:ext cx="561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19199" t="18521" r="38156" b="6584"/>
          <a:stretch/>
        </p:blipFill>
        <p:spPr>
          <a:xfrm>
            <a:off x="1600200" y="0"/>
            <a:ext cx="53672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rcRect l="19199" t="17439" r="40525" b="44575"/>
          <a:stretch/>
        </p:blipFill>
        <p:spPr>
          <a:xfrm>
            <a:off x="0" y="228600"/>
            <a:ext cx="89154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20781" t="30464" r="42104" b="17439"/>
          <a:stretch/>
        </p:blipFill>
        <p:spPr>
          <a:xfrm>
            <a:off x="1752480" y="0"/>
            <a:ext cx="67150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4"/>
          <p:cNvSpPr/>
          <p:nvPr/>
        </p:nvSpPr>
        <p:spPr>
          <a:xfrm>
            <a:off x="228600" y="1219320"/>
            <a:ext cx="1219320" cy="685800"/>
          </a:xfrm>
          <a:prstGeom prst="wedgeRectCallout">
            <a:avLst>
              <a:gd name="adj1" fmla="val 90106"/>
              <a:gd name="adj2" fmla="val 237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 = AA = p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380880" y="4952880"/>
            <a:ext cx="1067040" cy="609840"/>
          </a:xfrm>
          <a:prstGeom prst="wedgeRectCallout">
            <a:avLst>
              <a:gd name="adj1" fmla="val 100745"/>
              <a:gd name="adj2" fmla="val -1979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q = aa = p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228600" y="2666880"/>
            <a:ext cx="1143000" cy="1752840"/>
          </a:xfrm>
          <a:prstGeom prst="wedgeRectCallout">
            <a:avLst>
              <a:gd name="adj1" fmla="val 98055"/>
              <a:gd name="adj2" fmla="val -15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n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nnett square—2 “boxes” would have Aa, 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Aa = 2p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23-03a-HardyWeinberg-L"/>
          <p:cNvPicPr/>
          <p:nvPr/>
        </p:nvPicPr>
        <p:blipFill>
          <a:blip r:embed="rId1"/>
          <a:stretch/>
        </p:blipFill>
        <p:spPr>
          <a:xfrm>
            <a:off x="1143000" y="304920"/>
            <a:ext cx="716292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23-03b-HardyWeinberg-L"/>
          <p:cNvPicPr/>
          <p:nvPr/>
        </p:nvPicPr>
        <p:blipFill>
          <a:blip r:embed="rId1"/>
          <a:stretch/>
        </p:blipFill>
        <p:spPr>
          <a:xfrm>
            <a:off x="838080" y="96840"/>
            <a:ext cx="75438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19990" t="20695" r="38156" b="5497"/>
          <a:stretch/>
        </p:blipFill>
        <p:spPr>
          <a:xfrm>
            <a:off x="1676520" y="0"/>
            <a:ext cx="51069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1569" t="16352" r="42895" b="13096"/>
          <a:stretch/>
        </p:blipFill>
        <p:spPr>
          <a:xfrm>
            <a:off x="1828800" y="0"/>
            <a:ext cx="474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19199" t="16352" r="39734" b="4410"/>
          <a:stretch/>
        </p:blipFill>
        <p:spPr>
          <a:xfrm>
            <a:off x="1600200" y="0"/>
            <a:ext cx="4722840" cy="6629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20109" t="23951" r="42923" b="25033"/>
          <a:stretch/>
        </p:blipFill>
        <p:spPr>
          <a:xfrm>
            <a:off x="1600200" y="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rcRect l="21569" t="17439" r="42895" b="16352"/>
          <a:stretch/>
        </p:blipFill>
        <p:spPr>
          <a:xfrm>
            <a:off x="1828800" y="0"/>
            <a:ext cx="50594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20781" t="23951" r="42895" b="5497"/>
          <a:stretch/>
        </p:blipFill>
        <p:spPr>
          <a:xfrm>
            <a:off x="1752480" y="0"/>
            <a:ext cx="485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781" t="19608" r="42104" b="5497"/>
          <a:stretch/>
        </p:blipFill>
        <p:spPr>
          <a:xfrm>
            <a:off x="1752480" y="0"/>
            <a:ext cx="4464000" cy="655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25033" r="42104" b="20695"/>
          <a:stretch/>
        </p:blipFill>
        <p:spPr>
          <a:xfrm>
            <a:off x="1752480" y="0"/>
            <a:ext cx="64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0781" t="19608" r="42895" b="4410"/>
          <a:stretch/>
        </p:blipFill>
        <p:spPr>
          <a:xfrm>
            <a:off x="1752480" y="0"/>
            <a:ext cx="45072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20423" t="25033" r="41876" b="33720"/>
          <a:stretch/>
        </p:blipFill>
        <p:spPr>
          <a:xfrm>
            <a:off x="0" y="349200"/>
            <a:ext cx="79246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20781" t="23951" r="42895" b="23951"/>
          <a:stretch/>
        </p:blipFill>
        <p:spPr>
          <a:xfrm>
            <a:off x="1752480" y="0"/>
            <a:ext cx="657252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19990" t="18521" r="41317" b="5497"/>
          <a:stretch/>
        </p:blipFill>
        <p:spPr>
          <a:xfrm>
            <a:off x="1676520" y="1219320"/>
            <a:ext cx="37335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19990" t="18521" r="42104" b="7666"/>
          <a:stretch/>
        </p:blipFill>
        <p:spPr>
          <a:xfrm>
            <a:off x="1676520" y="0"/>
            <a:ext cx="48402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21569" t="23951" r="42895" b="44575"/>
          <a:stretch/>
        </p:blipFill>
        <p:spPr>
          <a:xfrm>
            <a:off x="228600" y="380880"/>
            <a:ext cx="891540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rcRect l="19990" t="23951" r="40525" b="9840"/>
          <a:stretch/>
        </p:blipFill>
        <p:spPr>
          <a:xfrm>
            <a:off x="1676520" y="0"/>
            <a:ext cx="562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4198" t="16352" r="42104" b="12153"/>
          <a:stretch/>
        </p:blipFill>
        <p:spPr>
          <a:xfrm>
            <a:off x="1143000" y="0"/>
            <a:ext cx="762012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20781" t="16352" r="42895" b="3323"/>
          <a:stretch/>
        </p:blipFill>
        <p:spPr>
          <a:xfrm>
            <a:off x="1752480" y="0"/>
            <a:ext cx="4168800" cy="6705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21569" t="17952" r="41317" b="31120"/>
          <a:stretch/>
        </p:blipFill>
        <p:spPr>
          <a:xfrm>
            <a:off x="1676520" y="380880"/>
            <a:ext cx="625788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19990" t="18521" r="42104" b="8753"/>
          <a:stretch/>
        </p:blipFill>
        <p:spPr>
          <a:xfrm>
            <a:off x="1676520" y="0"/>
            <a:ext cx="491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19990" t="18521" r="42895" b="16352"/>
          <a:stretch/>
        </p:blipFill>
        <p:spPr>
          <a:xfrm>
            <a:off x="1676520" y="0"/>
            <a:ext cx="5194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6603" t="37418" r="6603" b="27160"/>
          <a:stretch/>
        </p:blipFill>
        <p:spPr>
          <a:xfrm>
            <a:off x="609480" y="1752480"/>
            <a:ext cx="82296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19199" t="17439" r="40525" b="18521"/>
          <a:stretch/>
        </p:blipFill>
        <p:spPr>
          <a:xfrm>
            <a:off x="1447920" y="0"/>
            <a:ext cx="5796000" cy="67057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3"/>
          <p:cNvSpPr/>
          <p:nvPr/>
        </p:nvSpPr>
        <p:spPr>
          <a:xfrm>
            <a:off x="152280" y="2057400"/>
            <a:ext cx="1524240" cy="2133720"/>
          </a:xfrm>
          <a:prstGeom prst="wedgeRectCallout">
            <a:avLst>
              <a:gd name="adj1" fmla="val 117291"/>
              <a:gd name="adj2" fmla="val 408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where the gametes are rele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19990" t="23951" r="40525" b="6584"/>
          <a:stretch/>
        </p:blipFill>
        <p:spPr>
          <a:xfrm>
            <a:off x="1378080" y="0"/>
            <a:ext cx="535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20781" t="25033" r="41317" b="17439"/>
          <a:stretch/>
        </p:blipFill>
        <p:spPr>
          <a:xfrm>
            <a:off x="1752480" y="0"/>
            <a:ext cx="6072480" cy="6705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/>
          <p:cNvSpPr/>
          <p:nvPr/>
        </p:nvSpPr>
        <p:spPr>
          <a:xfrm>
            <a:off x="6095880" y="2971800"/>
            <a:ext cx="1143000" cy="457200"/>
          </a:xfrm>
          <a:prstGeom prst="leftArrow">
            <a:avLst>
              <a:gd name="adj1" fmla="val 50000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19990" t="25033" r="42104" b="7666"/>
          <a:stretch/>
        </p:blipFill>
        <p:spPr>
          <a:xfrm>
            <a:off x="1676520" y="0"/>
            <a:ext cx="531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21569" t="29376" r="42104" b="27207"/>
          <a:stretch/>
        </p:blipFill>
        <p:spPr>
          <a:xfrm>
            <a:off x="914400" y="298440"/>
            <a:ext cx="7543800" cy="6559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6:59:56Z</dcterms:created>
  <dc:creator>Rene McCormick</dc:creator>
  <dc:description/>
  <dc:language>en-US</dc:language>
  <cp:lastModifiedBy> René McCormick</cp:lastModifiedBy>
  <dcterms:modified xsi:type="dcterms:W3CDTF">2008-02-21T21:22:46Z</dcterms:modified>
  <cp:revision>9</cp:revision>
  <dc:subject/>
  <dc:title>PowerPoint Presentation</dc:title>
</cp:coreProperties>
</file>