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C468-2D55-4127-9EDF-B5F5DFBB63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F5F9-6B6D-4392-91DD-04BFD1A974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41CA-DB79-437B-A332-8B566586F6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7D4E-78FB-4D43-910C-D44050FAF1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DE41-8588-484D-9A65-DC7E3C1323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CCA9-1337-46BA-89FE-72EAEF1647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A837-B846-4A73-9C75-2ABF4DF8D1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D33D-280B-4F2F-8CAF-74433FCE7C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00B3-0F05-4AD9-A9B2-E98008C90B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6F3A-3F02-4828-9B40-806F088322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EE95-7EF4-4509-8267-30FA89E7A7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8BE4-BFDC-428B-82DD-9A0E7F3CDC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90BE-0788-4D7A-83E7-38404BB507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AF61-5039-49B7-B402-6CF73DE863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E1D5-3455-416B-BFA1-F5C4CE430F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995F-0E53-43E9-A047-00FBF5276B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7C0B-9272-4A13-ACBE-A90ACCD3CA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8238-6E9F-4B19-BE24-5ADC8B2A04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A9C7-EB28-4ABE-904F-3A486DA92F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07E4-EB96-46EA-AEF0-15DE1A1012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1CC5-C984-49F8-93E9-34C3A19737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E87C-3DDA-4557-A955-7C8FC1CD1A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39B5-6529-493F-A69B-78F7E36E4B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472B-50EF-4FB7-80F5-10963EDB41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7A5E-DBAE-4EED-B926-FEEDB3463A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4731-3C27-49EB-BD58-CAFA0C038C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5700-AE9D-4149-8638-EBCBB2872B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8545-0524-426B-B518-10AC2659EF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279B-E54D-4D61-BB3E-F50DE02AC0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97B0-28F2-4624-A752-54581894E4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4D88-31D4-4BFD-9269-BCBAAEF30A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B321-2403-4D29-A95F-F1CD62D094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4B6C-9796-4B66-8DE8-181339CDC6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81A7-2E6A-4DE0-82CB-9808FCA0D9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1231-2086-41ED-8C38-1620B72229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2147-4D53-4DCA-928A-BBA3CA7555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9EF4-3173-40E3-850E-03B9C2FA91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D2BD-6E23-436B-8995-32B1A51345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E4FD-BFC4-4F81-92D6-8C90997470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CB8B-C945-47D3-9313-FE551C18D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629E-BE85-4887-93EB-86C18920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2084-3DCD-49FC-8F70-0481CF010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A124-7A5F-46BD-B8E1-A30B5D162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5737-4042-4AF1-9796-10EB6301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6F60-2804-44D2-BB8B-56B26369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913A-0E42-40D6-8BBC-6F806692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96C5-8A63-4798-BC08-5CC99CC2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3537-1FB1-4A95-BA5F-BFE46C93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EB31-13ED-4F44-BBB8-8ECFE406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FF03-59E1-4A68-8DE4-DCD4FC27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2981-8A0F-4B34-963D-3FB707BD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BDA2-80BE-4EE9-89EA-955D9674B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20696" t="44626" r="48034" b="5675"/>
          <a:stretch/>
        </p:blipFill>
        <p:spPr>
          <a:xfrm>
            <a:off x="4968720" y="0"/>
            <a:ext cx="4175280" cy="6172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rcRect l="18656" t="16490" r="42951" b="55977"/>
          <a:stretch/>
        </p:blipFill>
        <p:spPr>
          <a:xfrm>
            <a:off x="0" y="0"/>
            <a:ext cx="5105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19441" t="30543" r="39815" b="17567"/>
          <a:stretch/>
        </p:blipFill>
        <p:spPr>
          <a:xfrm>
            <a:off x="762120" y="176040"/>
            <a:ext cx="7238880" cy="6681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rcRect l="17875" t="20811" r="38249" b="23227"/>
          <a:stretch/>
        </p:blipFill>
        <p:spPr>
          <a:xfrm>
            <a:off x="0" y="0"/>
            <a:ext cx="7467480" cy="663588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3"/>
          <p:cNvSpPr/>
          <p:nvPr/>
        </p:nvSpPr>
        <p:spPr>
          <a:xfrm>
            <a:off x="7086600" y="1219320"/>
            <a:ext cx="1752480" cy="2654280"/>
          </a:xfrm>
          <a:prstGeom prst="wedgeRectCallout">
            <a:avLst>
              <a:gd name="adj1" fmla="val -54064"/>
              <a:gd name="adj2" fmla="val 67953"/>
            </a:avLst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often removed the flies so there were no hints about the parent’s mu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Oval 5"/>
          <p:cNvSpPr/>
          <p:nvPr/>
        </p:nvSpPr>
        <p:spPr>
          <a:xfrm>
            <a:off x="3276720" y="3657600"/>
            <a:ext cx="1904760" cy="60948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rcRect l="18804" t="17297" r="39667" b="16760"/>
          <a:stretch/>
        </p:blipFill>
        <p:spPr>
          <a:xfrm>
            <a:off x="1523880" y="0"/>
            <a:ext cx="5958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3"/>
          <p:cNvSpPr/>
          <p:nvPr/>
        </p:nvSpPr>
        <p:spPr>
          <a:xfrm>
            <a:off x="7620120" y="0"/>
            <a:ext cx="1523880" cy="1143000"/>
          </a:xfrm>
          <a:prstGeom prst="wedgeRectCallout">
            <a:avLst>
              <a:gd name="adj1" fmla="val -43518"/>
              <a:gd name="adj2" fmla="val 6597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the games begi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5410080" y="2133720"/>
            <a:ext cx="3581640" cy="1828800"/>
          </a:xfrm>
          <a:prstGeom prst="wedgeRoundRectCallout">
            <a:avLst>
              <a:gd name="adj1" fmla="val -76597"/>
              <a:gd name="adj2" fmla="val -5920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’s important that you harvest VIRGIN ♀’s.  Once a ♀ has mated, she need never mate again.  She stores enough eggs for a lifetime and YOU won’t know who the father was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5257800" y="3962520"/>
            <a:ext cx="1828800" cy="380880"/>
          </a:xfrm>
          <a:prstGeom prst="leftArrow">
            <a:avLst>
              <a:gd name="adj1" fmla="val 72500"/>
              <a:gd name="adj2" fmla="val 12646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rcRect l="19441" t="17567" r="42166" b="15407"/>
          <a:stretch/>
        </p:blipFill>
        <p:spPr>
          <a:xfrm>
            <a:off x="1600200" y="0"/>
            <a:ext cx="54198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3"/>
          <p:cNvSpPr/>
          <p:nvPr/>
        </p:nvSpPr>
        <p:spPr>
          <a:xfrm>
            <a:off x="6781680" y="0"/>
            <a:ext cx="2362320" cy="5029200"/>
          </a:xfrm>
          <a:prstGeom prst="wedgeEllipseCallout">
            <a:avLst>
              <a:gd name="adj1" fmla="val -82592"/>
              <a:gd name="adj2" fmla="val 4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n’t have all of these….my kids skipped this step since they were handed ONLY a vial of maggo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rcRect l="20226" t="62975" r="42951" b="4664"/>
          <a:stretch/>
        </p:blipFill>
        <p:spPr>
          <a:xfrm>
            <a:off x="304920" y="1189080"/>
            <a:ext cx="8534160" cy="5435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rcRect l="20226" t="20811" r="42166" b="16484"/>
          <a:stretch/>
        </p:blipFill>
        <p:spPr>
          <a:xfrm>
            <a:off x="1676520" y="0"/>
            <a:ext cx="5675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rcRect l="20226" t="50005" r="42166" b="17567"/>
          <a:stretch/>
        </p:blipFill>
        <p:spPr>
          <a:xfrm>
            <a:off x="380880" y="228600"/>
            <a:ext cx="8534520" cy="59436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rcRect l="20226" t="24055" r="41381" b="32703"/>
          <a:stretch/>
        </p:blipFill>
        <p:spPr>
          <a:xfrm>
            <a:off x="152280" y="108000"/>
            <a:ext cx="7467840" cy="66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20226" t="20811" r="42951" b="5675"/>
          <a:stretch/>
        </p:blipFill>
        <p:spPr>
          <a:xfrm>
            <a:off x="1465200" y="0"/>
            <a:ext cx="474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20226" t="35947" r="42951" b="16009"/>
          <a:stretch/>
        </p:blipFill>
        <p:spPr>
          <a:xfrm>
            <a:off x="609480" y="12600"/>
            <a:ext cx="72392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20226" t="24055" r="42166" b="17567"/>
          <a:stretch/>
        </p:blipFill>
        <p:spPr>
          <a:xfrm>
            <a:off x="1676520" y="0"/>
            <a:ext cx="6095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20226" t="20811" r="42166" b="17567"/>
          <a:stretch/>
        </p:blipFill>
        <p:spPr>
          <a:xfrm>
            <a:off x="714240" y="0"/>
            <a:ext cx="577548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rcRect l="20374" t="24867" r="43588" b="8107"/>
          <a:stretch/>
        </p:blipFill>
        <p:spPr>
          <a:xfrm>
            <a:off x="1698480" y="0"/>
            <a:ext cx="5088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rcRect l="20226" t="27299" r="42951" b="16484"/>
          <a:stretch/>
        </p:blipFill>
        <p:spPr>
          <a:xfrm>
            <a:off x="712800" y="0"/>
            <a:ext cx="619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20226" t="17567" r="42951" b="16490"/>
          <a:stretch/>
        </p:blipFill>
        <p:spPr>
          <a:xfrm>
            <a:off x="1600200" y="0"/>
            <a:ext cx="5343480" cy="69343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3"/>
          <p:cNvSpPr/>
          <p:nvPr/>
        </p:nvSpPr>
        <p:spPr>
          <a:xfrm>
            <a:off x="6934320" y="304920"/>
            <a:ext cx="2057400" cy="4495680"/>
          </a:xfrm>
          <a:prstGeom prst="wedgeRoundRectCallout">
            <a:avLst>
              <a:gd name="adj1" fmla="val -150722"/>
              <a:gd name="adj2" fmla="val 5618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sex-linked is on the X chromosome NOT the Y.  That way, whatever is on the X IS expressed in a male that is X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rcRect l="21011" t="17567" r="42951" b="50005"/>
          <a:stretch/>
        </p:blipFill>
        <p:spPr>
          <a:xfrm>
            <a:off x="228600" y="0"/>
            <a:ext cx="838188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rcRect l="21011" t="50005" r="42951" b="13246"/>
          <a:stretch/>
        </p:blipFill>
        <p:spPr>
          <a:xfrm>
            <a:off x="228600" y="228600"/>
            <a:ext cx="8915400" cy="658980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3"/>
          <p:cNvSpPr/>
          <p:nvPr/>
        </p:nvSpPr>
        <p:spPr>
          <a:xfrm>
            <a:off x="4191120" y="4419720"/>
            <a:ext cx="457200" cy="838080"/>
          </a:xfrm>
          <a:prstGeom prst="upArrow">
            <a:avLst>
              <a:gd name="adj1" fmla="val 50000"/>
              <a:gd name="adj2" fmla="val 4582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rcRect l="20226" t="25138" r="42951" b="21894"/>
          <a:stretch/>
        </p:blipFill>
        <p:spPr>
          <a:xfrm>
            <a:off x="0" y="0"/>
            <a:ext cx="65786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6553080" y="2971800"/>
          <a:ext cx="2362320" cy="2641680"/>
        </p:xfrm>
        <a:graphic>
          <a:graphicData uri="http://schemas.openxmlformats.org/drawingml/2006/table">
            <a:tbl>
              <a:tblPr/>
              <a:tblGrid>
                <a:gridCol w="787680"/>
                <a:gridCol w="787320"/>
                <a:gridCol w="787320"/>
              </a:tblGrid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AutoShape 63"/>
          <p:cNvSpPr/>
          <p:nvPr/>
        </p:nvSpPr>
        <p:spPr>
          <a:xfrm>
            <a:off x="7086600" y="1143000"/>
            <a:ext cx="1828800" cy="1523880"/>
          </a:xfrm>
          <a:prstGeom prst="cloudCallout">
            <a:avLst>
              <a:gd name="adj1" fmla="val 34810"/>
              <a:gd name="adj2" fmla="val 842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k Punnett squa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rcRect l="2988" t="19728" r="39034" b="6758"/>
          <a:stretch/>
        </p:blipFill>
        <p:spPr>
          <a:xfrm>
            <a:off x="0" y="34920"/>
            <a:ext cx="8001000" cy="67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"/>
          <p:cNvPicPr/>
          <p:nvPr/>
        </p:nvPicPr>
        <p:blipFill>
          <a:blip r:embed="rId1"/>
          <a:srcRect l="2988" t="18650" r="39034" b="12020"/>
          <a:stretch/>
        </p:blipFill>
        <p:spPr>
          <a:xfrm>
            <a:off x="990720" y="0"/>
            <a:ext cx="7696080" cy="667080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5"/>
          <p:cNvSpPr/>
          <p:nvPr/>
        </p:nvSpPr>
        <p:spPr>
          <a:xfrm>
            <a:off x="6172200" y="228600"/>
            <a:ext cx="2514600" cy="1523880"/>
          </a:xfrm>
          <a:custGeom>
            <a:avLst/>
            <a:gdLst>
              <a:gd name="textAreaLeft" fmla="*/ 0 w 2514600"/>
              <a:gd name="textAreaRight" fmla="*/ 2514960 w 2514600"/>
              <a:gd name="textAreaTop" fmla="*/ 197280 h 1523880"/>
              <a:gd name="textAreaBottom" fmla="*/ 132660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m of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7315200" y="6248520"/>
            <a:ext cx="11430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48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20226" t="52166" r="42166" b="18650"/>
          <a:stretch/>
        </p:blipFill>
        <p:spPr>
          <a:xfrm>
            <a:off x="990720" y="1438200"/>
            <a:ext cx="8153280" cy="4586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rcRect l="16527" t="18650" r="39815" b="39191"/>
          <a:stretch/>
        </p:blipFill>
        <p:spPr>
          <a:xfrm>
            <a:off x="0" y="0"/>
            <a:ext cx="6629400" cy="365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rcRect l="20226" t="60814" r="43732" b="19902"/>
          <a:stretch/>
        </p:blipFill>
        <p:spPr>
          <a:xfrm>
            <a:off x="1143000" y="3581280"/>
            <a:ext cx="73915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rcRect l="20226" t="17567" r="42166" b="27661"/>
          <a:stretch/>
        </p:blipFill>
        <p:spPr>
          <a:xfrm>
            <a:off x="1108080" y="0"/>
            <a:ext cx="649908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3"/>
          <p:cNvSpPr/>
          <p:nvPr/>
        </p:nvSpPr>
        <p:spPr>
          <a:xfrm>
            <a:off x="4343400" y="6400800"/>
            <a:ext cx="3276720" cy="4572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rcRect l="20226" t="17567" r="41381" b="10002"/>
          <a:stretch/>
        </p:blipFill>
        <p:spPr>
          <a:xfrm>
            <a:off x="1230480" y="0"/>
            <a:ext cx="501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rcRect l="19441" t="26216" r="41385" b="29460"/>
          <a:stretch/>
        </p:blipFill>
        <p:spPr>
          <a:xfrm>
            <a:off x="1143000" y="228600"/>
            <a:ext cx="7315200" cy="59976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rcRect l="20374" t="44595" r="42021" b="14058"/>
          <a:stretch/>
        </p:blipFill>
        <p:spPr>
          <a:xfrm>
            <a:off x="990720" y="341280"/>
            <a:ext cx="7619760" cy="6072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rcRect l="2988" t="17567" r="39034" b="20525"/>
          <a:stretch/>
        </p:blipFill>
        <p:spPr>
          <a:xfrm>
            <a:off x="0" y="39600"/>
            <a:ext cx="8458200" cy="654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rcRect l="18804" t="17838" r="42803" b="49734"/>
          <a:stretch/>
        </p:blipFill>
        <p:spPr>
          <a:xfrm>
            <a:off x="0" y="133200"/>
            <a:ext cx="9372600" cy="57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rcRect l="18660" t="17567" r="43732" b="27299"/>
          <a:stretch/>
        </p:blipFill>
        <p:spPr>
          <a:xfrm>
            <a:off x="1523880" y="0"/>
            <a:ext cx="60962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rcRect l="19441" t="17567" r="42951" b="34864"/>
          <a:stretch/>
        </p:blipFill>
        <p:spPr>
          <a:xfrm>
            <a:off x="457200" y="95400"/>
            <a:ext cx="73152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rcRect l="19441" t="17567" r="41455" b="7841"/>
          <a:stretch/>
        </p:blipFill>
        <p:spPr>
          <a:xfrm>
            <a:off x="533520" y="0"/>
            <a:ext cx="496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rcRect l="18660" t="24055" r="39815" b="8919"/>
          <a:stretch/>
        </p:blipFill>
        <p:spPr>
          <a:xfrm>
            <a:off x="1523880" y="0"/>
            <a:ext cx="586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rcRect l="5339" t="24055" r="38249" b="21894"/>
          <a:stretch/>
        </p:blipFill>
        <p:spPr>
          <a:xfrm>
            <a:off x="228600" y="171360"/>
            <a:ext cx="8686800" cy="6032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rcRect l="6124" t="25138" r="39034" b="21894"/>
          <a:stretch/>
        </p:blipFill>
        <p:spPr>
          <a:xfrm>
            <a:off x="304920" y="130320"/>
            <a:ext cx="8839080" cy="6186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rcRect l="6124" t="24055" r="39815" b="21894"/>
          <a:stretch/>
        </p:blipFill>
        <p:spPr>
          <a:xfrm>
            <a:off x="304920" y="0"/>
            <a:ext cx="8839080" cy="6405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5339" t="24055" r="40600" b="22977"/>
          <a:stretch/>
        </p:blipFill>
        <p:spPr>
          <a:xfrm>
            <a:off x="228600" y="139680"/>
            <a:ext cx="8763120" cy="6222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rcRect l="6124" t="25138" r="39815" b="21894"/>
          <a:stretch/>
        </p:blipFill>
        <p:spPr>
          <a:xfrm>
            <a:off x="304920" y="52560"/>
            <a:ext cx="8839080" cy="6278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5T16:59:56Z</dcterms:created>
  <dc:creator>Rene McCormick</dc:creator>
  <dc:description/>
  <dc:language>en-US</dc:language>
  <cp:lastModifiedBy> René McCormick</cp:lastModifiedBy>
  <dcterms:modified xsi:type="dcterms:W3CDTF">2008-02-21T21:21:52Z</dcterms:modified>
  <cp:revision>8</cp:revision>
  <dc:subject/>
  <dc:title>PowerPoint Presentation</dc:title>
</cp:coreProperties>
</file>