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7773-8B02-4537-8A93-2CC1C5DAB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2E6C-E665-454A-8661-F16FA3978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68C0-58C5-486B-BB21-6094DADB5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C4FA-569C-4560-96D2-263D6822F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4853-795B-485C-BA4F-8233DA13C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4084-4C92-43B1-8BAE-6AF7A6BCF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7717-0407-4D2A-92D7-FAC6BA9AA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F708-7F19-4647-A99B-B71F5E6CE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2655-5918-49B2-BA2E-9CC1D34EB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599B-340D-4EAE-BA82-E598140A9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B69C-996E-46DD-9195-DE9C4776D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3D9F-A5B0-4550-B987-45F94A25A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C864-E0AD-474F-B906-29C14C043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3BE3-74C3-44BD-9313-25F05F172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EE47-8B48-4960-BFC0-03418BE3D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6C43-F533-4B6C-8C9B-4A112352F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6F28-8482-4464-90F2-51D61D3A0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290C-71D5-4FFE-9559-4A855ED0F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C62D-1F0B-4319-8C3B-DE3697B4E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BA73-ABB6-4EF5-A88A-34D760F85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EFDF-208E-4EC2-84C0-484F19D69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533D-584F-41B9-A300-8FC2FB37F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26B6-D906-456F-A79B-4C46120A3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1E0D-1B04-4824-9155-82BBD3650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7AE7-1D23-4CFE-B9E2-91EDA8692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6EB9-1788-447B-9C1B-3095E5B37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3901-BAD3-4AAE-BD98-C9EB2460E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2F7D-B939-4F1F-BED8-8380DAB2C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A7B9-8BD6-4E30-AF6B-79B5FE9BF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3C5D-D057-4DE8-AC8C-516648971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4F62-2475-4BB8-858E-0343ECBB1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1FBB-E269-4B85-AE00-D5C49196E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8E0B-E9CA-4C0D-938E-3D3906858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D2F6-7B6A-41F7-8839-74DD31F4B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F5FD-372A-4ADC-9247-E5D80E813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B2B9-95DE-4625-A565-5DD046CA1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D0BC-9C37-4F9A-AB80-5708D5AA2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4F49-EB5A-4D06-8E59-CF6C5D249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CAFB-A3B5-43DE-BD50-5F740AE31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4244-C0BB-4CAF-BF13-772CB84FD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1B4A-A23F-4447-A5C3-B59F882E1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FEDB-4680-4205-A696-198602A4E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8C43-3F16-48BD-8940-051CF9A16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DB6C-9588-4EA3-A892-A75BDD9AD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0278-DFB0-4ED9-AEA7-748F57178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02DB-59BC-4203-82DB-BC9D01D45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9B4E-0B5D-46ED-AA93-1117A2F63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D399-D7DB-41CD-9BCC-8A795C2B0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801F-FC9D-4ABC-B54C-FB448CC15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63F8-D94C-4CCA-B444-3994708A7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D7F4-50E2-4EFC-9516-1F08211F3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F130-96C6-4A72-B18A-C65AE4FF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4FA-CCC6-49FE-9466-57100071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737-12D1-4C69-925E-7A052269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5F0-C7F0-4D78-8B7B-3FE510DE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801-E8EB-4C1B-A477-C8DDC1E7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C3D-106A-4D66-BF42-C4E98E25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B40-8800-47DC-A35F-EA9B6C33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2AE-E1F9-4286-979E-F9764398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77B-3D21-48D3-864B-2FF01759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B57-FA9D-4D74-AA84-13FC7627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551-3041-4E6A-9BA3-53770408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2DF-E49E-4441-97B6-75118A24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543A-BD5C-4EA3-BE42-49F62089B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iology Review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s Within Pop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NMSI_Logo_RGB.jpg"/>
          <p:cNvPicPr/>
          <p:nvPr/>
        </p:nvPicPr>
        <p:blipFill>
          <a:blip r:embed="rId1"/>
          <a:stretch/>
        </p:blipFill>
        <p:spPr>
          <a:xfrm>
            <a:off x="3124080" y="304920"/>
            <a:ext cx="2648160" cy="2454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96840" y="6554880"/>
            <a:ext cx="902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P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registered trademark of the College Board, which was not involved in the production of, and does not endorse, this produc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Levels of Genetic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blood group genes exist in humans in addition to the ABO l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3 are routinely found in several alternative allelic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45 variable genes encoding other proteins in human blood cells and plasma which are not considered bloo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:  75 genetically variable genes in this one system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Levels of Genetic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lectrophoresis to determine alternative alleles of genes specifying particular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5% of the enzyme loci of a typical human are heterozyg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 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loci in a given population have more than one allele at frequencies significantly greater than would occur from mutation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ymorph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many forms; refers to a locus with more variation than can be explained by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pulations of insects and plants are polymorphic at more than ½ of their enzyme-coding l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 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brates are somewhat less polymor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terozygo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probability that a randomly selected gene will be heterozygous for a randomly selected individual—about 15% in Drosophila and other invertebrates and between 5% and 8% in vertebrates and around 8% in outcrossing plants [don’t memorize this stuff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being—lots of raw material for evol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the properties of genes in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 had no knowledge of meio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eory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ending inheri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where offspring were expected to be phenotypically intermediate relative to their parents—was widely accep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ONG—the effect of any new genetic variant would quickly be diluted to the point of disappearance in subsequent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ardy-Weinberg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the rediscovery of Mendel’s research, two people, independently [hence the hyphen] solved the puzzle of why genetic variation pers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H. Hardy, an English mathema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Weinberg, a German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ointed out that the original proportions of the genotypes in a population will remain constant from generation as long as you meet the five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y-Weinberg Equilibrium Assump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llele frequencies with a population will remain constant as long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size is very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mating is occu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utation takes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Immigration takes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lection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nt alleles do NOT replace recessiv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rtion of dominant to recessive alleles does NOT change in a H-W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represents the frequency of the dominant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represents the frequency of the recessive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fraction of the allele’s abundance in a population [part/whole or a percentage expressed as a decimal valu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+ q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pq +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 homozygous domina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homozygous recessive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q = the heterozyg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equation is a binomial expansion of (p + q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is equal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ince p + q =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population of 100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black [frequency of black is then 84/100 = 84% or .8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white [frequency of white is then 16/100 = 16% or .1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e white cats are homozygous recessive, designat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cats are ei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 or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Variation is the Raw Material of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widely used to refer to how an entity changes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five editions of Darwin’s book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 the Origin of the Specie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ver used the ter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, he used the phrase “descent with modificatio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ill captures the essence of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pecies arise from other, pre-existing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rough time they accumulate differences such that ancestral and descendant species are NOT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white c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omozygous recessive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means that the frequency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 and is the square root of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if q =0 .4 and the sum of p + q = 1, t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0.4 = p which equals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2895480" y="3665520"/>
          <a:ext cx="350532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665520"/>
                    <a:ext cx="350532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6 and q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4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number of homozygous dominant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36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6  homozygou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ack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number of heterozygo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(0.6)(0.4) = .48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48 heterozygot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ack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population was easy since there were 100 individual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438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unnet Square May Prove Use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905120" y="2397240"/>
            <a:ext cx="57909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um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stic fibrosis patients are homozygous for the recessive allele that causes the disea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orth American Caucasians, the allele is present at a frequency of about 22 per 1,000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q = .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roportion of North American Caucasians is expected to express this trai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 = 0.022, then 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the number of afflicted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000484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00484 = which is about .0005 or 5/10,000  which reduces to 1/2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very 2,000 individuals in that population is expected to have Cystic Fib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roportion is expected to be heterozygous carri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ere the real risk l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 = 0.022, the 1-0.022 = p = 0.9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q = the heterozygous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(0.022)(0.978) = 0.0430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about 0.043 which is about 43/1,000 or 1 of every 23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wo carriers mate [think Punnet square] there is a 25% chance the child will express Cystic Fibr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on’t change from generation to generation as long as H-W conditions ar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ene flow [immigration &amp; emigr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C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  5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ultimate source of variation!  Individual mutations occur so rarely that mutation alone does not change allele frequency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 f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a very potent agent of change.  Populations exchange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random m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Inbreeding is the most common form.  Artificial selection—It does not alter allele frequency but decreases the proportion of heterozyg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  5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etic dri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tatistical accidents; usually occurs only in very small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the only form that produc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ap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olutionary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is the only agent that depends on the nature of the environment.  The other 4 are independent of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 is an Important Mechanism of Evolutionary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was not the first to propose a theory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propos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the mechanism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es evolutionary change when, in a population, some individuals possessing certain inherited characteristics produce more surviving offspring than individuals lacking thes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71600" y="768240"/>
            <a:ext cx="670572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it more about genetic d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populations the allele frequencies may change drastically by chanc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se changes occur randomly, as if the frequencies were drifting, we call it genetic dr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related causes of decreases in a population’s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r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leneck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er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one or a few individuals disperse and become the founders of a new, isolated population at some distance from their place of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se individuals may not represent all of the alleles present in the original population, alleles are lost and frequencies of alleles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’s fi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ue people of Kentu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leneck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without movement, populations can be drastically reduced 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ing, drought, epidemic disease, other natural forces or progressive changes in the environment are all 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w survivors represent a random genetic sample of the original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ant loss of genetic variability has been termed the bottleneck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216680" cy="4338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leneck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elephant seal, breeds on the western coast of North America and nearby i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ed to near extinction in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to a single population of 20 individuals on the Island of Guadalupe off the coast of Baja,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s of thousands now, but very little genetic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etahs—almost exti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’s cheetahs are so genetically identical that skin taken from one cheetah and grafted onto another is not rej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—nature decides!  The environmental conditions determine which individuals in a population produce the most off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—a breeder decides!  The breeder makes purposeful crosses between animals or plants to produce a set of desire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’s 3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must exist among individuals in a 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Some traits are favored over others—no variation, n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results in differences in number of offspring surviving in the next gen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 essence of natural selection!  Because of phenotype or behavior, some individuals are more successful in producing offspring, thus passing on their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must be genetically inherit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ecessary for natural selection to result in evolutionary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Selec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≠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atural selection is a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olution is the historical record of change through time.  It is an outcome, not a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ly if variation is genetically based will natural selection, the process, lead to evolution, the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 is an Important Mechanism of Evolutionary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 result—the population will gradually come to include more and more individuals with the advantageous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evolves and becomes better adapted to its local circum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 to Avoid Pre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ouflage—green caterpillars blend into the leaves upon which they feed making it more difficult for birds to se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Melanism [where darker individuals predominate over light] and the peppered m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ees in England are covered in light bark and lichens.  During the industrial revolution, soot covered the trees making them dark.  There was a complete swap between the frequencies of light, peppered moths and their dark, near black, cou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s are quite adept at picking out individuals that are not adapted to their backgr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ppered 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1850 the trees were light and although black coloration is dominant, it was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industrial revolution that situation rever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, it pays to blend 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340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sticide resistance in Ins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evolution of more than 400 resistant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utants were born with fewer receptor sites on their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ecreases the binding ability of the insecti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lleles in other mutants enhance the ability of the insects’ enzymes to identify and detoxify insecticide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429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s that favor individuals with copies of both alleles give heterozygotes an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 Cell Anemia is a strik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red blood cells are irregular, or sickle sha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common among African Americans 3/1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fatal—before treatments developed, all affected individuals died as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didn’t the allele become “extinc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frica, where the frequencies are MUCH higher than here in the states, malaria plays a r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smodium parasite that causes malaria invades blood cells.  When it invades a red blood cell of a heterozygote it causes it to sickle.  These sickled cells are then quickly swept up by the spleen thus eliminating the para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leen’s filtering effect is what leads to anemia in homozygotes with th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being a heterozygote carrier for sickle cell has an added bonus for a natural immunity to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rriers have an advantage over the homozygous dominant individuals that have no protection against Mal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is acting to eliminate the allele in the African American population where Malaria is no threat, thus the heterozygotes have no advan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57200" y="1089000"/>
            <a:ext cx="7772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ruptive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intermediate types are eli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 fire-bellied seedcracker fi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 of these birds contain individuals with large and small beaks while very few individuals have intermediate-sized bea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 The seeds they feed upon come in two sizes, small and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 beaks are clumsy with small seeds and not strong enough to crack large s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al sel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acts to eliminate one extreme from an array of phen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has changed the population in the direction of lower light attrac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d thi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38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bilizing sel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selection acts to eliminate both extremes; it favors an optimum condition and increases the frequency of the already common intermediate type, making it even more common by eliminating the extre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marck and the Inheritance of Acquired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 proposed [albe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mechanism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pass on to offspring body and behavior changes acquired during thei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cestral giraffes with short necks tended to stretch their necks to feed on tree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extension of the neck was passed on to subsequent generations  leading to long-necked gira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920" y="325440"/>
            <a:ext cx="8381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’s take on gira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ntrast, Darwin’s theory used the idea that preexisting genetic differences among individuals made them more fit for their environment thus they thrive, reproduce and introduce more of their kind into the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3857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ing of freak muta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is not the only process that can lead to the genetic makeup of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 frequencies can also change as the result of repeated mutations from one allele to another and from migrants bringing alleles into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populations, the frequencies of alleles can change randomly as the result of chanc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Variation in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within a species may result from ANY process that causes a change in the genetic composition of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by looking at the genetic variation present among individuals within a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raw material available for the selec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6:44:21Z</dcterms:created>
  <dc:creator>Rene McCormick</dc:creator>
  <dc:description/>
  <dc:language>en-US</dc:language>
  <cp:lastModifiedBy> René McCormick</cp:lastModifiedBy>
  <dcterms:modified xsi:type="dcterms:W3CDTF">2008-03-24T17:05:17Z</dcterms:modified>
  <cp:revision>9</cp:revision>
  <dc:subject/>
  <dc:title>Genes Within Populations</dc:title>
</cp:coreProperties>
</file>