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F75F-D2B4-44BB-BB97-5AA4D21C0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C32C-A502-411C-BD4B-FFA118C63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EFAE-BC56-4A18-A670-D7EF99349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941D-E1F0-452B-8530-888CFC77D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86C2-B0AE-4C12-BCF7-34F36D150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949-DFD5-4051-830C-92742D597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CC2-1CB9-4AC0-AFCA-B86157E19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059A-0A59-4707-A734-3B2F01A7D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081-4DDD-4B69-9A9C-8B8763741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A45-8962-4B9E-8702-A08E63797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BF4-AC38-4F98-B4F7-DB416EF25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E7F8-A898-438D-A9BB-124F2C174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6FC-F462-4BDF-8416-DF2995406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06C-6D23-4B13-9B3E-F97E8C560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659-4E52-4337-B41C-DED85B0BA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8AD4-58D6-4B11-B8AA-6569DF411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D7B-E430-43F0-9FE1-2939E6EEE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063-F0B2-411C-A6A0-D84EE9D54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8D9-F487-414E-99FA-74D50FB46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92E-4C3D-49B4-98FA-3E8709FCB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C8E-3ACE-4AF1-8DDD-6C61A48F0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3681-6171-4FB7-AB9D-432BDBA30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37BB-246D-423A-91AB-EC494C7FF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D32-DE98-4FCE-AA55-F7AB66E1C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9A9-3044-432A-A132-2EA0E5262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AAA-3A9C-4072-B85E-8EC727F6B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786-06EB-4FA5-8CFE-4BF26D789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517A-C9FB-4BEB-B3E6-12C390075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BF7F-EAAF-48D0-B907-7DE1CFD1A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227-27AD-4D97-8F5E-B9087079A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E3A-DB0B-4E4A-92C3-BB7B8B569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8D4D-4279-425D-A589-90282EC3F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AC9-A5E8-40DD-82A8-64A3EA965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7BB-53DE-43F9-AD7F-9425ADC79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6F4-FF1F-489C-9847-F31A16961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3113-72FC-4B4C-8B8E-4091D69B6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43F-B477-462B-965E-7B576C907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0FC9-AA73-4CC2-A592-01C393C70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25D-9A30-42C1-BF03-A4C72CA2F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6A02-09D0-453C-883E-12DCC8741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0B71-6CA6-444A-BAE6-7867960B6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3C2F-2378-4132-AC4B-F777F995D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0610-D7AE-44F8-A04F-D53E0E2C4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D15F-80C9-421E-A9AB-0004E8B4E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A5BB-5F6A-4D04-A4DD-7299632B8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5238-EC78-4371-964F-8CC66DCCC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76D-5285-4417-BFBC-8148FDBC6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830-BEF8-4637-9599-4DA7B5E6A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6877-EF92-431D-B230-E0D4E3F41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0CE5-DE59-4D80-BAF8-AA7D6E9E5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38C7-DC1B-4B8A-9E48-D1326AAA5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B8F-38A9-464C-BE83-2E5AB32E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C81-A5DB-46DF-B510-01BF1EE2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F37-0D7F-445F-B0E3-EB82A888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610-4DEB-4024-9E2E-2058B111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624-C5B0-425E-940D-4DEE51F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BCB-6DF5-4B26-9DFD-6A59BC36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95C-BD3C-4138-A987-BDD1CF86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9DC-B291-4C30-9E24-451C9635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E45-F68F-49B1-802B-4198956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400-5D35-4E57-B898-BD3E8E0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D12-7D9A-4EA4-8228-7B3238E2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A1D-530F-4CB8-8545-8A84D1E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8F1-6107-41DF-A82B-0EFBC10D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iology Review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s Within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MSI_Logo_RGB.jpg"/>
          <p:cNvPicPr/>
          <p:nvPr/>
        </p:nvPicPr>
        <p:blipFill>
          <a:blip r:embed="rId1"/>
          <a:stretch/>
        </p:blipFill>
        <p:spPr>
          <a:xfrm>
            <a:off x="3124080" y="304920"/>
            <a:ext cx="2648160" cy="24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96840" y="6554880"/>
            <a:ext cx="902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P</a:t>
            </a:r>
            <a:r>
              <a:rPr b="1" lang="en-US" sz="11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registered trademark of the College Board, which was not involved in the production of, and does not endorse, this produ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lood group genes exist in humans in addition to the ABO l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are routinely found in several alternative allelic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45 variable genes encoding other proteins in human blood cells and plasma which are not considered bloo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:  75 genetically variable genes in this one system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Levels of Genetic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lectrophoresis to determine alternative alleles of genes specifying particular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% of the enzyme loci of a typical human are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loci in a given population have more than one allele at frequencies significantly greater than would occur from mutation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ymorph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many forms; refers to a locus with more variation than can be explained by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tions of insects and plants are polymorphic at more than ½ of their enzyme-coding l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brates are somewhat less polymor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terozyg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probability that a randomly selected gene will be heterozygous for a randomly selected individual—about 15% in Drosophila and other invertebrates and between 5% and 8% in vertebrates and around 8% in outcrossing plants [don’t memorize this stuff!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being—lots of raw material for evol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roperties of genes in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 had no knowledge of meio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or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ending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here offspring were expected to be phenotypically intermediate relative to their parents—was widely accep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ONG—the effect of any new genetic variant would quickly be diluted to the point of disappearance in subsequent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rdy-Weinberg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rediscovery of Mendel’s research, two people, independently [hence the hyphen] solved the puzzle of why genetic variation pers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H. Hardy, an English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Weinberg, a German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ointed out that the original proportions of the genotypes in a population will remain constant from generation as long as you meet the fiv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y-Weinberg Equilibrium Assump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lele frequencies with a population will remain constant as long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size is ver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mating is occu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t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Immigration takes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lec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ant alleles do NOT replace recessiv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rtion of dominant to recessive alleles does NOT change in a H-W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represents the frequency of the dominant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represents the frequency of the recessive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raction of the allele’s abundance in a population [part/whole or a percentage expressed as a decimal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y-Weinberg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pq +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 homozygous dominan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homozygous recessive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q = the heterozyg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equation is a binomial expansion of (p + q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is equal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ince p + q =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population of 100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black [frequency of black is then 84/100 = 84% or .8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white [frequency of white is then 16/100 = 16% or .1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white cats are homozygous recessive, designat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ack cats are 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Variation is the Raw Material of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idely used to refer to how an entity changes through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ive editions of Darwin’s boo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 the Origin of the Specie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used the ter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he used the phrase “descent with modificatio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ill captures the essence of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pecies arise from other, pre-exist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rough time they accumulate differences such that ancestral and descendant species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white c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omozygous recessive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s that the frequenc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 and is the square root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f q =0 .4 and the sum of p + q = 1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0.4 = p which equals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895480" y="3665520"/>
          <a:ext cx="35053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5520"/>
                    <a:ext cx="35053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l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6 and q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4,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omozygous dominant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36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  homozygou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number of heterozygo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6)(0.4) = .48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48 heterozygot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ack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population was easy since there were 100 individu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nnet Square May Prove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790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um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stic fibrosis patients are homozygous for the recessive allele that causes the disea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orth American Caucasians, the allele is present at a frequency of about 22 per 1,000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q = .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of North American Caucasians is expected to express this tra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n 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number of afflicted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000484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0484 = which is about .0005 or 5/10,000  which reduces to 1/2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very 2,000 individuals in that population is expected to have Cystic Fib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roportion is expected to be heterozygous carr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the real risk 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= 0.022, the 1-0.022 = p = 0.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q = the heterozygous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(0.022)(0.978) = 0.0430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about 0.043 which is about 43/1,000 or 1 of every 23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carriers mate [think Punnet square] there is a 25% chance the child will express Cystic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on’t change from generation to generation as long as H-W conditions ar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ene flow [immigration &amp; emig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C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the ultimate source of variation!  Individual mutations occur so rarely that mutation alone does not change allele frequency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 very potent agent of change.  Populations exchange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random 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nbreeding is the most common form.  Artificial selection—It does not alter allele frequency but decreases the proportion of heterozyg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Allele Frequencies Change?  5 rea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tatistical accidents; usually occurs only in very small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the only form that produc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utiona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the only agent that depends on the nature of the environment.  The other 4 are independent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was not the first to propose a theory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propo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he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es evolutionary change when, in a population, some individuals possessing certain inherited characteristics produce more surviving offspring than individuals lacking thes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71600" y="768240"/>
            <a:ext cx="6705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t more about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 the allele frequencies may change drastically by chanc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changes occur randomly, as if the frequencies were drifting, we call it genetic dr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related causes of decreases in a population’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neck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er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one or a few individuals disperse and become the founders of a new, isolated population at some distance from their place of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se individuals may not represent all of the alleles present in the original population, alleles are lost and frequencies of allele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’s f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people of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without movement, populations can be drastically reduced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, drought, epidemic disease, other natural forces or progressive changes in the environment are all 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 survivors represent a random genetic sample of the origin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ant loss of genetic variability has been termed the bottleneck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216680" cy="4338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ttleneck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elephant seal, breeds on the western coast of North America and nearby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d to near extinction 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o a single population of 20 individuals on the Island of Guadalupe off the coast of Baja,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s of thousands now, but very little genetic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—almost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cheetahs are so genetically identical that skin taken from one cheetah and grafted onto another is not rej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—nature decides!  The environmental conditions determine which individuals in a population produce the most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—a breeder decides!  The breeder makes purposeful crosses between animals or plants to produce a set of desired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’s 3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exist among individuals in a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ome traits are favored over others—no variation, n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results in differences in number of offspring surviving in the next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 essence of natural selection!  Because of phenotype or behavior, some individuals are more successful in producing offspring, thus passing on thei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tion must be genetically inheri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ecessary for natural selection to result in evolutionar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Selec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≠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atural selection is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tion is the historical record of change through time.  It is an outcome, not a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if variation is genetically based will natural selection, the process, lead to evolution,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Selection is an Important Mechanism of Evolutionary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 result—the population will gradually come to include more and more individuals with the advantageous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evolves and becomes better adapted to its local circum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to Avoid Pre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ouflage—green caterpillars blend into the leaves upon which they feed making it more difficult for birds to se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Melanism [where darker individuals predominate over light] and the peppered m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ees in England are covered in light bark and lichens.  During the industrial revolution, soot covered the trees making them dark.  There was a complete swap between the frequencies of light, peppered moths and their dark, near black,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are quite adept at picking out individuals that are not adapted to their back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ppered 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1850 the trees were light and although black coloration is dominant, it was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ustrial revolution that situation rever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pays to blend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340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ticide resistance in Ins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evolution of more than 400 resist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tants were born with fewer receptor sites on their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ecreases the binding ability of the insecti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lleles in other mutants enhance the ability of the insects’ enzymes to identify and detoxify insecticide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42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s that favor individuals with copies of both alleles give heterozygotes an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 is a strik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red blood cells are irregular, or sickle sha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common among African Americans 3/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atal—before treatments developed, all affected individuals died a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didn’t the allele become “extinc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frica, where the frequencies are MUCH higher than here in the states, malaria plays a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smodium parasite that causes malaria invades blood cells.  When it invades a red blood cell of a heterozygote it causes it to sickle.  These sickled cells are then quickly swept up by the spleen thus eliminating the para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leen’s filtering effect is what leads to anemia in homozygotes with the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being a heterozygote carrier for sickle cell has an added bonus for a natural immunity to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rriers have an advantage over the homozygous dominant individuals that have no protection against Mal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is acting to eliminate the allele in the African American population where Malaria is no threat, thus the heterozygotes have no adva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" y="1089000"/>
            <a:ext cx="7772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ruptive Se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termediate types ar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 fire-bellied seedcracker fi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these birds contain individuals with large and small beaks while very few individuals have intermediate-sized b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The seeds they feed upon come in two sizes, small and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beaks are clumsy with small seeds and not strong enough to crack large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al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acts to eliminate one extreme from an array of phen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has changed the population in the direction of lower light attrac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thi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 of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bilizing se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selection acts to eliminate both extremes; it favors an optimum condition and increases the frequency of the already common intermediate type, making it even more common by eliminating the extre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marck and the Inheritance of Acquired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 proposed [albe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mechanism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pass on to offspring body and behavior changes acquired during thei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cestral giraffes with short necks tended to stretch their necks to feed on tre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tension of the neck was passed on to subsequent generations  leading to long-necked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381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’s take on 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trast, Darwin’s theory used the idea that preexisting genetic differences among individuals made them more fit for their environment thus they thrive, reproduce and introduce more of their kind into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3857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ing of freak mutan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is not the only process that can lead to the genetic makeup of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ies can also change as the result of repeated mutations from one allele to another and from migrants bringing alleles into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populations, the frequencies of alleles can change randomly as the result of chanc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Variation in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within a species may result from ANY process that causes a change in the genetic composition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the genetic variation present among individuals within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raw material available for the selec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44:21Z</dcterms:created>
  <dc:creator>Rene McCormick</dc:creator>
  <dc:description/>
  <dc:language>en-US</dc:language>
  <cp:lastModifiedBy> René McCormick</cp:lastModifiedBy>
  <dcterms:modified xsi:type="dcterms:W3CDTF">2008-03-24T17:05:17Z</dcterms:modified>
  <cp:revision>9</cp:revision>
  <dc:subject/>
  <dc:title>Genes Within Populations</dc:title>
</cp:coreProperties>
</file>