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B557-2C23-4D2D-AF48-D6C2EAC63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2A6D-5400-4DC0-B405-C1DF9DFDA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7A40-0192-41FE-921D-051050046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FCC-57F1-48BA-AF8D-90AA1A5E3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9835-B8BA-48D3-9687-F03FBACE4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DB78-FF7D-4FFD-AEF9-782924715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751D-5BC2-4182-8D55-2B03DF887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94B8-3C10-4117-8C5D-02582FBDC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49B2-B910-46BE-9DA6-797316622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21E-F372-4778-872A-61F127D00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DA48-D6B6-40C3-8E4D-DA9F8039F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CE1D-E755-4806-850A-57FDE62E9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7C8-36D5-4B8C-B10D-6D9712A3A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F5C-6939-4CF2-9AAE-513946AF3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837C-AF4C-4A4F-BAC8-5D2A20141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64A1-3ACD-4059-B686-230B01607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26D9-1A95-415B-AFAF-EEBD9D387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496-A359-4099-8467-A9A691158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6727-44D1-4905-A6D7-52411D64E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BB95-394E-4BDE-8A15-6E2DE17F1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0B94-CAFA-412C-968A-B495FBAD5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968-BFC9-464D-8342-B915C0315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7966-F868-4FC2-B95C-F3F6FA393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6BF-8116-46FC-887D-8901BA44C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A502-1C52-4068-9013-F5DA4F8CE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88FB-1CC7-431C-8214-E2855FD9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366-B1CE-4EFE-9581-3E59E0537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996E-C2FB-4ED1-9715-A99EB91E9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737-3E3E-40AF-8796-A44328E50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0640-ACB0-4230-9E9A-42CE0F84A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8A85-2069-4B38-8DD6-5042E30F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AAB4-DFC6-4E30-BDCC-25E03CCB3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91D8-15CC-4ACA-A639-090883B24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409-FC40-417A-84B5-13C8C2244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72C9-85B3-42DB-9634-4191F22AA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C2D-BC0B-418C-84B7-2C5304C73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CC1D-5BA5-4BE2-B01C-67BADD2B4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3AEC-EB9A-4B79-B3C1-ACC00B67E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768-D880-4C4D-AF20-B5E378160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D44-C368-4F10-952C-F470785E9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A75D-C508-4727-99ED-13076E17C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25E5-70EF-4AA3-B97B-CB1CC6549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B6D1-7FAA-44C9-B070-26F8F7BA3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78B-4182-444B-BCD3-4932CB3AE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E520-E86E-4338-9ED4-8F2D1F67F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468-5907-4125-9D96-C4DEFC45C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549C-7B67-4160-81A6-A93C3F527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EFD4-278C-4031-9C30-6D0459BE6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5770-4245-42BF-BC90-892BF7F9F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FE9-68B1-4751-8BA6-97096E9AC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8D8A-32DA-40AF-B9BB-F114C23A9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A53-A28B-404F-9E35-9A018940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A42-4CDC-4999-B393-DFE6418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245-8920-4811-AD28-6E28A45C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C40-F230-44F0-A902-10C0AC49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633-EE00-440C-B29D-11207AC2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7E0-FA06-4B24-AFE4-9C059957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34F-EBE1-48FD-A96A-2F1561C2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9A4-AEBC-44CB-BA19-3AAD5D7D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A1E-1711-4094-92DE-B584E1C3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9F7-E484-440F-8B28-39CA639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5F7-638A-40AA-A8FC-72B6681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F1E-D424-4D91-BEA6-1D7AF65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7988-02FF-4E90-A743-AA62D892E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ology Re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Withi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MSI_Logo_RGB.jpg"/>
          <p:cNvPicPr/>
          <p:nvPr/>
        </p:nvPicPr>
        <p:blipFill>
          <a:blip r:embed="rId1"/>
          <a:stretch/>
        </p:blipFill>
        <p:spPr>
          <a:xfrm>
            <a:off x="3124080" y="304920"/>
            <a:ext cx="2648160" cy="2454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96840" y="6554880"/>
            <a:ext cx="902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registered trademark of the College Board, which was not involved in the production of, and does not endorse, this produ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lood group genes exist in humans in addition to the ABO l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re routinely found in several alternative allelic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45 variable genes encoding other proteins in human blood cells and plasma which are not considered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 75 genetically variable genes in this one system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phoresis to determine alternative alleles of genes specifying particular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5% of the enzyme loci of a typical human are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oci in a given population have more than one allele at frequencies significantly greater than would occur from mutation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ymor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many forms; refers to a locus with more variation than can be explained by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tions of insects and plants are polymorphic at more than ½ of their enzyme-coding l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brates are somewhat less poly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probability that a randomly selected gene will be heterozygous for a randomly selected individual—about 15% in Drosophila and other invertebrates and between 5% and 8% in vertebrates and around 8% in outcrossing plants [don’t memorize this stuff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being—lots of raw material for ev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roperties of genes i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had no knowledge of meio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or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nding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here offspring were expected to be phenotypically intermediate relative to their parents—was widely accep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—the effect of any new genetic variant would quickly be diluted to the point of disappearance in subsequent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ediscovery of Mendel’s research, two people, independently [hence the hyphen] solved the puzzle of why genetic variation pers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H. Hardy, an English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Weinberg, a German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ointed out that the original proportions of the genotypes in a population will remain constant from generation as long as you meet the fiv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y-Weinberg Equilibrium Assump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lele frequencies with a population will remain constant 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size is ver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mating is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ut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mmigr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lec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alleles do NOT replace recessiv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dominant to recessive alleles does NOT change in a H-W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represents the frequency of the dominant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represents the frequency of the recessive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raction of the allele’s abundance in a population [part/whole or a percentage expressed as a decimal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pq +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 homozygous domina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homozygous recessive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q = the heterozyg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equation is a binomial expansion of (p + 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nce p + q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population of 100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black [frequency of black is then 84/100 = 84% or .8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white [frequency of white is then 16/100 = 16% or .1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e white cats are homozygous recessive, design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s are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Variation is the Raw Material of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idely used to refer to how an entity changes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ive editions of Darwin’s boo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Origin of the Spec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used the te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he used the phrase “descent with modificati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ill captures the essence of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pecies arise from other, pre-exist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rough time they accumulate differences such that ancestral and descendant species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whit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omozygous recessiv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s that the frequenc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 and is the square root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f q =0 .4 and the sum of p + q = 1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0.4 = p which equals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895480" y="3665520"/>
          <a:ext cx="35053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5520"/>
                    <a:ext cx="35053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6 and q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omozygous domina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36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  homozygo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eterozyg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6)(0.4) = .48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48 heterozygot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population was easy since there were 100 individu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438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nnet Square May Prov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790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um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atients are homozygous for the recessive allele that causes the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rth American Caucasians, the allele is present at a frequency of about 22 per 1,000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q = 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of North American Caucasians is expected to express this tra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n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number of afflicted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000484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0484 = which is about .0005 or 5/10,000  which reduces to 1/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ery 2,000 individuals in that population is expected to have 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is expected to be heterozygous carr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the real risk 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 1-0.022 = p = 0.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= the heterozygous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022)(0.978) = 0.043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about 0.043 which is about 43/1,000 or 1 of every 23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carriers mate [think Punnet square] there is a 25% chance the child will express Cystic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on’t change from generation to generation as long as H-W conditions ar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 flow [immigration &amp; emig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C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ultimate source of variation!  Individual mutations occur so rarely that mutation alone does not change allele frequenc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 very potent agent of change.  Populations exchange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random 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breeding is the most common form.  Artificial selection—It does not alter allele frequency but decreases the proportion of heterozyg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tatistical accidents; usually occurs only in very small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he only form that produc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a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the only agent that depends on the nature of the environment.  The other 4 are independent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not the first to propose a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propo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evolutionary change when, in a population, some individuals possessing certain inherited characteristics produce more surviving offspring than individuals lacking thes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71600" y="768240"/>
            <a:ext cx="6705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t more about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 the allele frequencies may change drastically by chanc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changes occur randomly, as if the frequencies were drifting, we call it 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related causes of decreases in a population’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one or a few individuals disperse and become the founders of a new, isolated population at some distance from their place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individuals may not represent all of the alleles present in the original population, alleles are lost and frequencies of allele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f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people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ithout movement, populations can be drastically reduced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, drought, epidemic disease, other natural forces or progressive changes in the environment are all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 survivors represent a random genetic sample of the origin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ant loss of genetic variability has been termed the bottleneck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216680" cy="4338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elephant seal, breeds on the western coast of North America and nearby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d to near extinction 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o a single population of 20 individuals on the Island of Guadalupe off the coast of Baja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s of thousands now, but very little genetic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—almost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heetahs are so genetically identical that skin taken from one cheetah and grafted onto another is not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—nature decides!  The environmental conditions determine which individuals in a population produce the most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—a breeder decides!  The breeder makes purposeful crosses between animals or plants to produce a set of desir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’s 3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exist among individuals in a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traits are favored over others—no variation, n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results in differences in number of offspring surviving in the next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essence of natural selection!  Because of phenotype or behavior, some individuals are more successful in producing offspring, thus passing on thei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be genetically inheri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cessary for natural selection to result in evolutionar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tural selection is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olution is the historical record of change through time.  It is an outcome, not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if variation is genetically based will natural selection, the process, lead to evolution,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result—the population will gradually come to include more and more individuals with the advantageou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evolves and becomes better adapted to its loc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to Avoid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ouflage—green caterpillars blend into the leaves upon which they feed making it more difficult for birds to se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elanism [where darker individuals predominate over light] and the peppered m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es in England are covered in light bark and lichens.  During the industrial revolution, soot covered the trees making them dark.  There was a complete swap between the frequencies of light, peppered moths and their dark, near black,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are quite adept at picking out individuals that are not adapted to their back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ppered 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1850 the trees were light and although black coloration is dominant, it was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ustrial revolution that situation reve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pays to blend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ticide resistance in 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evolution of more than 400 resistan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tants were born with fewer receptor sites on their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creases the binding ability of the insecti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lleles in other mutants enhance the ability of the insects’ enzymes to identify and detoxify insecticide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s that favor individuals with copies of both alleles give heterozygotes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 is a strik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red blood cells are irregular, or sickle sha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common among African Americans 3/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atal—before treatments developed, all affected individuals died a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didn’t the allele become “extinc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frica, where the frequencies are MUCH higher than here in the states, malaria plays a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odium parasite that causes malaria invades blood cells.  When it invades a red blood cell of a heterozygote it causes it to sickle.  These sickled cells are then quickly swept up by the spleen thus eliminating the para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leen’s filtering effect is what leads to anemia in homozygotes with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being a heterozygote carrier for sickle cell has an added bonus for a natural immunity to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rriers have an advantage over the homozygous dominant individuals that have no protection against Mal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acting to eliminate the allele in the African American population where Malaria is no threat, thus the heterozygotes have no adva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" y="1089000"/>
            <a:ext cx="7772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ruptive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termediate types ar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fire-bellied seedcracker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these birds contain individuals with large and small beaks while very few individuals have intermediate-sized b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The seeds they feed upon come in two sizes, small and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beaks are clumsy with small seeds and not strong enough to crack larg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al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cts to eliminate one extreme from an array of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has changed the population in the direction of lower light attrac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thi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bilizing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election acts to eliminate both extremes; it favors an optimum condition and increases the frequency of the already common intermediate type, making it even more common by eliminating the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marck and the Inheritance of Acquired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proposed [albe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pass on to offspring body and behavior changes acquired during thei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estral giraffes with short necks tended to stretch their necks to feed on tre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tension of the neck was passed on to subsequent generations  leading to long-necked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32544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take on gir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trast, Darwin’s theory used the idea that preexisting genetic differences among individuals made them more fit for their environment thus they thrive, reproduce and introduce more of their kind into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857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 of freak mut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is not the only process that can lead to the genetic makeup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ies can also change as the result of repeated mutations from one allele to another and from migrants bringing alleles into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, the frequencies of alleles can change randomly as the result of chanc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Variation in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within a species may result from ANY process that causes a change in the genetic composition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the genetic variation present among individuals within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raw material available for the selec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44:21Z</dcterms:created>
  <dc:creator>Rene McCormick</dc:creator>
  <dc:description/>
  <dc:language>en-US</dc:language>
  <cp:lastModifiedBy> René McCormick</cp:lastModifiedBy>
  <dcterms:modified xsi:type="dcterms:W3CDTF">2008-03-24T17:05:17Z</dcterms:modified>
  <cp:revision>9</cp:revision>
  <dc:subject/>
  <dc:title>Genes Within Populations</dc:title>
</cp:coreProperties>
</file>