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A67A-1A02-46AF-AB64-59625F19F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3AEC-DE4C-4453-BF09-DA464ABE0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E429-FF08-4BDC-A86E-5DD1FA4A4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88D3-4834-4DF1-A8CA-30E9EFD83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CEF5-A305-4238-8EF7-28560E212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D20A-7F9F-4F7E-B2F2-2F7A1C5C0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36C6-E315-40E7-8E99-38ABC10DA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C998-7790-468F-B40A-D12B778FB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8BD5-260B-424A-BD6D-EA8465FAF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000E-88D2-488B-9BD5-52BD5EE82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FD67-F810-4E24-B806-6B2135054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2C04-BCFD-4D1E-8CA8-D3C5A1A27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A188-1801-4FB8-88D1-5D8598914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84BA-6DB0-49E1-9D4A-D965CF8B2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DF5C-5D8C-4CA4-BB07-1485650FB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FB46-AB40-419D-A355-7FB4D82A4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225D-9914-437F-A589-9483E7070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BADC-40D7-4F0E-8EB8-D965CD391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702D-6CE6-4B9E-AA7D-6BB421D92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DE90-267C-437D-BA86-71CD6958F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81D1-41E1-4A9F-B3B2-D680A7EC0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380C-13D5-4594-80FD-952912F7A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79B9-4603-48EE-9BCE-9341BE2D7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B134-F061-4995-8B8E-60A9C11BB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3554-E513-4382-BAB9-FBF47106B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B3DD-8747-42FE-B152-CB0FD8CC2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4DBB-AE5F-4CBA-BFA5-F3B4DC9D4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14D7-B8D8-4899-88B5-F10404BAE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8552-0D6B-4ED3-A2E8-6C4F079B7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EAD4-435E-4B4F-936F-887898191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BC41-800D-47B4-96D4-468454AA6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FB56-350C-4104-906C-3F4AF0982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E1C7-7111-4D45-A105-97E64C93F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496C-29B4-49A2-9269-B3AD7E344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2103-D6D7-4D00-91DB-CC6BBE968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2466-7D4B-4098-84CE-C4E397B1B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4CA2-7376-45EF-B38F-73159351A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ABAF-4CEC-48FD-A1FC-C02474A19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01A6-438C-4560-92F1-156DC9C4C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107F-32CA-4FB2-B248-52701810A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D545-2A1D-41A4-B989-A051E5E7B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F9EC-2ACA-4268-82DA-A07F0726C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55F0-A150-4A0F-A413-924E97B2B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D98E-3331-4CFD-AC8E-508F675EF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4796-3D4C-4A6A-ACCA-D2B2813AE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F864-DF7C-4A83-BE50-77BD0935A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1CE2-3356-4986-97B8-1126C24A0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ECD5-A675-448E-870C-FD8B078C0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3F86-699F-4929-94AE-7DA83D42D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C08C-4114-4FFB-ABFB-6A9B9202F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6143-302A-431E-A77E-8946B410C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9176-69BB-4F2F-93A1-E102D01E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92D-E3CD-4244-BBC0-5E70C430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858E-FA9F-422B-94BE-3DBC70AA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3AA8-7EDF-4E36-9F82-1F8CD941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D441-FA0F-4AB9-B9CD-CBA78206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0AE9-49E6-4F5E-9D18-6CD6C26F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C6C3-550B-4702-A908-C12C076C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36F2-0280-4CF3-B5AF-3A37D1CB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3C8D-7124-4041-A6CF-F3417EBF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860-71EF-49B2-BDFA-250C5C33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A3D-7C97-4D31-95BF-B04AB8F8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607B-AF57-4829-A1DD-0E5E7E70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AB6C-992C-4733-B1DC-0839CDB74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Biology Review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s Within Pop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y-Weinberg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NMSI_Logo_RGB.jpg"/>
          <p:cNvPicPr/>
          <p:nvPr/>
        </p:nvPicPr>
        <p:blipFill>
          <a:blip r:embed="rId1"/>
          <a:stretch/>
        </p:blipFill>
        <p:spPr>
          <a:xfrm>
            <a:off x="3124080" y="304920"/>
            <a:ext cx="2648160" cy="2454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96840" y="6554880"/>
            <a:ext cx="9024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P</a:t>
            </a:r>
            <a:r>
              <a:rPr b="1" lang="en-US" sz="11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®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registered trademark of the College Board, which was not involved in the production of, and does not endorse, this produc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Levels of Genetic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blood group genes exist in humans in addition to the ABO l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3 are routinely found in several alternative allelic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45 variable genes encoding other proteins in human blood cells and plasma which are not considered bloo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:  75 genetically variable genes in this one system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Levels of Genetic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lectrophoresis to determine alternative alleles of genes specifying particular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5% of the enzyme loci of a typical human are heterozyg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zyme Poly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loci in a given population have more than one allele at frequencies significantly greater than would occur from mutation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lymorph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many forms; refers to a locus with more variation than can be explained by 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opulations of insects and plants are polymorphic at more than ½ of their enzyme-coding l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zyme Poly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ebrates are somewhat less polymorp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terozygo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the probability that a randomly selected gene will be heterozygous for a randomly selected individual—about 15% in Drosophila and other invertebrates and between 5% and 8% in vertebrates and around 8% in outcrossing plants [don’t memorize this stuff!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being—lots of raw material for evolu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y of the properties of genes in pop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win had no knowledge of meios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eory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ending inherit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where offspring were expected to be phenotypically intermediate relative to their parents—was widely accep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ONG—the effect of any new genetic variant would quickly be diluted to the point of disappearance in subsequent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ardy-Weinberg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 the rediscovery of Mendel’s research, two people, independently [hence the hyphen] solved the puzzle of why genetic variation pers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H. Hardy, an English mathemat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Weinberg, a German phys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ointed out that the original proportions of the genotypes in a population will remain constant from generation as long as you meet the five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rdy-Weinberg Equilibrium Assump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llele frequencies with a population will remain constant as long 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size is very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mating is occur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utation takes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Immigration takes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lection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y-Weinberg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inant alleles do NOT replace recessive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rtion of dominant to recessive alleles does NOT change in a H-W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represents the frequency of the dominant all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represents the frequency of the recessive all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fraction of the allele’s abundance in a population [part/whole or a percentage expressed as a decimal valu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y-Weinberg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+ q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pq +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number of  homozygous dominant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number of homozygous recessive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pq = the heterozyg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equation is a binomial expansion of (p + q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is equal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ince p + q =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li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 population of 100 c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 black [frequency of black is then 84/100 = 84% or .8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 white [frequency of white is then 16/100 = 16% or .1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the white cats are homozygous recessive, designat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ack cats are eit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B or 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Variation is the Raw Material of 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v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widely used to refer to how an entity changes through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five editions of Darwin’s book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 the Origin of the Species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ver used the ter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, he used the phrase “descent with modification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till captures the essence of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pecies arise from other, pre-existing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rough time they accumulate differences such that ancestral and descendant species are NOT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li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white c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homozygous recessive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means that the frequency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q and is the square root of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if q =0 .4 and the sum of p + q = 1, t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0.4 = p which equals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2895480" y="3665520"/>
          <a:ext cx="3505320" cy="11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665520"/>
                    <a:ext cx="350532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li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6 and q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4,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he number of homozygous dominant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36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6  homozygou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B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lack c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he number of heterozygo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(0.6)(0.4) = .48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48 heterozygot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b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lack c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population was easy since there were 100 individual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4380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unnet Square May Prove Use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905120" y="2397240"/>
            <a:ext cx="57909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um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stic fibrosis patients are homozygous for the recessive allele that causes the disea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North American Caucasians, the allele is present at a frequency of about 22 per 1,000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 q = .0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proportion of North American Caucasians is expected to express this trait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q = 0.022, then 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the number of afflicted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000484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00484 = which is about .0005 or 5/10,000  which reduces to 1/2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every 2,000 individuals in that population is expected to have Cystic Fib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proportion is expected to be heterozygous carri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ere the real risk l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q = 0.022, the 1-0.022 = p = 0.9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q = the heterozygous c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(0.022)(0.978) = 0.0430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about 0.043 which is about 43/1,000 or 1 of every 23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wo carriers mate [think Punnet square] there is a 25% chance the child will express Cystic Fibr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Allele Frequencies Ch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on’t change from generation to generation as long as H-W conditions are ob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ene flow [immigration &amp; emigra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NC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Allele Frequencies Change?  5 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the ultimate source of variation!  Individual mutations occur so rarely that mutation alone does not change allele frequency m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 f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a very potent agent of change.  Populations exchange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nrandom m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Inbreeding is the most common form.  Artificial selection—It does not alter allele frequency but decreases the proportion of heterozyg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Allele Frequencies Change?  5 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etic dri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statistical accidents; usually occurs only in very small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the only form that produc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ap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olutionary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is the only agent that depends on the nature of the environment.  The other 4 are independent of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al Selection is an Important Mechanism of Evolutionary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 was not the first to propose a theory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 propos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the mechanism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atural se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es evolutionary change when, in a population, some individuals possessing certain inherited characteristics produce more surviving offspring than individuals lacking these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371600" y="768240"/>
            <a:ext cx="670572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it more about genetic dr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mall populations the allele frequencies may change drastically by chanc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se changes occur randomly, as if the frequencies were drifting, we call it genetic dr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related causes of decreases in a population’s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er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leneck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nder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one or a few individuals disperse and become the founders of a new, isolated population at some distance from their place of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se individuals may not represent all of the alleles present in the original population, alleles are lost and frequencies of alleles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’s fi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ue people of Kentu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ttleneck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without movement, populations can be drastically reduced i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ding, drought, epidemic disease, other natural forces or progressive changes in the environment are all c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ew survivors represent a random genetic sample of the original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ant loss of genetic variability has been termed the bottleneck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216680" cy="4338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ttleneck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elephant seal, breeds on the western coast of North America and nearby is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ted to near extinction in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d to a single population of 20 individuals on the Island of Guadalupe off the coast of Baja,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s of thousands now, but very little genetic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etahs—almost extin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’s cheetahs are so genetically identical that skin taken from one cheetah and grafted onto another is not rej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—nature decides!  The environmental conditions determine which individuals in a population produce the most off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—a breeder decides!  The breeder makes purposeful crosses between animals or plants to produce a set of desired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al Selection’s 3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tion must exist among individuals in a 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Some traits are favored over others—no variation, n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tion results in differences in number of offspring surviving in the next gen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 essence of natural selection!  Because of phenotype or behavior, some individuals are more successful in producing offspring, thus passing on their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tion must be genetically inherit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Necessary for natural selection to result in evolutionary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Selectio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≠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atural selection is a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volution is the historical record of change through time.  It is an outcome, not a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ly if variation is genetically based will natural selection, the process, lead to evolution, the out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al Selection is an Important Mechanism of Evolutionary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 result—the population will gradually come to include more and more individuals with the advantageous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evolves and becomes better adapted to its local circum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 to Avoid Pred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ouflage—green caterpillars blend into the leaves upon which they feed making it more difficult for birds to see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Melanism [where darker individuals predominate over light] and the peppered m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ees in England are covered in light bark and lichens.  During the industrial revolution, soot covered the trees making them dark.  There was a complete swap between the frequencies of light, peppered moths and their dark, near black, cou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s are quite adept at picking out individuals that are not adapted to their backgr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ppered 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1850 the trees were light and although black coloration is dominant, it was r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industrial revolution that situation rever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, it pays to blend i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4950000" y="1600200"/>
            <a:ext cx="340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sticide resistance in Ins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648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evolution of more than 400 resistant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utants were born with fewer receptor sites on their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ecreases the binding ability of the insectic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alleles in other mutants enhance the ability of the insects’ enzymes to identify and detoxify insecticide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429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te Advan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s that favor individuals with copies of both alleles give heterozygotes an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kle Cell Anemia is a striking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normal red blood cells are irregular, or sickle sha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ly common among African Americans 3/1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fatal—before treatments developed, all affected individuals died as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te Advan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y didn’t the allele become “extinct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frica, where the frequencies are MUCH higher than here in the states, malaria plays a r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smodium parasite that causes malaria invades blood cells.  When it invades a red blood cell of a heterozygote it causes it to sickle.  These sickled cells are then quickly swept up by the spleen thus eliminating the para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leen’s filtering effect is what leads to anemia in homozygotes with the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te Advan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that being a heterozygote carrier for sickle cell has an added bonus for a natural immunity to mal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rriers have an advantage over the homozygous dominant individuals that have no protection against Mal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is acting to eliminate the allele in the African American population where Malaria is no threat, thus the heterozygotes have no advan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457200" y="1089000"/>
            <a:ext cx="7772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ruptive Se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intermediate types are elim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n fire-bellied seedcracker fi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s of these birds contain individuals with large and small beaks while very few individuals have intermediate-sized bea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  The seeds they feed upon come in two sizes, small and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ediate beaks are clumsy with small seeds and not strong enough to crack large s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ional sel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acts to eliminate one extreme from an array of phen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has changed the population in the direction of lower light attractio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d thi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038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abilizing sel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selection acts to eliminate both extremes; it favors an optimum condition and increases the frequency of the already common intermediate type, making it even more common by eliminating the extre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marck and the Inheritance of Acquired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cond proposed [albe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mechanism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pass on to offspring body and behavior changes acquired during their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cestral giraffes with short necks tended to stretch their necks to feed on tree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extension of the neck was passed on to subsequent generations  leading to long-necked gira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04920" y="325440"/>
            <a:ext cx="8381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win’s take on giraf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ontrast, Darwin’s theory used the idea that preexisting genetic differences among individuals made them more fit for their environment thus they thrive, reproduce and introduce more of their kind into the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819520" y="304920"/>
            <a:ext cx="38574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aking of freak mutan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 is not the only process that can lead to the genetic makeup of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 frequencies can also change as the result of repeated mutations from one allele to another and from migrants bringing alleles into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mall populations, the frequencies of alleles can change randomly as the result of chanc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Variation in 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within a species may result from ANY process that causes a change in the genetic composition of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by looking at the genetic variation present among individuals within a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raw material available for the selectiv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6:44:21Z</dcterms:created>
  <dc:creator>Rene McCormick</dc:creator>
  <dc:description/>
  <dc:language>en-US</dc:language>
  <cp:lastModifiedBy> René McCormick</cp:lastModifiedBy>
  <dcterms:modified xsi:type="dcterms:W3CDTF">2008-03-24T17:05:17Z</dcterms:modified>
  <cp:revision>9</cp:revision>
  <dc:subject/>
  <dc:title>Genes Within Populations</dc:title>
</cp:coreProperties>
</file>