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D9EC-F6BA-498D-9014-1A0DD990D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3243-EBA1-4082-BE9A-42E19F9A6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2607-B7EE-41C7-8A8A-82A9F2E2C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2484-407D-41EF-8667-4819784CE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61D9-740A-4726-A16F-EC2B7A403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2274-030C-475B-8174-B5C84C9E7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1083-8BB7-4E99-BBFB-1EE6EEC22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98B9-B7E0-4B43-8A7E-6483AABE5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C5CA-DC41-4B17-9A34-677A90C79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32DA-78D8-4EDD-A1BA-B9DC745CA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4784-C302-4476-B629-1B427BB99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247D-18FF-419E-B032-ED18C6B38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85C5-C4D6-4D82-9996-571CE8672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C6D0-5D1A-43D6-811F-29FF909C9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E8CE-9A92-4A95-A40F-DECF2A24F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D0CD-E38A-4913-8D19-5562DA7A5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AD43-0D20-4380-8DDB-26593CC40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E8B5-2EDC-4793-A1D3-71B9D0A27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D12F-DA5C-47E6-BA94-1AF3CB5C9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CE2E-821D-4F26-A184-B11D41516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D069-911B-44D7-950D-DD12E2992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805F-71C8-4823-9029-FA24C789D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74FF-BB73-450D-9EF9-EA181B1AC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CB57-D6F1-489B-9454-0E50FD566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2B53-D2A1-4FB3-8FCC-177539167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CF91-2088-4720-95A2-C5E644726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D1F7-8CCF-4414-97A3-732862B97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44CF-38C0-492A-873B-FCFAC3C6D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BC40-C1EC-405D-A397-6787BC93F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93A2-7896-4660-964E-6D5EA4238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5461-DC2C-4963-805F-DEE124CDE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A884-BFE0-4B43-B2EE-D1D009801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162B-0D40-412C-9A32-329D2A02D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41F9-29B1-4948-91DE-AED979C73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E58C-882B-40E2-AC6E-C085E22E3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98BD-5A5B-4236-B801-3FC6F40CF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9AB0-8E7D-4ED9-91C2-18C81C5BB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F45D-5862-4986-9184-F06CD0FFD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20D2-C753-4987-8F1C-8E137B3A0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3E76-5A14-4E27-8239-461CCC92C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C423-CE38-49A8-9AA1-90B986077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F915-FBBE-4E89-BB47-787DCA43F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29CB-4716-4764-81DF-67A97F2B6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11AF-6B39-4353-BDBE-5D519D829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0D39-0431-4865-BA68-F662FA746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4779-04FE-4475-8E3D-CE85F749A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DF35-B449-451D-A724-CC2C3C27D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0B74-C342-479E-9E8E-819EC46CF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DC60-9456-44C3-AD70-84FF88A36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0EFB-F478-4C84-B77D-E6CBC5177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868D-0AA3-4E3E-BD34-0B29CB300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99C-DB7A-475E-A482-419B3160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747-3B59-42B2-8544-4E75C9D7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D40-42D6-4F0F-BE92-3CA32957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1B87-D9FA-41C0-91D3-0FDEB5C1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32D-277E-4A1D-8581-8D9C5C78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13F-F6C1-46BE-96E9-2A158D71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870-0D36-42B9-B94F-E9FA53D1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D0A-B16A-446C-BC48-7A7C083D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3B8-A27B-415E-A726-CBC0124E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695C-6AAA-4D1D-89F3-2C0AE925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375-2405-45BE-9D83-EE9A0E3F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7B2-9800-4D9E-9ABD-3FFD04D7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21E4-5A40-48F3-A570-B909005E3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iology Review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s Within Pop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NMSI_Logo_RGB.jpg"/>
          <p:cNvPicPr/>
          <p:nvPr/>
        </p:nvPicPr>
        <p:blipFill>
          <a:blip r:embed="rId1"/>
          <a:stretch/>
        </p:blipFill>
        <p:spPr>
          <a:xfrm>
            <a:off x="3124080" y="304920"/>
            <a:ext cx="2648160" cy="2454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96840" y="6554880"/>
            <a:ext cx="902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P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registered trademark of the College Board, which was not involved in the production of, and does not endorse, this produc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Levels of Genetic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blood group genes exist in humans in addition to the ABO l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3 are routinely found in several alternative allelic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45 variable genes encoding other proteins in human blood cells and plasma which are not considered bloo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:  75 genetically variable genes in this one system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Levels of Genetic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lectrophoresis to determine alternative alleles of genes specifying particular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5% of the enzyme loci of a typical human are heterozyg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 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loci in a given population have more than one allele at frequencies significantly greater than would occur from mutation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ymorph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many forms; refers to a locus with more variation than can be explained by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pulations of insects and plants are polymorphic at more than ½ of their enzyme-coding l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 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brates are somewhat less polymor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terozygo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probability that a randomly selected gene will be heterozygous for a randomly selected individual—about 15% in Drosophila and other invertebrates and between 5% and 8% in vertebrates and around 8% in outcrossing plants [don’t memorize this stuff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being—lots of raw material for evol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the properties of genes in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 had no knowledge of meio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eory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ending inheri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where offspring were expected to be phenotypically intermediate relative to their parents—was widely accep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ONG—the effect of any new genetic variant would quickly be diluted to the point of disappearance in subsequent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ardy-Weinberg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the rediscovery of Mendel’s research, two people, independently [hence the hyphen] solved the puzzle of why genetic variation pers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H. Hardy, an English mathema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Weinberg, a German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ointed out that the original proportions of the genotypes in a population will remain constant from generation as long as you meet the five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y-Weinberg Equilibrium Assump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llele frequencies with a population will remain constant as long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size is very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mating is occu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utation takes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Immigration takes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lection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nt alleles do NOT replace recessiv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rtion of dominant to recessive alleles does NOT change in a H-W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represents the frequency of the dominant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represents the frequency of the recessive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fraction of the allele’s abundance in a population [part/whole or a percentage expressed as a decimal valu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+ q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pq +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 homozygous domina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homozygous recessive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q = the heterozyg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equation is a binomial expansion of (p + q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is equal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ince p + q =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population of 100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black [frequency of black is then 84/100 = 84% or .8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white [frequency of white is then 16/100 = 16% or .1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e white cats are homozygous recessive, designat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cats are ei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 or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Variation is the Raw Material of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widely used to refer to how an entity changes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five editions of Darwin’s book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 the Origin of the Specie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ver used the ter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, he used the phrase “descent with modificatio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ill captures the essence of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pecies arise from other, pre-existing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rough time they accumulate differences such that ancestral and descendant species are NOT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white c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omozygous recessive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means that the frequency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 and is the square root of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if q =0 .4 and the sum of p + q = 1, t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0.4 = p which equals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2895480" y="3665520"/>
          <a:ext cx="350532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665520"/>
                    <a:ext cx="350532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6 and q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4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number of homozygous dominant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36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6  homozygou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ack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number of heterozygo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(0.6)(0.4) = .48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48 heterozygot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ack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population was easy since there were 100 individual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438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unnet Square May Prove Use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905120" y="2397240"/>
            <a:ext cx="57909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um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stic fibrosis patients are homozygous for the recessive allele that causes the disea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orth American Caucasians, the allele is present at a frequency of about 22 per 1,000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q = .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roportion of North American Caucasians is expected to express this trai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 = 0.022, then 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the number of afflicted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000484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00484 = which is about .0005 or 5/10,000  which reduces to 1/2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very 2,000 individuals in that population is expected to have Cystic Fib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roportion is expected to be heterozygous carri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ere the real risk l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 = 0.022, the 1-0.022 = p = 0.9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q = the heterozygous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(0.022)(0.978) = 0.0430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about 0.043 which is about 43/1,000 or 1 of every 23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wo carriers mate [think Punnet square] there is a 25% chance the child will express Cystic Fibr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on’t change from generation to generation as long as H-W conditions ar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ene flow [immigration &amp; emigr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C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  5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ultimate source of variation!  Individual mutations occur so rarely that mutation alone does not change allele frequency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 f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a very potent agent of change.  Populations exchange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random m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Inbreeding is the most common form.  Artificial selection—It does not alter allele frequency but decreases the proportion of heterozyg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  5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etic dri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tatistical accidents; usually occurs only in very small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the only form that produc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ap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olutionary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is the only agent that depends on the nature of the environment.  The other 4 are independent of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 is an Important Mechanism of Evolutionary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was not the first to propose a theory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propos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the mechanism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es evolutionary change when, in a population, some individuals possessing certain inherited characteristics produce more surviving offspring than individuals lacking thes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71600" y="768240"/>
            <a:ext cx="670572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it more about genetic d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populations the allele frequencies may change drastically by chanc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se changes occur randomly, as if the frequencies were drifting, we call it genetic dr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related causes of decreases in a population’s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r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leneck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er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one or a few individuals disperse and become the founders of a new, isolated population at some distance from their place of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se individuals may not represent all of the alleles present in the original population, alleles are lost and frequencies of alleles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’s fi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ue people of Kentu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leneck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without movement, populations can be drastically reduced 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ing, drought, epidemic disease, other natural forces or progressive changes in the environment are all 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w survivors represent a random genetic sample of the original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ant loss of genetic variability has been termed the bottleneck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216680" cy="4338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leneck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elephant seal, breeds on the western coast of North America and nearby i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ed to near extinction in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to a single population of 20 individuals on the Island of Guadalupe off the coast of Baja,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s of thousands now, but very little genetic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etahs—almost exti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’s cheetahs are so genetically identical that skin taken from one cheetah and grafted onto another is not rej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—nature decides!  The environmental conditions determine which individuals in a population produce the most off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—a breeder decides!  The breeder makes purposeful crosses between animals or plants to produce a set of desire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’s 3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must exist among individuals in a 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Some traits are favored over others—no variation, n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results in differences in number of offspring surviving in the next gen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 essence of natural selection!  Because of phenotype or behavior, some individuals are more successful in producing offspring, thus passing on their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must be genetically inherit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ecessary for natural selection to result in evolutionary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Selec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≠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atural selection is a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olution is the historical record of change through time.  It is an outcome, not a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ly if variation is genetically based will natural selection, the process, lead to evolution, the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 is an Important Mechanism of Evolutionary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 result—the population will gradually come to include more and more individuals with the advantageous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evolves and becomes better adapted to its local circum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 to Avoid Pre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ouflage—green caterpillars blend into the leaves upon which they feed making it more difficult for birds to se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Melanism [where darker individuals predominate over light] and the peppered m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ees in England are covered in light bark and lichens.  During the industrial revolution, soot covered the trees making them dark.  There was a complete swap between the frequencies of light, peppered moths and their dark, near black, cou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s are quite adept at picking out individuals that are not adapted to their backgr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ppered 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1850 the trees were light and although black coloration is dominant, it was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industrial revolution that situation rever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, it pays to blend 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340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sticide resistance in Ins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evolution of more than 400 resistant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utants were born with fewer receptor sites on their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ecreases the binding ability of the insecti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lleles in other mutants enhance the ability of the insects’ enzymes to identify and detoxify insecticide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429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s that favor individuals with copies of both alleles give heterozygotes an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 Cell Anemia is a strik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red blood cells are irregular, or sickle sha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common among African Americans 3/1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fatal—before treatments developed, all affected individuals died as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didn’t the allele become “extinc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frica, where the frequencies are MUCH higher than here in the states, malaria plays a r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smodium parasite that causes malaria invades blood cells.  When it invades a red blood cell of a heterozygote it causes it to sickle.  These sickled cells are then quickly swept up by the spleen thus eliminating the para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leen’s filtering effect is what leads to anemia in homozygotes with th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being a heterozygote carrier for sickle cell has an added bonus for a natural immunity to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rriers have an advantage over the homozygous dominant individuals that have no protection against Mal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is acting to eliminate the allele in the African American population where Malaria is no threat, thus the heterozygotes have no advan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57200" y="1089000"/>
            <a:ext cx="7772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ruptive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intermediate types are eli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 fire-bellied seedcracker fi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 of these birds contain individuals with large and small beaks while very few individuals have intermediate-sized bea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 The seeds they feed upon come in two sizes, small and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 beaks are clumsy with small seeds and not strong enough to crack large s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al sel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acts to eliminate one extreme from an array of phen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has changed the population in the direction of lower light attrac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d thi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38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bilizing sel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selection acts to eliminate both extremes; it favors an optimum condition and increases the frequency of the already common intermediate type, making it even more common by eliminating the extre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marck and the Inheritance of Acquired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 proposed [albe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mechanism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pass on to offspring body and behavior changes acquired during thei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cestral giraffes with short necks tended to stretch their necks to feed on tree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extension of the neck was passed on to subsequent generations  leading to long-necked gira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920" y="325440"/>
            <a:ext cx="8381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’s take on gira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ntrast, Darwin’s theory used the idea that preexisting genetic differences among individuals made them more fit for their environment thus they thrive, reproduce and introduce more of their kind into the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3857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ing of freak muta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is not the only process that can lead to the genetic makeup of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 frequencies can also change as the result of repeated mutations from one allele to another and from migrants bringing alleles into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populations, the frequencies of alleles can change randomly as the result of chanc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Variation in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within a species may result from ANY process that causes a change in the genetic composition of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by looking at the genetic variation present among individuals within a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raw material available for the selec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6:44:21Z</dcterms:created>
  <dc:creator>Rene McCormick</dc:creator>
  <dc:description/>
  <dc:language>en-US</dc:language>
  <cp:lastModifiedBy> René McCormick</cp:lastModifiedBy>
  <dcterms:modified xsi:type="dcterms:W3CDTF">2008-03-24T17:05:17Z</dcterms:modified>
  <cp:revision>9</cp:revision>
  <dc:subject/>
  <dc:title>Genes Within Populations</dc:title>
</cp:coreProperties>
</file>