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58.jpeg" ContentType="image/jpeg"/>
  <Override PartName="/ppt/media/image56.png" ContentType="image/png"/>
  <Override PartName="/ppt/media/image40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png" ContentType="image/png"/>
  <Override PartName="/ppt/media/image44.jpeg" ContentType="image/jpeg"/>
  <Override PartName="/ppt/media/image57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20.jpeg" ContentType="image/jpeg"/>
  <Override PartName="/ppt/media/image14.jpeg" ContentType="image/jpeg"/>
  <Override PartName="/ppt/media/image66.png" ContentType="image/png"/>
  <Override PartName="/ppt/media/image41.jpeg" ContentType="image/jpeg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21.jpeg" ContentType="image/jpeg"/>
  <Override PartName="/ppt/media/image80.jpeg" ContentType="image/jpeg"/>
  <Override PartName="/ppt/media/image65.png" ContentType="image/pn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70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42.png" ContentType="image/pn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EAFB-08DA-4A8B-A289-3C4657D86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AF52-8D8D-4E32-86E7-151E31D4E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6123-9033-4D99-843F-06D6E7B7E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676F-2FC0-4A1B-BD74-FF933B2EC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2DDB-D531-4E79-A027-338E4981E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F981-14BA-427C-8F86-61F97B48A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CE9A-478D-45E5-A7BA-4FD442DB1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3DA7-77FD-43E6-B86B-864F3780F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F1D2-271A-4928-8372-EE683F446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04E0-D3DD-4C5D-8C5E-5223CF9BC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13E5-0B0D-43B3-BF71-3E9DBDA95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69A3-A8EF-409B-B636-CDFDF5DB6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F962-6E52-44D5-81BF-394F6A301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5BC0-A786-4B19-97B0-17DD5F7D0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8F66-FD77-4231-BE15-12DABF2A2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7327-2221-4EAB-AB15-AC66ED8DB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059B-C148-4B81-9AC5-87BF1FAE7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8387-890B-4169-AF94-1698F14C9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BF76-6CEE-4F3F-A6C7-BDE3F070C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AC1A-37C8-41DB-B9F8-6B4305FB8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A082-A46A-4608-ABD3-9CE7F396E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B186-5E81-4AD9-8FC0-6C861C018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E710-6DC1-4209-A0B2-38ECB8B72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C0F8-DF61-4261-84ED-04D319BEF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7BEF-A582-447A-9D35-8D3B2171C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CF93-A96B-40E5-9F54-5E9453EB9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8C3D-516D-4895-9131-E0811A0EC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B36D-A83B-4C92-9493-B3D2EBB2B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2CCE-7C64-4D51-8618-ECD439FB7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067A-FDD6-41EE-85FD-742553645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C577-6344-4921-83A8-374E4B812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F17E-333B-4927-B28A-F3DC57525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ABBE-11CD-4EC5-926F-097961E4C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126D-024A-439B-BF73-1A1D49BB5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4FC4-629D-439C-B797-6ED317A37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DFE1-7EA7-4E68-A7E8-FF80C5B57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EAAE-C3DD-4813-B4C0-14E03FDFB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065F-25E8-4C88-BAFC-FB8C34D86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11C8-425D-40F7-84A1-EC9F2F779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2702-0653-46E7-BEEC-52CFB49FF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FBF0-FA7B-47A6-818F-23AB3FF8D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E039-EDB7-40A3-B031-1A8BB3A88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44DB-669E-4C2C-AF69-C21E6E7AE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C57F-6650-408B-8F6D-B80D724AE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6FAF-3CD6-4C03-9089-B831C9DF5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B5C3-B1C5-43DD-A3D2-5F2536A1B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89E7-8FED-4696-8BB5-D60794030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137E-7738-4FEE-BCBD-A0E66733E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3CE3-6658-4EA4-9229-01C1DC187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CD3F-A401-42B3-970E-980468C19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4E7F-F676-464C-8A7E-C0D0320EF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666B-981B-4F8B-A34C-35B350F36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CEED-30CC-4552-9F16-6CB105AB6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686A-E297-4BBC-BED1-99C4328D8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90BF-C016-49A5-85F8-80A621396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A0E0-3F90-4AD0-BE48-ACEAA3378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C08F-DB9D-450E-9A23-77FC50E3B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57F7-159D-42D3-AAD5-A64E2EA7E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E280-C8B6-4BE3-96E6-1183458CD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71CF-2A53-4EF6-BC78-83E0522CF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3219-E380-46A8-BF8E-99A0158B9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1542-7D46-4A90-A946-F96FC5EE7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EEF0-3AA6-4C32-999E-561B847AA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174F-C6E3-452A-A340-214D25331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67B9-C33C-40D5-93AB-6B4B46696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80BE-02B5-4B95-A6DD-0DD2D2ABC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207E-ABDD-4EC4-B1F0-0F9F0BCC2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1791-057A-4E6B-B411-D5239F5A1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A889-F129-408C-8770-DFD32D65D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025D-70A8-4092-8661-71331652B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913F-CAD3-435C-AE6A-F8B3A862B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786D-C6CD-468B-B237-4C59B76AE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0F7A-3CE3-4982-BC3D-C355177BD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DC66-6E4B-4D40-AEDA-FC4277331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443F-1D0B-44BD-8571-B12C104D8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87E1-F80A-4EF2-94A7-BD032DAEE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E216-66CA-43B9-838E-32B38244E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15A8-C570-4055-A5F9-C876EAE69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28D4-A739-4580-92CC-FCF442EA6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887A-C340-44F1-958D-CB9E55631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B4EA-0B0E-42B5-9955-6D9C7F2CF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B9A1-C29E-484C-B5DD-9CF82D803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CA1B-8543-429E-A0EC-5A86C846A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9306-BB28-432B-8F83-8B4E8AD5F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834A-EE2D-4718-B0DE-7116CDC37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F285-3026-4C8C-A38F-0B7B97A11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62EC-99CD-4408-BC13-FC865BA9C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D40B-FBAF-4B96-AA5D-B57259543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EF84-A2C0-46A5-9FD8-C4557F1D9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867A-8270-4E0D-A0AE-0B5AC8E61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E106-4E6E-4544-9C5A-460D3093E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7F47-C8C1-4ABD-95D3-D3395A318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3876-2273-464F-BC0D-610594184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3A6F-5768-4332-9306-FC61232ED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BDC0-3463-4D80-BD2E-A5279D108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9B4F-35DB-4851-A3E0-DA602CF09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5212-6F84-4C83-BDC1-90569CCA7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CEB5-112E-4592-91A2-4292B74AD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F6CF-2724-4C51-B712-4DCC279DF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F3B8-B57F-479A-84E8-E746B20C5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7EF4-B9E2-4F12-AC7A-33FDEF824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87AD-B01C-4B53-99E3-3658998FF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A5E8-DB65-451E-8060-B766025C4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C735-C600-4EE8-91E2-0282CA831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D082-2334-453B-9712-F05BCC90B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82CB-376A-4AAB-871D-8C996948D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9023-875C-4E7A-9A7C-0A1226A34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2552-AA29-45F5-95A3-55737B7F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9F46-6EA6-4A63-9469-B520DE17A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ADFE-C49D-451B-98B5-A97187A9E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8CF3-8D21-447F-9ECD-4FEF8E37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F397-B202-4B3C-810F-5394E501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6D6F-B8AD-40D2-A2C4-693E785B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67F2-F055-44A9-8B06-4FE0B539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FBE1-3F17-42DE-9B08-00AE8EE2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2424-1EC5-44DD-A42E-EB805A03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26C3-FFA3-4B30-A7A5-15C53390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F4EA-5D23-4969-AE59-0DAB9194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8A31-2231-4677-84DE-2074E15E4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Gene Regula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urning genes ON and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cription factors:  These bind to the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N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Activator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4000" spc="-1" strike="noStrike">
                <a:solidFill>
                  <a:srgbClr val="9900ff"/>
                </a:solidFill>
                <a:latin typeface="Arial"/>
              </a:rPr>
              <a:t>Repressor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S50073"/>
          <p:cNvPicPr/>
          <p:nvPr/>
        </p:nvPicPr>
        <p:blipFill>
          <a:blip r:embed="rId1"/>
          <a:stretch/>
        </p:blipFill>
        <p:spPr>
          <a:xfrm>
            <a:off x="1295280" y="2438280"/>
            <a:ext cx="5689800" cy="426744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7"/>
          <p:cNvSpPr/>
          <p:nvPr/>
        </p:nvSpPr>
        <p:spPr>
          <a:xfrm>
            <a:off x="6858000" y="1676520"/>
            <a:ext cx="2286000" cy="1676160"/>
          </a:xfrm>
          <a:prstGeom prst="wedgeRoundRectCallout">
            <a:avLst>
              <a:gd name="adj1" fmla="val -70069"/>
              <a:gd name="adj2" fmla="val 11818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grey line will represent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N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out this les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amplification—role in resistance to cancer dru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amplification can also be important in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trexate is a drug used to treat cancer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mor cells that are rapidly synthesizing DNA are more damaged by the drug than normal cell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7" descr="S50142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amplification—role in resistance to cancer dru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trexate inhibits the activity of dihydrofolate reductase (DHFR), an enzyme needed for synthesis of deoxyribonucleo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ncer cell may become resistant to methotrexate if amplification of the DHFR gene occ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7" descr="S50143"/>
          <p:cNvPicPr/>
          <p:nvPr/>
        </p:nvPicPr>
        <p:blipFill>
          <a:blip r:embed="rId1"/>
          <a:stretch/>
        </p:blipFill>
        <p:spPr>
          <a:xfrm>
            <a:off x="4267080" y="200484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amplification—role in resistance to cancer dru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copies of the gene encoding DHFR allow enough enzyme to be made for the cell to continue to grow in the presence of methotrex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7" descr="S50144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amplification—role in resistance to cancer dru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7" descr="S50145"/>
          <p:cNvPicPr/>
          <p:nvPr/>
        </p:nvPicPr>
        <p:blipFill>
          <a:blip r:embed="rId1"/>
          <a:stretch/>
        </p:blipFill>
        <p:spPr>
          <a:xfrm>
            <a:off x="1143000" y="1523880"/>
            <a:ext cx="662940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" descr="S50146"/>
          <p:cNvPicPr/>
          <p:nvPr/>
        </p:nvPicPr>
        <p:blipFill>
          <a:blip r:embed="rId1"/>
          <a:stretch/>
        </p:blipFill>
        <p:spPr>
          <a:xfrm>
            <a:off x="1727280" y="129528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ce of gene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mount and time of gene expression can be regulated at any one of several steps between the DNA and the final functional gene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7" descr="S50147"/>
          <p:cNvPicPr/>
          <p:nvPr/>
        </p:nvPicPr>
        <p:blipFill>
          <a:blip r:embed="rId1"/>
          <a:stretch/>
        </p:blipFill>
        <p:spPr>
          <a:xfrm>
            <a:off x="2590920" y="310500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s that are regulated by the same repressor or activator have the same or closely related regulatory sequenc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S50074"/>
          <p:cNvPicPr/>
          <p:nvPr/>
        </p:nvPicPr>
        <p:blipFill>
          <a:blip r:embed="rId1"/>
          <a:stretch/>
        </p:blipFill>
        <p:spPr>
          <a:xfrm>
            <a:off x="1752480" y="259092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NA regulatory sequences are tissue-specifi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S50075"/>
          <p:cNvPicPr/>
          <p:nvPr/>
        </p:nvPicPr>
        <p:blipFill>
          <a:blip r:embed="rId1"/>
          <a:stretch/>
        </p:blipFill>
        <p:spPr>
          <a:xfrm>
            <a:off x="380880" y="2362320"/>
            <a:ext cx="4038840" cy="30286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447560"/>
            <a:ext cx="4495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cle-specific genes all have a particular sequence in their DNA to which a muscle-specific transcription factor binds and activates expression of these gen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rve-specific genes have a DIFFERENT sequence in the DNA and different transcription f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DNA base sequences lie “upstream” from the base sequences that will be transcribed when the gene is expre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e about those DNA sequ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S50076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NA-Binding domains have been conserved throughout e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S50077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cription factors are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ve distinct regions with specific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region is the DNA-binding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omain—it IS a region of the protein that is the transcription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ten the domain is an </a:t>
            </a:r>
            <a:r>
              <a:rPr b="0" lang="el-GR" sz="4400" spc="-1" strike="noStrike">
                <a:solidFill>
                  <a:srgbClr val="000000"/>
                </a:solidFill>
                <a:latin typeface="Times New Roman MT Extra Bold"/>
                <a:ea typeface="Arial"/>
              </a:rPr>
              <a:t>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-hel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S50078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7"/>
          <p:cNvSpPr/>
          <p:nvPr/>
        </p:nvSpPr>
        <p:spPr>
          <a:xfrm>
            <a:off x="7162920" y="4267080"/>
            <a:ext cx="1981080" cy="2210040"/>
          </a:xfrm>
          <a:prstGeom prst="wedgeRoundRectCallout">
            <a:avLst>
              <a:gd name="adj1" fmla="val -123078"/>
              <a:gd name="adj2" fmla="val -4080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red thing, that looks like a stick of dynamite, is just another representation of th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hel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se are the 2 most common DNA-binding domains.  If you can name them &amp; explain their function in an essay, it’s often worth a poin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S50079"/>
          <p:cNvPicPr/>
          <p:nvPr/>
        </p:nvPicPr>
        <p:blipFill>
          <a:blip r:embed="rId1"/>
          <a:stretch/>
        </p:blipFill>
        <p:spPr>
          <a:xfrm>
            <a:off x="1676520" y="25909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inding domains of repressors and activators contact specific nucleotide sequences in D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S50080"/>
          <p:cNvPicPr/>
          <p:nvPr/>
        </p:nvPicPr>
        <p:blipFill>
          <a:blip r:embed="rId1"/>
          <a:stretch/>
        </p:blipFill>
        <p:spPr>
          <a:xfrm>
            <a:off x="1752480" y="228600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gulatory region of a gene has many binding sites upstream from the promo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S50081"/>
          <p:cNvPicPr/>
          <p:nvPr/>
        </p:nvPicPr>
        <p:blipFill>
          <a:blip r:embed="rId1"/>
          <a:stretch/>
        </p:blipFill>
        <p:spPr>
          <a:xfrm>
            <a:off x="0" y="213372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8284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these sites are near the promoter, BUT they can be distant as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otide sequence to which a positive activator binds is called an activator 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otide sequence to which a negative repressor binds is called a repressor 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S50082"/>
          <p:cNvPicPr/>
          <p:nvPr/>
        </p:nvPicPr>
        <p:blipFill>
          <a:blip r:embed="rId1"/>
          <a:stretch/>
        </p:blipFill>
        <p:spPr>
          <a:xfrm>
            <a:off x="1143000" y="623880"/>
            <a:ext cx="716292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cells in an organism contain the same DNA, so why are the cells differ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S50065"/>
          <p:cNvPicPr/>
          <p:nvPr/>
        </p:nvPicPr>
        <p:blipFill>
          <a:blip r:embed="rId1"/>
          <a:stretch/>
        </p:blipFill>
        <p:spPr>
          <a:xfrm>
            <a:off x="1676520" y="23623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sors prevent transcription by being a “roadblock” so RNA polymerase cannot bind to the DNA at the promo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S50083"/>
          <p:cNvPicPr/>
          <p:nvPr/>
        </p:nvPicPr>
        <p:blipFill>
          <a:blip r:embed="rId1"/>
          <a:stretch/>
        </p:blipFill>
        <p:spPr>
          <a:xfrm>
            <a:off x="1828800" y="25909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a repressor is NOT bound, RNA polymerase can bind to the promoter and transcription begi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S50084"/>
          <p:cNvPicPr/>
          <p:nvPr/>
        </p:nvPicPr>
        <p:blipFill>
          <a:blip r:embed="rId1"/>
          <a:stretch/>
        </p:blipFill>
        <p:spPr>
          <a:xfrm>
            <a:off x="1828800" y="228600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ators help RNA polymerase bind to the DNA.  Very active genes have several RNA polymerases transcribing the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S50085"/>
          <p:cNvPicPr/>
          <p:nvPr/>
        </p:nvPicPr>
        <p:blipFill>
          <a:blip r:embed="rId1"/>
          <a:stretch/>
        </p:blipFill>
        <p:spPr>
          <a:xfrm>
            <a:off x="1752480" y="259092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ructure and function of the transcription factor can be altered when other molecules bind to the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S50086"/>
          <p:cNvPicPr/>
          <p:nvPr/>
        </p:nvPicPr>
        <p:blipFill>
          <a:blip r:embed="rId1"/>
          <a:stretch/>
        </p:blipFill>
        <p:spPr>
          <a:xfrm>
            <a:off x="1752480" y="2438280"/>
            <a:ext cx="5689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C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294920"/>
            <a:ext cx="4038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molecules, INDUCERS, can bind to a transcription factor [repressor in this picture], cause a conformational shape change and decrease its ability to bind D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auses the repressor to abandon the DNA and transcription is no longer block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8" descr="S50087"/>
          <p:cNvPicPr/>
          <p:nvPr/>
        </p:nvPicPr>
        <p:blipFill>
          <a:blip r:embed="rId1"/>
          <a:stretch/>
        </p:blipFill>
        <p:spPr>
          <a:xfrm>
            <a:off x="0" y="259092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 THIS WEL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S50088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PERON is a group of genes that are transcribed togethe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turned ON or OFF as a un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3 genes are needed to metabolize lactos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pressor site of an operon is called an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S50089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8"/>
          <p:cNvSpPr/>
          <p:nvPr/>
        </p:nvSpPr>
        <p:spPr>
          <a:xfrm>
            <a:off x="4800600" y="5638680"/>
            <a:ext cx="4038480" cy="1059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tos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lucose + galact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genes code for the enzymes that metabolize the above reac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6172200" y="304920"/>
            <a:ext cx="2971800" cy="2133360"/>
          </a:xfrm>
          <a:prstGeom prst="wedgeRoundRectCallout">
            <a:avLst>
              <a:gd name="adj1" fmla="val -83013"/>
              <a:gd name="adj2" fmla="val 7358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genes are only turned ON if lactose is present.  Why waste energy synthesizing proteins that serve NO function in the absence of lact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ac repress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bound to the repressor site, called the operator [since it controls the operon].  It is the “roadblock” that blocks the initiation of transcription at the promo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S50090"/>
          <p:cNvPicPr/>
          <p:nvPr/>
        </p:nvPicPr>
        <p:blipFill>
          <a:blip r:embed="rId1"/>
          <a:stretch/>
        </p:blipFill>
        <p:spPr>
          <a:xfrm>
            <a:off x="1752480" y="2438280"/>
            <a:ext cx="5689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lactose is an INDU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lactose is present, some of it exists as an isomer called allolact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lactose acts as an induc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binds to the Lac Repressor, causing a conformational shape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S50091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called negative regulation of the lac oper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ange in shape, causes the Lac Repressor to release the DNA so transcription is no longer block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NA polymerase can now bind to the promoter and transcription of the lactose operon can beg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S50092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CAUSE, they contain and are made up of different protei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S50066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ce more, with feeling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5029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ABSENCE OF LACTOSE, it is normal for the lac repressor to be bound to the oper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lactose is present, it’s isomer—allolactose—acts as an indu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binds to the repressor, changing its sha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auses the repressor to release the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NA polymerase can now bind to the promoter so transcription of the 3 genes comprising the operon can commenc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hesis of the 3 proteins necessary for the breakdown of lactose are now manufactured and lactose can be utilized by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S50093"/>
          <p:cNvPicPr/>
          <p:nvPr/>
        </p:nvPicPr>
        <p:blipFill>
          <a:blip r:embed="rId1"/>
          <a:stretch/>
        </p:blipFill>
        <p:spPr>
          <a:xfrm>
            <a:off x="5105520" y="20574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8"/>
          <p:cNvSpPr/>
          <p:nvPr/>
        </p:nvSpPr>
        <p:spPr>
          <a:xfrm>
            <a:off x="5181480" y="541008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ocess is calle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EGATIVE REGULATION OF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E. coli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LACTOSE METABO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ctivator steps up the transcription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f the lactose enzymes can be transcribed at once—assembly line sty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S50094"/>
          <p:cNvPicPr/>
          <p:nvPr/>
        </p:nvPicPr>
        <p:blipFill>
          <a:blip r:embed="rId1"/>
          <a:stretch/>
        </p:blipFill>
        <p:spPr>
          <a:xfrm>
            <a:off x="4495680" y="1828800"/>
            <a:ext cx="4496040" cy="33717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9"/>
          <p:cNvSpPr/>
          <p:nvPr/>
        </p:nvSpPr>
        <p:spPr>
          <a:xfrm>
            <a:off x="4495680" y="5562720"/>
            <a:ext cx="43434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ocess is POSITIVE Regulation of the Lac Oper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atabolite Activator Protein: C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name of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abolit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ivat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needs cyclic AMP [cAMP; ATP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P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] bound to it before it can have the proper shape in order to bind to the activator site of the D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bound, it INCREASES the ability of RNA polymerase to bind to the promoter and transcribe the 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S50095"/>
          <p:cNvPicPr/>
          <p:nvPr/>
        </p:nvPicPr>
        <p:blipFill>
          <a:blip r:embed="rId1"/>
          <a:stretch/>
        </p:blipFill>
        <p:spPr>
          <a:xfrm>
            <a:off x="5105520" y="236232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hyper drive!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S50096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AMP-CAP complex is very attractive to RNA polymeras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that the cAMP-CAP complex contacts BOTH the DNA at the activator site AND the RNA polymeras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ntact makes the RNA polymerase have MORE attraction for the DNA, stepping up the rate of transcription of the oper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S50097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purpo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is regulation, cells are very E effici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ells would rather use glucose as a food sour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’s why it is normal for the repressor to be in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glucose is available, the cell won’t metabolize lact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ucose yields more energy to the cells than lact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S50098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8"/>
          <p:cNvSpPr/>
          <p:nvPr/>
        </p:nvSpPr>
        <p:spPr>
          <a:xfrm>
            <a:off x="4648320" y="5562720"/>
            <a:ext cx="4267080" cy="1066680"/>
          </a:xfrm>
          <a:prstGeom prst="wedgeRoundRectCallout">
            <a:avLst>
              <a:gd name="adj1" fmla="val 20833"/>
              <a:gd name="adj2" fmla="val -4508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ucose helps the cells grow!  As it is used up, the number of dividing cells stabilizes in the pop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ucose availability regulates cAMP produc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bacterial cells—glycolysis is their only source of AT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glucose is gone, ATP production c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P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 SO, the concentration of the cyclic form of AMP will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S50099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f both glucose and lactose are 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s will use glucose first until go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P production increases as a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P binds to the CAP and the activator complex, in turn, causes RNA polymerase to crank up the rate of transcription of the lac ope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zymes necessary to utilize lactose as an energy source are QUICKLY manufactur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S50100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8"/>
          <p:cNvSpPr/>
          <p:nvPr/>
        </p:nvSpPr>
        <p:spPr>
          <a:xfrm>
            <a:off x="7620120" y="5867280"/>
            <a:ext cx="1523880" cy="533520"/>
          </a:xfrm>
          <a:prstGeom prst="wedgeRoundRectCallout">
            <a:avLst>
              <a:gd name="adj1" fmla="val -102606"/>
              <a:gd name="adj2" fmla="val -39940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thi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egative contr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aused by a repressor, which can be affected by an inducer.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sitive contr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aused by and activator.  Repressors, inducers and activators are transcription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S50101"/>
          <p:cNvPicPr/>
          <p:nvPr/>
        </p:nvPicPr>
        <p:blipFill>
          <a:blip r:embed="rId1"/>
          <a:stretch/>
        </p:blipFill>
        <p:spPr>
          <a:xfrm>
            <a:off x="1828800" y="23623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transcription factors are bound to the DNA when the different sugars are 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S50102"/>
          <p:cNvPicPr/>
          <p:nvPr/>
        </p:nvPicPr>
        <p:blipFill>
          <a:blip r:embed="rId1"/>
          <a:stretch/>
        </p:blipFill>
        <p:spPr>
          <a:xfrm>
            <a:off x="1828800" y="25909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CAUSE, different genes are transcribed in the different cells so different mRNA is transcribed for protein synthes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S50067"/>
          <p:cNvPicPr/>
          <p:nvPr/>
        </p:nvPicPr>
        <p:blipFill>
          <a:blip r:embed="rId1"/>
          <a:stretch/>
        </p:blipFill>
        <p:spPr>
          <a:xfrm>
            <a:off x="1828800" y="25909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 lactose?  The repressor is bou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S50103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tose present?  The allolactose inducer causes the bound repressor to change shape and release the DNA.  The “roadblock” is removed.  Transcription beg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2" descr="S50104"/>
          <p:cNvPicPr/>
          <p:nvPr/>
        </p:nvPicPr>
        <p:blipFill>
          <a:blip r:embed="rId1"/>
          <a:stretch/>
        </p:blipFill>
        <p:spPr>
          <a:xfrm>
            <a:off x="1828800" y="228600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ly lactose present? The absence of glucose causes the cAMP level to rise and allows the binding of the activator [cAMP-CAP complex].  RNA polymerase’s affinity for DNA is enhanc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S50105"/>
          <p:cNvPicPr/>
          <p:nvPr/>
        </p:nvPicPr>
        <p:blipFill>
          <a:blip r:embed="rId1"/>
          <a:stretch/>
        </p:blipFill>
        <p:spPr>
          <a:xfrm>
            <a:off x="1828800" y="25909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68680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expression in eukaryotes has two main differences from the same process in prokary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, the typical multicellular eukaryotic genome is much larger than that of a bacter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, cell specialization limits the expression of many genes to specific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86108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IS THIS DIFFERENT IN EUKARYO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5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65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stimated 35,000 genes in the human genome includes an enormous amount of DNA that does not program the synthesis of RNA or prote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DNA is elaborately organiz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only is the DNA associated with protein to form chromatin, but the chromatin is organized into higher organizational le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 of packing is one way that gene expression is regul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sely packed areas are inactiv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sely packed areas are being actively transcri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28600" y="2285640"/>
            <a:ext cx="86868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the single circular chromosome of bacteria is coiled and looped in a complex, but orderly manner, eukaryotic chromatin is far more compl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ic DNA is precisely combined with large amounts of prote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8839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Arial"/>
              </a:rPr>
              <a:t>Chromatin structure is based on successive levels of DNA pa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380880" y="2133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interphase of the cell cycle, chromatin fibers are usually highly extended within the nucle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mitosis, the chromatin coils and condenses to form short, thick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04920" y="152280"/>
            <a:ext cx="8839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Arial"/>
              </a:rPr>
              <a:t>Chromatin structure is based on successive levels of DNA pa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"/>
          <p:cNvSpPr/>
          <p:nvPr/>
        </p:nvSpPr>
        <p:spPr>
          <a:xfrm>
            <a:off x="380880" y="2133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57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ic chromosomes contain an enormous amount of DNA relative to their condensed l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human chromosome averages about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ucleotide p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extended, each DNA molecule would be about 6 cm long, thousands of times longer than the cell diame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hromosome and 45 other human chromosomes fit into the nucle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occurs through an elaborate, multilevel system of DNA pac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381880" cy="54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st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teins are responsible for the first level of DNA packag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positively charged amino acids bind tightly to negatively charged D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ve types of histones are very similar from one eukaryote to another and are even present in bac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folded chromatin has the appearance of beads on a string,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cleoso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n which DNA winds around a core of histone protei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0215LLL"/>
          <p:cNvPicPr/>
          <p:nvPr/>
        </p:nvPicPr>
        <p:blipFill>
          <a:blip r:embed="rId1"/>
          <a:stretch/>
        </p:blipFill>
        <p:spPr>
          <a:xfrm>
            <a:off x="507960" y="380880"/>
            <a:ext cx="81262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are turned on and off.  When a gene is on, it is expressed meaning it is transcribed.  The DNA must unzip in order for transcription—it just doesn’t have to unzip entire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S50068"/>
          <p:cNvPicPr/>
          <p:nvPr/>
        </p:nvPicPr>
        <p:blipFill>
          <a:blip r:embed="rId1"/>
          <a:stretch/>
        </p:blipFill>
        <p:spPr>
          <a:xfrm>
            <a:off x="1752480" y="259092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381880" cy="45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aded string seems to remain essentially intact throughout the cell cy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nes leave the DNA only transiently during DNA repl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stay with the DNA during transcri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hanging shape and position, nucleosomes allow RNA-synthesizing polymerases to move along the D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chromosomes enter mitosis the beaded string undergoes higher-order pac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aded string coils to form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30-nm chromatin fi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fiber form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oped doma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tached to a scaffold of nonhistone protei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32767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itotic chromosom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oped domai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il and fold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 the characteristic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pha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os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packing steps are highly specific and precise with particular gen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d in the same plac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505320" y="152280"/>
            <a:ext cx="5464080" cy="64008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5"/>
          <p:cNvSpPr/>
          <p:nvPr/>
        </p:nvSpPr>
        <p:spPr>
          <a:xfrm>
            <a:off x="2514600" y="6248520"/>
            <a:ext cx="106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19.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at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19-00-Chromatin"/>
          <p:cNvPicPr/>
          <p:nvPr/>
        </p:nvPicPr>
        <p:blipFill>
          <a:blip r:embed="rId1"/>
          <a:stretch/>
        </p:blipFill>
        <p:spPr>
          <a:xfrm>
            <a:off x="2693880" y="1600200"/>
            <a:ext cx="3756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839080" cy="60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hase chromatin is generally much less condensed than the chromatin of mito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the 30-nm fibers and looped domains remain, the discrete scaffold is not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oped domains appear to be attached to the nuclear lamina and perhaps the nuclear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romatin of each chromosome occupies a restricted area within the interphase nucle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hase chromosomes have areas that remain highly condensed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terochromat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less compacted area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chromat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pa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19-01-DNAPacking.mov" descr=""/>
          <p:cNvPicPr/>
          <p:nvPr/>
        </p:nvPicPr>
        <p:blipFill>
          <a:blip r:embed="rId1"/>
          <a:stretch/>
        </p:blipFill>
        <p:spPr>
          <a:xfrm>
            <a:off x="1219320" y="1387440"/>
            <a:ext cx="701028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S50106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y binding 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gulatory region of a gene is very complex in multicellular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ding sites for MAN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ranscription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ory regions contain 1,000s of base pairs of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S50107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loo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 is flexible and can form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S50108"/>
          <p:cNvPicPr/>
          <p:nvPr/>
        </p:nvPicPr>
        <p:blipFill>
          <a:blip r:embed="rId1"/>
          <a:stretch/>
        </p:blipFill>
        <p:spPr>
          <a:xfrm>
            <a:off x="1447920" y="2286000"/>
            <a:ext cx="56386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loo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llow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ranscription fac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interact over long di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S50109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cells have “housekeeping” genes.  These genes code for proteins necessary for metabolism, structure, and synthes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S50069"/>
          <p:cNvPicPr/>
          <p:nvPr/>
        </p:nvPicPr>
        <p:blipFill>
          <a:blip r:embed="rId1"/>
          <a:stretch/>
        </p:blipFill>
        <p:spPr>
          <a:xfrm>
            <a:off x="1752480" y="259092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loo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ce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ATE of transcri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 amount of mRNA and protein synthesis is determined by these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S50110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cription factor binding in eukaryotes; influ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actions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ranscription fac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one another or with DNA can be influenced by sig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within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outside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s are integrated at the promo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S50111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cription factor—low nutri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tritional state of a cell may affect the activity of various transcription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ence of a nutrient may signal a particular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press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bind to an operator and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urn o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expression of a g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S50112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cription factor—high nutri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different gene, the presence of the same nutrient may signal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ranscription fa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bind in the regulator region and stimulate a high level of 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at do we call this type of transcription fa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S50113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cription factor—time of 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 particular time of day [lunch?] a second transcription factor may bind to augment transcription to an even 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ype of control is an internal clock regulation and would be independent of the availability of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at do we call this type of transcription fa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S50114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cription factor--Tissue specif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ption of the gene that was turned on by nutrient availability and time of day in cell A may be turned off completely by the presence of a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repress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cell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 of transcription factors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A, other factors and the environment can dramatically alter the expression of a g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" descr="S50115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ing on a g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19-09-TurningOnAGene.mov" descr=""/>
          <p:cNvPicPr/>
          <p:nvPr/>
        </p:nvPicPr>
        <p:blipFill>
          <a:blip r:embed="rId1"/>
          <a:stretch/>
        </p:blipFill>
        <p:spPr>
          <a:xfrm>
            <a:off x="914400" y="1330200"/>
            <a:ext cx="708660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S50116"/>
          <p:cNvPicPr/>
          <p:nvPr/>
        </p:nvPicPr>
        <p:blipFill>
          <a:blip r:embed="rId1"/>
          <a:stretch/>
        </p:blipFill>
        <p:spPr>
          <a:xfrm>
            <a:off x="533520" y="28584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5"/>
          <p:cNvSpPr/>
          <p:nvPr/>
        </p:nvSpPr>
        <p:spPr>
          <a:xfrm>
            <a:off x="2362320" y="4572000"/>
            <a:ext cx="5029200" cy="1295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will cost more ENERG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the best pla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transcriptional control Mechanism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mechanisms act AFTER mRNA has been synthes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s the cell more Energ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chanisms affect the amount of protein made by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1" descr="S50117"/>
          <p:cNvPicPr/>
          <p:nvPr/>
        </p:nvPicPr>
        <p:blipFill>
          <a:blip r:embed="rId1"/>
          <a:stretch/>
        </p:blipFill>
        <p:spPr>
          <a:xfrm>
            <a:off x="2286000" y="3086280"/>
            <a:ext cx="49528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ssue-specific </a:t>
            </a: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mRNA spl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ype of proteins made by a cell can be regulat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licing the precursor mRNA in different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mRNAs are spliced in a </a:t>
            </a:r>
            <a:r>
              <a:rPr b="1" lang="en-US" sz="3200" spc="-1" strike="noStrike" u="sng">
                <a:solidFill>
                  <a:srgbClr val="9900ff"/>
                </a:solidFill>
                <a:uFillTx/>
                <a:latin typeface="Arial"/>
              </a:rPr>
              <a:t>tissue-specif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ner so that two different proteins are made in two different types of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genes are tissue-specific and are only expressed in certain types of cells or tissu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S50070"/>
          <p:cNvPicPr/>
          <p:nvPr/>
        </p:nvPicPr>
        <p:blipFill>
          <a:blip r:embed="rId1"/>
          <a:stretch/>
        </p:blipFill>
        <p:spPr>
          <a:xfrm>
            <a:off x="1752480" y="2438280"/>
            <a:ext cx="5689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yroid cells splice together exons 1,2,3 and 4 of the gene to form an mRNA that is translated into the calcitonin protei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S50118"/>
          <p:cNvPicPr/>
          <p:nvPr/>
        </p:nvPicPr>
        <p:blipFill>
          <a:blip r:embed="rId1"/>
          <a:stretch/>
        </p:blipFill>
        <p:spPr>
          <a:xfrm>
            <a:off x="1676520" y="25909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ain cells splice together exons 1,2,3,5, and 6 from the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RNA to form the neuropeptide CGR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S50119"/>
          <p:cNvPicPr/>
          <p:nvPr/>
        </p:nvPicPr>
        <p:blipFill>
          <a:blip r:embed="rId1"/>
          <a:stretch/>
        </p:blipFill>
        <p:spPr>
          <a:xfrm>
            <a:off x="1981080" y="259092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mRNA S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poly-A ta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mRNA is important for its stabilit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poly-A ta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removed, then RNA is rapidly degraded and less protein is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S50120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mRNA s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s that bind to mRNA can influence survival of the </a:t>
            </a: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poly-A ta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hence influence the amount of protein translated form the m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S50121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</a:t>
            </a: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compartment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NAs can be </a:t>
            </a: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transported to specific sections of the ce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which the translated products of the mRNA will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mRNAs are </a:t>
            </a: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sequestered in sections of a cell until they are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7" descr="S50122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Translational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Alters the rate at which ribosomes bind to a mR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make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issue-specific blocking protein may bind to the RNA and inhibit the binding of rib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S50123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of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19-10-ControlOfTranslation.mov" descr=""/>
          <p:cNvPicPr/>
          <p:nvPr/>
        </p:nvPicPr>
        <p:blipFill>
          <a:blip r:embed="rId1"/>
          <a:stretch/>
        </p:blipFill>
        <p:spPr>
          <a:xfrm>
            <a:off x="2243160" y="21430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ene is transcribed into mRNA in the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NA is also processed in the nucleus by splicing and adding the poly-A 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cing influences the ultimate product of the 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CYTOPLASM, the availability of mRNA to ribosomes and the presence of molecules that either protect or degrade the mRNA will influence the amount of protein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19-08-RNAprocessing.mov" descr=""/>
          <p:cNvPicPr/>
          <p:nvPr/>
        </p:nvPicPr>
        <p:blipFill>
          <a:blip r:embed="rId1"/>
          <a:stretch/>
        </p:blipFill>
        <p:spPr>
          <a:xfrm>
            <a:off x="990720" y="1387440"/>
            <a:ext cx="693396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S501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genes turn ON and OF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S50071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ibody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bodies are proteins that recognize invaders [antigen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zed by cells in which DNA rearrangement produces a functional antibody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8320" y="990360"/>
            <a:ext cx="40384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ed of 4 polypeptide ch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heavy (H) &amp; 2 light (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is composed of 3 regions: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ariable, joining and constant: V,J &amp;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antibody recognizes and binds to one specific ant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need a great diversity of antibodies to protect against a variety of invaders [pathogen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S501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5"/>
          <p:cNvSpPr/>
          <p:nvPr/>
        </p:nvSpPr>
        <p:spPr>
          <a:xfrm>
            <a:off x="6477120" y="4800600"/>
            <a:ext cx="1904760" cy="380880"/>
          </a:xfrm>
          <a:prstGeom prst="wedgeRectCallout">
            <a:avLst>
              <a:gd name="adj1" fmla="val -133083"/>
              <a:gd name="adj2" fmla="val -19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body light chain g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nome contains several copies of the different parts of the antibody ge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undifferentiated cells, each gene for the L of antibodies inclu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s of different V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J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r more different C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nes for the H chains are organized simil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S501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ibody specificity created by gene rearran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differentiation of immune cells that are destined to produce antibodies, the antibody genes are rearranged via recombination to produce functional antibody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rrangement of the gene occurs by joining together one segment from each of the 3 regions of the gene and by deleting the other, extra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umber of combinations of segments from the 3 regions is tremend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5" descr="S50128"/>
          <p:cNvPicPr/>
          <p:nvPr/>
        </p:nvPicPr>
        <p:blipFill>
          <a:blip r:embed="rId1"/>
          <a:stretch/>
        </p:blipFill>
        <p:spPr>
          <a:xfrm>
            <a:off x="1219320" y="1866960"/>
            <a:ext cx="6654600" cy="4991040"/>
          </a:xfrm>
          <a:prstGeom prst="rect">
            <a:avLst/>
          </a:prstGeom>
          <a:ln w="0">
            <a:noFill/>
          </a:ln>
        </p:spPr>
      </p:pic>
      <p:sp>
        <p:nvSpPr>
          <p:cNvPr id="258" name="AutoShape 7"/>
          <p:cNvSpPr/>
          <p:nvPr/>
        </p:nvSpPr>
        <p:spPr>
          <a:xfrm>
            <a:off x="0" y="1523880"/>
            <a:ext cx="1676520" cy="1676520"/>
          </a:xfrm>
          <a:prstGeom prst="wedgeRectCallout">
            <a:avLst>
              <a:gd name="adj1" fmla="val 66574"/>
              <a:gd name="adj2" fmla="val 3314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parts are ex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parts are intr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ibody specificity created by gene rearran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L chain protein produced by the cell contains one V, J and C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 chain is produced by a similar rearrangemen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e two light chains are iden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e two heavy chains are iden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combination of a light chain and a heavy chain can recognize one specific ant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S501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0s of antibodies on pa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bination of antibody gene DNA segments can occur at many different sites but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lways occur between V-J and J-C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ntibody expressed by a cell is determined by the combination of V, J and C regions that are NOT dele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reates the potential for each cell to make any one of 1000s of different antibody molecules, each of which can recognize a different ant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binations occur betwee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-J and J-C reg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S50131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S50130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conserve ENERGY, it is most efficient to control this at the transcription level.  Why transcribe mRNA that is not needed by the c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S50072"/>
          <p:cNvPicPr/>
          <p:nvPr/>
        </p:nvPicPr>
        <p:blipFill>
          <a:blip r:embed="rId1"/>
          <a:stretch/>
        </p:blipFill>
        <p:spPr>
          <a:xfrm>
            <a:off x="1981080" y="259092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ch developing antibody-producing cell has the potential to form a unique anti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Each cell makes only one type of antibo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cause its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genes undergo rearrangement early in the differentiation of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ell is thereafter committed to produce only one type of antibo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9" descr="S50132"/>
          <p:cNvPicPr/>
          <p:nvPr/>
        </p:nvPicPr>
        <p:blipFill>
          <a:blip r:embed="rId1"/>
          <a:stretch/>
        </p:blipFill>
        <p:spPr>
          <a:xfrm>
            <a:off x="4648320" y="281952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5" descr="S50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ampl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regions of DNA can undergo EXTRA rounds of DNA re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6" descr="S50134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ampl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ocess is called ampl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7" descr="S50135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ampl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reates MORE copies of DNA and hence the potential to make more 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6" descr="S50136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ampl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you know what that mean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protei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7" descr="S50137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amplification of rRNA genes in amphibian eg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mphibian eggs, genes for rRNA become highly ampl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7" descr="S50138"/>
          <p:cNvPicPr/>
          <p:nvPr/>
        </p:nvPicPr>
        <p:blipFill>
          <a:blip r:embed="rId1"/>
          <a:stretch/>
        </p:blipFill>
        <p:spPr>
          <a:xfrm>
            <a:off x="3962520" y="183348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amplification of rRNA genes in amphibian eg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mplification, in this case, begins with recombination between repeated copies of the rRNA genes, resulting in the production of circular DNA molecules containing the rRNA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7" descr="S50139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amplification of rRNA genes in amphibian eg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8" descr="S50140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r more efficient that duplicating DNA the old fashioned wa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small, circular DNA molecules replicate to produce 1000s of copies of the rRNA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llows the egg to quickly make many ribosomes which are needed for protein synthesis after fer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7" descr="S50141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2T14:12:43Z</dcterms:created>
  <dc:creator>Program Coordinator</dc:creator>
  <dc:description/>
  <dc:language>en-US</dc:language>
  <cp:lastModifiedBy>René McCormick</cp:lastModifiedBy>
  <dcterms:modified xsi:type="dcterms:W3CDTF">2010-04-01T18:26:10Z</dcterms:modified>
  <cp:revision>10</cp:revision>
  <dc:subject/>
  <dc:title>Gene Regulation</dc:title>
</cp:coreProperties>
</file>