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58.jpeg" ContentType="image/jpeg"/>
  <Override PartName="/ppt/media/image56.png" ContentType="image/png"/>
  <Override PartName="/ppt/media/image40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57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20.jpeg" ContentType="image/jpeg"/>
  <Override PartName="/ppt/media/image14.jpeg" ContentType="image/jpeg"/>
  <Override PartName="/ppt/media/image66.png" ContentType="image/png"/>
  <Override PartName="/ppt/media/image41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21.jpeg" ContentType="image/jpeg"/>
  <Override PartName="/ppt/media/image80.jpeg" ContentType="image/jpeg"/>
  <Override PartName="/ppt/media/image65.png" ContentType="image/pn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70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42.png" ContentType="image/pn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E177-9203-4300-9030-557A6E98A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248C-D4E9-47E9-94DA-CEEE1E751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7FB5-D1F0-4AC1-8D47-A86FCD265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CFB0-34CF-4A03-9E43-47D0B764D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1F24-8AB5-4AE0-8718-D0C9038FF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042A-D634-4D20-A49F-A29D9E990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DA4C-3936-4C93-8CE0-CEA71368C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8958-FB5E-4DC3-86B3-96C6BCF58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64D3-5747-48ED-AB03-206463B3E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8515-D125-488D-8988-0F3A2B4E0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27FB-6A76-4C1F-B47F-FC46FF93A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E61E-DEF5-4FC5-83C7-BCC450408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A4B4-0327-4FFA-BB1F-11F36B44C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FD30-0086-4D00-AF75-FA8117D49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EDC4-8141-46C2-9294-0B23FFDB1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22BE-3F96-4DFB-8441-69353473B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A516-53E4-41BE-8016-4CB45EDC8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31FE-A23F-4C0B-A863-0DC865EDC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6D01-8957-4554-85AE-2051A9F6A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9C2D-9CCC-43F0-AFA4-F2D540AD2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F5FB-2D36-46DE-9102-29C5FDAB4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B9C5-E154-4B4E-8A95-A2DD9FBEE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1802-AA7E-4306-B93E-E6DD116B3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FE08-216E-49C7-BB62-601B9E5E9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419A-72F3-4638-A8C0-85E1D91E3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7D2F-8C3B-41A9-ACAC-DC699E8B3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BDFF-9A33-433A-BF03-238388E7B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1ED9-5258-4A30-AE0A-D5B8C0E93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BB62-15BF-4BE7-9BF7-2EC934AEF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32E8-4016-4DEE-A516-556F1CA33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1BF3-237E-4429-A548-61777D10C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AE23-6253-4329-9351-642065E50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2ED5-7A0A-45ED-951A-45E90D39F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ACC9-85F7-4B07-B447-BF6A726D8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5EC5-E2C7-47EA-8AAD-68376D31E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EAC2-2BD1-4A8C-A815-FD2FD49DF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4A30-BD6F-41BF-9ED3-5E538EAB5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1171-7478-4F8C-BF3B-662F734F2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A480-F4D9-4D70-952D-C4490CFD4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5CF2-F8B3-4E4C-BD97-4D4528FD1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395F-0305-4A91-A531-53274B44A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0A01-7D12-4E9A-8E43-B0C18B1A1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4D54-1221-45CB-9339-882972012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44ED-CFC2-4942-867C-8B505F60D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BD66-E175-40C4-A61C-490888D43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E7F8-B862-492A-B0F6-A5E8AAD28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ECF7-54D9-4E25-8B87-53973BA23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D090-0F91-49DE-8A5F-0A2E95056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1C34-975D-466B-903D-3C4D2E3C9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FB1F-8B03-46A2-B985-8697CE4AD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9EAA-ED3E-45B3-92D5-62B335745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807F-1BB1-4AFB-9CE8-B8B5930C6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3B08-3E0E-4EFE-A82A-BD2ECD58E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AB02-827A-43B5-B3EE-AF7C3BAA8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1B15-5471-4944-9FCB-0B6C97631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919B-1FC9-45A7-9C9D-F36A994FC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6097-2EA3-4C05-8CBB-C89C6E8D8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C0F2-85D1-4D9B-8889-2F5D54E1D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56C8-B061-46D6-B81A-9A605D020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5A09-4D1E-44B1-9535-05BB42B31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2E8F-7D27-4D48-B8A2-ACF60303D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616D-53AC-4F54-9A87-B8FFBCB0D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A91C-DA0A-4B68-A699-5303A2544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8479-6C8D-4AEB-8BEC-50A04464D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638A-DC58-4737-8147-DBB02313C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E941-2BB6-49AF-A383-026A34750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59BF-D3D5-463E-A34D-E197D3E68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EADE-2155-4657-8A07-81E528658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B1FC-0F2C-4537-9304-7B7B7F2BC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6C2B-E9C6-4E8E-A53D-83B1CB3D0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560D-1A0C-44B3-940F-E97A28F38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436F-4219-43C4-88EA-854459504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ECCE-C0F1-4B2D-BEC9-70F510ED5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27B6-583F-4366-A766-E3133CA5F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A111-E204-4D46-93F0-A488C9EAD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7349-65AC-4E00-AA1E-964649990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6D37-2880-49EF-AAB5-3E10CF7C6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33F5-7BC0-439F-9DEB-8FFCD27A7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B06A-1CD2-4F74-A8B2-93795B6D3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6B1B-51B7-4D88-8E90-FF2769650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648C-3E8D-4B32-B455-B8A71C0F1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17D1-DCE7-487E-BAC2-DC0ACCBB2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A015-DE6B-4C2B-8B7C-F92B2EC7F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7D75-D855-40D1-8ADA-240AF3946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7190-D016-4611-BA31-E31669C2F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FC42-4AF8-4197-8FA3-A12A1E2C0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C284-3A5F-4232-8997-E4543B415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2D88-94B1-48C7-8C4B-C0B10D35B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6F6B-67FD-42B3-8341-A70A91961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B62D-D064-4E26-8F14-BDA5E9912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BDD4-665E-4785-B084-4A3CE4BDC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2226-8096-40FF-898D-65CB60965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D950-9465-4205-B1A5-E613D47E5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6BFC-C34E-4D74-A8A8-E0DEAFD11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F5C4-6220-43A1-BABE-9F3506322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D277-D760-40A8-B2CB-04A36918A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E101-DF97-4CD1-9B4C-C3ECEFC1C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FC05-58B9-4A06-853D-4ED98A71F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286A-39AB-418F-928D-708234ABE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603D-FF87-4A1B-B8EF-810ED103B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6381-E31C-4AD5-8E77-381A4171C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6A73-6FE1-4072-B2D1-3C551F4AC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83C9-271A-4D25-9437-F58F41229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B970-F8AF-48DA-A4C1-05037DC2D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F9A0-98A1-419A-9F6A-CF8612E56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47C6-BBC4-4451-BF3F-8AB648EF4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CECD-CC69-4C2F-947B-60EBDDCD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2562-9D45-4145-A474-7B207727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C3E1-AC94-43D0-B42A-FA35D64B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C4AF-171E-49E6-BE94-DC29314D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E468-25E7-4FE3-B186-CF20FAA0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F4F3-37B2-46D4-A3B2-B11B8610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5881-01C9-4242-A8F5-1647F85D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CD88-26D1-4433-B2C2-011AB04B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964A-A019-4798-B234-5BACB922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7B14-817B-4C1B-91BF-4D0EFCD1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70D1-B66A-4B78-84CA-4590F812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127B-FB8E-4BE0-865E-F5E0A41F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4516-2102-4B61-B68A-248B30378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Gene Regul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urning genes ON and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s:  These bind to the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N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ctivato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4000" spc="-1" strike="noStrike">
                <a:solidFill>
                  <a:srgbClr val="9900ff"/>
                </a:solidFill>
                <a:latin typeface="Arial"/>
              </a:rPr>
              <a:t>Represso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S50073"/>
          <p:cNvPicPr/>
          <p:nvPr/>
        </p:nvPicPr>
        <p:blipFill>
          <a:blip r:embed="rId1"/>
          <a:stretch/>
        </p:blipFill>
        <p:spPr>
          <a:xfrm>
            <a:off x="1295280" y="2438280"/>
            <a:ext cx="5689800" cy="426744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7"/>
          <p:cNvSpPr/>
          <p:nvPr/>
        </p:nvSpPr>
        <p:spPr>
          <a:xfrm>
            <a:off x="6858000" y="1676520"/>
            <a:ext cx="2286000" cy="1676160"/>
          </a:xfrm>
          <a:prstGeom prst="wedgeRoundRectCallout">
            <a:avLst>
              <a:gd name="adj1" fmla="val -70069"/>
              <a:gd name="adj2" fmla="val 11818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rey line will represen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out this les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—role in resistance to cancer dr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amplification can also be important in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trexate is a drug used to treat cancer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mor cells that are rapidly synthesizing DNA are more damaged by the drug than normal cell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S50142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—role in resistance to cancer dr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trexate inhibits the activity of dihydrofolate reductase (DHFR), an enzyme needed for synthesis of deoxyribo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ncer cell may become resistant to methotrexate if amplification of the DHFR gene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50143"/>
          <p:cNvPicPr/>
          <p:nvPr/>
        </p:nvPicPr>
        <p:blipFill>
          <a:blip r:embed="rId1"/>
          <a:stretch/>
        </p:blipFill>
        <p:spPr>
          <a:xfrm>
            <a:off x="4267080" y="20048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—role in resistance to cancer dr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copies of the gene encoding DHFR allow enough enzyme to be made for the cell to continue to grow in the presence of methotrex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7" descr="S50144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—role in resistance to cancer dr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7" descr="S50145"/>
          <p:cNvPicPr/>
          <p:nvPr/>
        </p:nvPicPr>
        <p:blipFill>
          <a:blip r:embed="rId1"/>
          <a:stretch/>
        </p:blipFill>
        <p:spPr>
          <a:xfrm>
            <a:off x="1143000" y="15238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S50146"/>
          <p:cNvPicPr/>
          <p:nvPr/>
        </p:nvPicPr>
        <p:blipFill>
          <a:blip r:embed="rId1"/>
          <a:stretch/>
        </p:blipFill>
        <p:spPr>
          <a:xfrm>
            <a:off x="1727280" y="12952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ce of gene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ount and time of gene expression can be regulated at any one of several steps between the DNA and the final functional gene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7" descr="S50147"/>
          <p:cNvPicPr/>
          <p:nvPr/>
        </p:nvPicPr>
        <p:blipFill>
          <a:blip r:embed="rId1"/>
          <a:stretch/>
        </p:blipFill>
        <p:spPr>
          <a:xfrm>
            <a:off x="2590920" y="31050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s that are regulated by the same repressor or activator have the same or closely related regulatory sequenc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S50074"/>
          <p:cNvPicPr/>
          <p:nvPr/>
        </p:nvPicPr>
        <p:blipFill>
          <a:blip r:embed="rId1"/>
          <a:stretch/>
        </p:blipFill>
        <p:spPr>
          <a:xfrm>
            <a:off x="17524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 regulatory sequences are tissue-specifi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50075"/>
          <p:cNvPicPr/>
          <p:nvPr/>
        </p:nvPicPr>
        <p:blipFill>
          <a:blip r:embed="rId1"/>
          <a:stretch/>
        </p:blipFill>
        <p:spPr>
          <a:xfrm>
            <a:off x="380880" y="2362320"/>
            <a:ext cx="4038840" cy="30286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447560"/>
            <a:ext cx="4495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le-specific genes all have a particular sequence in their DNA to which a muscle-specific transcription factor binds and activates expression of these gen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rve-specific genes have a DIFFERENT sequence in the DNA and different transcription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DNA base sequences lie “upstream” from the base sequences that will be transcribed when the gene is expr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about those DNA sequ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50076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-Binding domains have been conserved throughout 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S50077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ription factors are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distinct regions with specific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region is the DNA-binding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omain—it IS a region of the protein that is the transcription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ten the domain is an </a:t>
            </a:r>
            <a:r>
              <a:rPr b="0" lang="el-GR" sz="4400" spc="-1" strike="noStrike">
                <a:solidFill>
                  <a:srgbClr val="000000"/>
                </a:solidFill>
                <a:latin typeface="Times New Roman MT Extra Bold"/>
                <a:ea typeface="Arial"/>
              </a:rPr>
              <a:t>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-hel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S50078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7"/>
          <p:cNvSpPr/>
          <p:nvPr/>
        </p:nvSpPr>
        <p:spPr>
          <a:xfrm>
            <a:off x="7162920" y="4267080"/>
            <a:ext cx="1981080" cy="2210040"/>
          </a:xfrm>
          <a:prstGeom prst="wedgeRoundRectCallout">
            <a:avLst>
              <a:gd name="adj1" fmla="val -123078"/>
              <a:gd name="adj2" fmla="val -4080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red thing, that looks like a stick of dynamite, is just another representation of th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hel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the 2 most common DNA-binding domains.  If you can name them &amp; explain their function in an essay, it’s often worth a poin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S50079"/>
          <p:cNvPicPr/>
          <p:nvPr/>
        </p:nvPicPr>
        <p:blipFill>
          <a:blip r:embed="rId1"/>
          <a:stretch/>
        </p:blipFill>
        <p:spPr>
          <a:xfrm>
            <a:off x="167652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inding domains of repressors and activators contact specific nucleotide sequences in D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S50080"/>
          <p:cNvPicPr/>
          <p:nvPr/>
        </p:nvPicPr>
        <p:blipFill>
          <a:blip r:embed="rId1"/>
          <a:stretch/>
        </p:blipFill>
        <p:spPr>
          <a:xfrm>
            <a:off x="1752480" y="228600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gulatory region of a gene has many binding sites upstream from the promo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S50081"/>
          <p:cNvPicPr/>
          <p:nvPr/>
        </p:nvPicPr>
        <p:blipFill>
          <a:blip r:embed="rId1"/>
          <a:stretch/>
        </p:blipFill>
        <p:spPr>
          <a:xfrm>
            <a:off x="0" y="21337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8284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these sites are near the promoter, BUT they can be distant a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otide sequence to which a positive activator binds is called an activator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otide sequence to which a negative repressor binds is called a repressor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S50082"/>
          <p:cNvPicPr/>
          <p:nvPr/>
        </p:nvPicPr>
        <p:blipFill>
          <a:blip r:embed="rId1"/>
          <a:stretch/>
        </p:blipFill>
        <p:spPr>
          <a:xfrm>
            <a:off x="1143000" y="623880"/>
            <a:ext cx="716292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cells in an organism contain the same DNA, so why are the cells differ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S50065"/>
          <p:cNvPicPr/>
          <p:nvPr/>
        </p:nvPicPr>
        <p:blipFill>
          <a:blip r:embed="rId1"/>
          <a:stretch/>
        </p:blipFill>
        <p:spPr>
          <a:xfrm>
            <a:off x="1676520" y="23623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sors prevent transcription by being a “roadblock” so RNA polymerase cannot bind to the DNA at the promo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S50083"/>
          <p:cNvPicPr/>
          <p:nvPr/>
        </p:nvPicPr>
        <p:blipFill>
          <a:blip r:embed="rId1"/>
          <a:stretch/>
        </p:blipFill>
        <p:spPr>
          <a:xfrm>
            <a:off x="182880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a repressor is NOT bound, RNA polymerase can bind to the promoter and transcription begi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S50084"/>
          <p:cNvPicPr/>
          <p:nvPr/>
        </p:nvPicPr>
        <p:blipFill>
          <a:blip r:embed="rId1"/>
          <a:stretch/>
        </p:blipFill>
        <p:spPr>
          <a:xfrm>
            <a:off x="1828800" y="228600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ators help RNA polymerase bind to the DNA.  Very active genes have several RNA polymerases transcribing the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S50085"/>
          <p:cNvPicPr/>
          <p:nvPr/>
        </p:nvPicPr>
        <p:blipFill>
          <a:blip r:embed="rId1"/>
          <a:stretch/>
        </p:blipFill>
        <p:spPr>
          <a:xfrm>
            <a:off x="17524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ructure and function of the transcription factor can be altered when other molecules bind to the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S50086"/>
          <p:cNvPicPr/>
          <p:nvPr/>
        </p:nvPicPr>
        <p:blipFill>
          <a:blip r:embed="rId1"/>
          <a:stretch/>
        </p:blipFill>
        <p:spPr>
          <a:xfrm>
            <a:off x="1752480" y="2438280"/>
            <a:ext cx="5689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molecules, INDUCERS, can bind to a transcription factor [repressor in this picture], cause a conformational shape change and decrease its ability to bind 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uses the repressor to abandon the DNA and transcription is no longer block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8" descr="S50087"/>
          <p:cNvPicPr/>
          <p:nvPr/>
        </p:nvPicPr>
        <p:blipFill>
          <a:blip r:embed="rId1"/>
          <a:stretch/>
        </p:blipFill>
        <p:spPr>
          <a:xfrm>
            <a:off x="0" y="25909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 THIS WEL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S50088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PERON is a group of genes that are transcribed togeth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turned ON or OFF as a un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3 genes are needed to metabolize lacto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pressor site of an operon is called an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S50089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4800600" y="5638680"/>
            <a:ext cx="4038480" cy="1059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tos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lucose + gala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genes code for the enzymes that metabolize the above reac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6172200" y="304920"/>
            <a:ext cx="2971800" cy="2133360"/>
          </a:xfrm>
          <a:prstGeom prst="wedgeRoundRectCallout">
            <a:avLst>
              <a:gd name="adj1" fmla="val -83013"/>
              <a:gd name="adj2" fmla="val 7358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genes are only turned ON if lactose is present.  Why waste energy synthesizing proteins that serve NO function in the absence of lact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c repress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bound to the repressor site, called the operator [since it controls the operon].  It is the “roadblock” that blocks the initiation of transcription at the promo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S50090"/>
          <p:cNvPicPr/>
          <p:nvPr/>
        </p:nvPicPr>
        <p:blipFill>
          <a:blip r:embed="rId1"/>
          <a:stretch/>
        </p:blipFill>
        <p:spPr>
          <a:xfrm>
            <a:off x="1752480" y="2438280"/>
            <a:ext cx="5689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lactose is an INDU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lactose is present, some of it exists as an isomer called allolact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lactose acts as an indu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inds to the Lac Repressor, causing a conformational shape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S5009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called negative regulation of the lac ope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nge in shape, causes the Lac Repressor to release the DNA so transcription is no longer bloc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NA polymerase can now bind to the promoter and transcription of the lactose operon can beg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S50092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CAUSE, they contain and are made up of different protei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50066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ce more, with feeling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5029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ABSENCE OF LACTOSE, it is normal for the lac repressor to be bound to the oper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lactose is present, it’s isomer—allolactose—acts as an indu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binds to the repressor, changing its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uses the repressor to release the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NA polymerase can now bind to the promoter so transcription of the 3 genes comprising the operon can commenc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sis of the 3 proteins necessary for the breakdown of lactose are now manufactured and lactose can be utilized by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S50093"/>
          <p:cNvPicPr/>
          <p:nvPr/>
        </p:nvPicPr>
        <p:blipFill>
          <a:blip r:embed="rId1"/>
          <a:stretch/>
        </p:blipFill>
        <p:spPr>
          <a:xfrm>
            <a:off x="5105520" y="20574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5181480" y="54100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cess is call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GATIVE REGULATION OF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. coli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LACTOSE 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tivator steps up the transcrip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f the lactose enzymes can be transcribed at once—assembly line sty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S50094"/>
          <p:cNvPicPr/>
          <p:nvPr/>
        </p:nvPicPr>
        <p:blipFill>
          <a:blip r:embed="rId1"/>
          <a:stretch/>
        </p:blipFill>
        <p:spPr>
          <a:xfrm>
            <a:off x="4495680" y="1828800"/>
            <a:ext cx="4496040" cy="3371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>
            <a:off x="4495680" y="5562720"/>
            <a:ext cx="43434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cess is POSITIVE Regulation of the Lac Oper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atabolite Activator Protein: C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name of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abolit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ivat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needs cyclic AMP [cAMP; ATP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] bound to it before it can have the proper shape in order to bind to the activator site of the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bound, it INCREASES the ability of RNA polymerase to bind to the promoter and transcribe the 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S50095"/>
          <p:cNvPicPr/>
          <p:nvPr/>
        </p:nvPicPr>
        <p:blipFill>
          <a:blip r:embed="rId1"/>
          <a:stretch/>
        </p:blipFill>
        <p:spPr>
          <a:xfrm>
            <a:off x="5105520" y="23623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hyper drive!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S50096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AMP-CAP complex is very attractive to RNA polymeras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the cAMP-CAP complex contacts BOTH the DNA at the activator site AND the RNA polymeras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ntact makes the RNA polymerase have MORE attraction for the DNA, stepping up the rate of transcription of the oper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S50097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purpo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is regulation, cells are very E effici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ells would rather use glucose as a food sou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’s why it is normal for the repressor to be in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glucose is available, the cell won’t metabolize lact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cose yields more energy to the cells than lact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S50098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8"/>
          <p:cNvSpPr/>
          <p:nvPr/>
        </p:nvSpPr>
        <p:spPr>
          <a:xfrm>
            <a:off x="4648320" y="5562720"/>
            <a:ext cx="4267080" cy="1066680"/>
          </a:xfrm>
          <a:prstGeom prst="wedgeRoundRectCallout">
            <a:avLst>
              <a:gd name="adj1" fmla="val 20833"/>
              <a:gd name="adj2" fmla="val -4508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ucose helps the cells grow!  As it is used up, the number of dividing cells stabilizes in the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ucose availability regulates cAMP produ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bacterial cells—glycolysis is their only source of A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glucose is gone, ATP production c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P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 SO, the concentration of the cyclic form of AMP will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S50099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both glucose and lactose are 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will use glucose first until g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 production increases as a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 binds to the CAP and the activator complex, in turn, causes RNA polymerase to crank up the rate of transcription of the lac op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zymes necessary to utilize lactose as an energy source are QUICKLY manufactur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S50100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8"/>
          <p:cNvSpPr/>
          <p:nvPr/>
        </p:nvSpPr>
        <p:spPr>
          <a:xfrm>
            <a:off x="7620120" y="5867280"/>
            <a:ext cx="1523880" cy="533520"/>
          </a:xfrm>
          <a:prstGeom prst="wedgeRoundRectCallout">
            <a:avLst>
              <a:gd name="adj1" fmla="val -102606"/>
              <a:gd name="adj2" fmla="val -39940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thi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egative contr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aused by a repressor, which can be affected by an inducer.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sitive contr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aused by and activator.  Repressors, inducers and activators are transcription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S50101"/>
          <p:cNvPicPr/>
          <p:nvPr/>
        </p:nvPicPr>
        <p:blipFill>
          <a:blip r:embed="rId1"/>
          <a:stretch/>
        </p:blipFill>
        <p:spPr>
          <a:xfrm>
            <a:off x="1828800" y="23623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transcription factors are bound to the DNA when the different sugars are 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S50102"/>
          <p:cNvPicPr/>
          <p:nvPr/>
        </p:nvPicPr>
        <p:blipFill>
          <a:blip r:embed="rId1"/>
          <a:stretch/>
        </p:blipFill>
        <p:spPr>
          <a:xfrm>
            <a:off x="182880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CAUSE, different genes are transcribed in the different cells so different mRNA is transcribed for protein synthes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50067"/>
          <p:cNvPicPr/>
          <p:nvPr/>
        </p:nvPicPr>
        <p:blipFill>
          <a:blip r:embed="rId1"/>
          <a:stretch/>
        </p:blipFill>
        <p:spPr>
          <a:xfrm>
            <a:off x="182880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lactose?  The repressor is b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S50103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tose present?  The allolactose inducer causes the bound repressor to change shape and release the DNA.  The “roadblock” is removed.  Transcription beg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2" descr="S50104"/>
          <p:cNvPicPr/>
          <p:nvPr/>
        </p:nvPicPr>
        <p:blipFill>
          <a:blip r:embed="rId1"/>
          <a:stretch/>
        </p:blipFill>
        <p:spPr>
          <a:xfrm>
            <a:off x="1828800" y="228600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y lactose present? The absence of glucose causes the cAMP level to rise and allows the binding of the activator [cAMP-CAP complex].  RNA polymerase’s affinity for DNA is enhanc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S50105"/>
          <p:cNvPicPr/>
          <p:nvPr/>
        </p:nvPicPr>
        <p:blipFill>
          <a:blip r:embed="rId1"/>
          <a:stretch/>
        </p:blipFill>
        <p:spPr>
          <a:xfrm>
            <a:off x="182880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6868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expression in eukaryotes has two main differences from the same process in prokary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, the typical multicellular eukaryotic genome is much larger than that of a bacter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, cell specialization limits the expression of many genes to specific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8610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IS THIS DIFFERENT IN EUKARYO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65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stimated 35,000 genes in the human genome includes an enormous amount of DNA that does not program the synthesis of RNA or prot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DNA is elaborately organ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only is the DNA associated with protein to form chromatin, but the chromatin is organized into higher organizational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of packing is one way that gene expression is regu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ely packed areas are inactiv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sely packed areas are being actively transcri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86868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single circular chromosome of bacteria is coiled and looped in a complex, but orderly manner, eukaryotic chromatin is far more compl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ic DNA is precisely combined with large amounts of prot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Chromatin structure is based on successive levels of DNA p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380880" y="2133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interphase of the cell cycle, chromatin fibers are usually highly extended within the nucle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mitosis, the chromatin coils and condenses to form short, thick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04920" y="152280"/>
            <a:ext cx="8839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Chromatin structure is based on successive levels of DNA p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380880" y="2133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7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ic chromosomes contain an enormous amount of DNA relative to their condensed l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human chromosome averages about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ucleotide p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extended, each DNA molecule would be about 6 cm long, thousands of times longer than the cell diam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hromosome and 45 other human chromosomes fit into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occurs through an elaborate, multilevel system of DNA pac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381880" cy="54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teins are responsible for the first level of DNA packa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positively charged amino acids bind tightly to negatively charged 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ve types of histones are very similar from one eukaryote to another and are even present in bac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olded chromatin has the appearance of beads on a string,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cleos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n which DNA winds around a core of histone protei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0215LLL"/>
          <p:cNvPicPr/>
          <p:nvPr/>
        </p:nvPicPr>
        <p:blipFill>
          <a:blip r:embed="rId1"/>
          <a:stretch/>
        </p:blipFill>
        <p:spPr>
          <a:xfrm>
            <a:off x="507960" y="380880"/>
            <a:ext cx="8126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are turned on and off.  When a gene is on, it is expressed meaning it is transcribed.  The DNA must unzip in order for transcription—it just doesn’t have to unzip entire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S50068"/>
          <p:cNvPicPr/>
          <p:nvPr/>
        </p:nvPicPr>
        <p:blipFill>
          <a:blip r:embed="rId1"/>
          <a:stretch/>
        </p:blipFill>
        <p:spPr>
          <a:xfrm>
            <a:off x="17524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381880" cy="45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aded string seems to remain essentially intact throughout the cell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nes leave the DNA only transiently during DNA re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tay with the DNA during transcri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hanging shape and position, nucleosomes allow RNA-synthesizing polymerases to move along the D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chromosomes enter mitosis the beaded string undergoes higher-order pac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aded string coils to form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30-nm chromatin fi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fiber form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oped doma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tached to a scaffold of nonhistone protei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3276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itotic chromosom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oped domai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il and fold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 the characteristi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ph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os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packing steps are highly specific and precise with particular gen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 in the same plac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505320" y="152280"/>
            <a:ext cx="5464080" cy="64008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2514600" y="6248520"/>
            <a:ext cx="106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19.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at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19-00-Chromatin"/>
          <p:cNvPicPr/>
          <p:nvPr/>
        </p:nvPicPr>
        <p:blipFill>
          <a:blip r:embed="rId1"/>
          <a:stretch/>
        </p:blipFill>
        <p:spPr>
          <a:xfrm>
            <a:off x="2693880" y="1600200"/>
            <a:ext cx="375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839080" cy="60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hase chromatin is generally much less condensed than the chromatin of mit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the 30-nm fibers and looped domains remain, the discrete scaffold is not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oped domains appear to be attached to the nuclear lamina and perhaps the nuclear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romatin of each chromosome occupies a restricted area within the interphase nucle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hase chromosomes have areas that remain highly condensed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terochromat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less compacted area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chromat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p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19-01-DNAPacking.mov" descr=""/>
          <p:cNvPicPr/>
          <p:nvPr/>
        </p:nvPicPr>
        <p:blipFill>
          <a:blip r:embed="rId1"/>
          <a:stretch/>
        </p:blipFill>
        <p:spPr>
          <a:xfrm>
            <a:off x="1219320" y="1387440"/>
            <a:ext cx="701028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S50106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y binding 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gulatory region of a gene is very complex in multicellular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ing sites for MAN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criptio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 regions contain 1,000s of base pairs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S50107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loo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is flexible and can form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S50108"/>
          <p:cNvPicPr/>
          <p:nvPr/>
        </p:nvPicPr>
        <p:blipFill>
          <a:blip r:embed="rId1"/>
          <a:stretch/>
        </p:blipFill>
        <p:spPr>
          <a:xfrm>
            <a:off x="1447920" y="228600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loo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llow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cription 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nteract over long di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S50109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cells have “housekeeping” genes.  These genes code for proteins necessary for metabolism, structure, and synthes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50069"/>
          <p:cNvPicPr/>
          <p:nvPr/>
        </p:nvPicPr>
        <p:blipFill>
          <a:blip r:embed="rId1"/>
          <a:stretch/>
        </p:blipFill>
        <p:spPr>
          <a:xfrm>
            <a:off x="17524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loo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ce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ATE of transcri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amount of mRNA and protein synthesis is determined by these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S50110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 binding in eukaryotes; influ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actions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cription 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one another or with DNA can be influenced by sig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within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outside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s are integrated at the promo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S5011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—low nutr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tional state of a cell may affect the activity of various transcriptio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ence of a nutrient may signal a particular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press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ind to an operator an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urn o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expression of a 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S50112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—high nutr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different gene, the presence of the same nutrient may signal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cription fa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ind in the regulator region and stimulate a high level of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at do we call this type of transcription fa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S50113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—time of 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 particular time of day [lunch?] a second transcription factor may bind to augment transcription to an even 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ype of control is an internal clock regulation and would be independent of the availability of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at do we call this type of transcription fa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S50114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cription factor--Tissue speci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ption of the gene that was turned on by nutrient availability and time of day in cell A may be turned off completely by the presence of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epr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ell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of transcription factors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, other factors and the environment can dramatically alter the expression of a g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S50115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on a g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19-09-TurningOnAGene.mov" descr=""/>
          <p:cNvPicPr/>
          <p:nvPr/>
        </p:nvPicPr>
        <p:blipFill>
          <a:blip r:embed="rId1"/>
          <a:stretch/>
        </p:blipFill>
        <p:spPr>
          <a:xfrm>
            <a:off x="914400" y="1330200"/>
            <a:ext cx="708660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S50116"/>
          <p:cNvPicPr/>
          <p:nvPr/>
        </p:nvPicPr>
        <p:blipFill>
          <a:blip r:embed="rId1"/>
          <a:stretch/>
        </p:blipFill>
        <p:spPr>
          <a:xfrm>
            <a:off x="533520" y="28584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5"/>
          <p:cNvSpPr/>
          <p:nvPr/>
        </p:nvSpPr>
        <p:spPr>
          <a:xfrm>
            <a:off x="2362320" y="4572000"/>
            <a:ext cx="5029200" cy="1295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will cost more ENERG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the best pl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transcriptional control Mechanism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mechanisms act AFTER mRNA has been synthes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the cell more Energ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chanisms affect the amount of protein made by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1" descr="S50117"/>
          <p:cNvPicPr/>
          <p:nvPr/>
        </p:nvPicPr>
        <p:blipFill>
          <a:blip r:embed="rId1"/>
          <a:stretch/>
        </p:blipFill>
        <p:spPr>
          <a:xfrm>
            <a:off x="2286000" y="308628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ssue-specific </a:t>
            </a: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mRNA spl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ype of proteins made by a cell can be regulat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licing the precursor mRNA in different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mRNAs are spliced in a </a:t>
            </a:r>
            <a:r>
              <a:rPr b="1" lang="en-US" sz="3200" spc="-1" strike="noStrike" u="sng">
                <a:solidFill>
                  <a:srgbClr val="9900ff"/>
                </a:solidFill>
                <a:uFillTx/>
                <a:latin typeface="Arial"/>
              </a:rPr>
              <a:t>tissue-specif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ner so that two different proteins are made in two different types of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genes are tissue-specific and are only expressed in certain types of cells or tissu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S50070"/>
          <p:cNvPicPr/>
          <p:nvPr/>
        </p:nvPicPr>
        <p:blipFill>
          <a:blip r:embed="rId1"/>
          <a:stretch/>
        </p:blipFill>
        <p:spPr>
          <a:xfrm>
            <a:off x="1752480" y="2438280"/>
            <a:ext cx="5689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yroid cells splice together exons 1,2,3 and 4 of the gene to form an mRNA that is translated into the calcitonin protei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S50118"/>
          <p:cNvPicPr/>
          <p:nvPr/>
        </p:nvPicPr>
        <p:blipFill>
          <a:blip r:embed="rId1"/>
          <a:stretch/>
        </p:blipFill>
        <p:spPr>
          <a:xfrm>
            <a:off x="1676520" y="259092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in cells splice together exons 1,2,3,5, and 6 from the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RNA to form the neuropeptide CG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S50119"/>
          <p:cNvPicPr/>
          <p:nvPr/>
        </p:nvPicPr>
        <p:blipFill>
          <a:blip r:embed="rId1"/>
          <a:stretch/>
        </p:blipFill>
        <p:spPr>
          <a:xfrm>
            <a:off x="19810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mRNA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poly-A ta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mRNA is important for its stabili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poly-A ta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moved, then RNA is rapidly degraded and less protein is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S50120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mRNA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s that bind to mRNA can influence survival of the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poly-A ta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ence influence the amount of protein translated form the 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S5012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</a:t>
            </a: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compartment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NAs can be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transported to specific sections of the ce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which the translated products of the mRNA will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RNAs are </a:t>
            </a: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sequestered in sections of a cell until they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S50122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Translational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Alters the rate at which ribosomes bind to a mR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ake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issue-specific blocking protein may bind to the RNA and inhibit the binding of rib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S50123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of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19-10-ControlOfTranslation.mov" descr=""/>
          <p:cNvPicPr/>
          <p:nvPr/>
        </p:nvPicPr>
        <p:blipFill>
          <a:blip r:embed="rId1"/>
          <a:stretch/>
        </p:blipFill>
        <p:spPr>
          <a:xfrm>
            <a:off x="2243160" y="2143080"/>
            <a:ext cx="46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ne is transcribed into mRNA in the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is also processed in the nucleus by splicing and adding the poly-A 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cing influences the ultimate product of the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YTOPLASM, the availability of mRNA to ribosomes and the presence of molecules that either protect or degrade the mRNA will influence the amount of protein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19-08-RNAprocessing.mov" descr=""/>
          <p:cNvPicPr/>
          <p:nvPr/>
        </p:nvPicPr>
        <p:blipFill>
          <a:blip r:embed="rId1"/>
          <a:stretch/>
        </p:blipFill>
        <p:spPr>
          <a:xfrm>
            <a:off x="990720" y="1387440"/>
            <a:ext cx="69339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S501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genes turn ON and OF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S50071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ibody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bodies are proteins that recognize invaders [antigen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d by cells in which DNA rearrangement produces a functional antibody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8320" y="99036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4 polypeptide ch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heavy (H) &amp; 2 light (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is composed of 3 regions: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ariable, joining and constant: V,J &amp;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antibody recognizes and binds to one specific ant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a great diversity of antibodies to protect against a variety of invaders [pathogen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S501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5"/>
          <p:cNvSpPr/>
          <p:nvPr/>
        </p:nvSpPr>
        <p:spPr>
          <a:xfrm>
            <a:off x="6477120" y="4800600"/>
            <a:ext cx="1904760" cy="380880"/>
          </a:xfrm>
          <a:prstGeom prst="wedgeRectCallout">
            <a:avLst>
              <a:gd name="adj1" fmla="val -133083"/>
              <a:gd name="adj2" fmla="val -19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o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body light chain g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ome contains several copies of the different parts of the antibody g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undifferentiated cells, each gene for the L of antibodies inclu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s of different V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J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r more different C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s for the H chains are organized simil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S501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ibody specificity created by gene rearran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differentiation of immune cells that are destined to produce antibodies, the antibody genes are rearranged via recombination to produce functional antibody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rrangement of the gene occurs by joining together one segment from each of the 3 regions of the gene and by deleting the other, extra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umber of combinations of segments from the 3 regions is tremend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S50128"/>
          <p:cNvPicPr/>
          <p:nvPr/>
        </p:nvPicPr>
        <p:blipFill>
          <a:blip r:embed="rId1"/>
          <a:stretch/>
        </p:blipFill>
        <p:spPr>
          <a:xfrm>
            <a:off x="1219320" y="1866960"/>
            <a:ext cx="6654600" cy="499104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7"/>
          <p:cNvSpPr/>
          <p:nvPr/>
        </p:nvSpPr>
        <p:spPr>
          <a:xfrm>
            <a:off x="0" y="1523880"/>
            <a:ext cx="1676520" cy="1676520"/>
          </a:xfrm>
          <a:prstGeom prst="wedgeRectCallout">
            <a:avLst>
              <a:gd name="adj1" fmla="val 66574"/>
              <a:gd name="adj2" fmla="val 331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parts are ex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parts are intr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ibody specificity created by gene rearran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L chain protein produced by the cell contains one V, J and C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 chain is produced by a similar rearrangemen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e two light chains are iden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e two heavy chains are iden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ombination of a light chain and a heavy chain can recognize one specific an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S501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0s of antibodies on pa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bination of antibody gene DNA segments can occur at many different sites but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lways occur between V-J and J-C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tibody expressed by a cell is determined by the combination of V, J and C regions that are NOT dele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reates the potential for each cell to make any one of 1000s of different antibody molecules, each of which can recognize a different ant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binations occur betwee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-J and J-C reg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S5013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S50130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conserve ENERGY, it is most efficient to control this at the transcription level.  Why transcribe mRNA that is not needed by the c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S50072"/>
          <p:cNvPicPr/>
          <p:nvPr/>
        </p:nvPicPr>
        <p:blipFill>
          <a:blip r:embed="rId1"/>
          <a:stretch/>
        </p:blipFill>
        <p:spPr>
          <a:xfrm>
            <a:off x="1981080" y="259092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ch developing antibody-producing cell has the potential to form a unique anti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ach cell makes only one type of anti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cause its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genes undergo rearrangement early in the differentiation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ell is thereafter committed to produce only one type of antibo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S50132"/>
          <p:cNvPicPr/>
          <p:nvPr/>
        </p:nvPicPr>
        <p:blipFill>
          <a:blip r:embed="rId1"/>
          <a:stretch/>
        </p:blipFill>
        <p:spPr>
          <a:xfrm>
            <a:off x="4648320" y="28195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5" descr="S50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ampl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regions of DNA can undergo EXTRA rounds of DNA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S50134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ampl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cess is called amp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S50135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ampl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reates MORE copies of DNA and hence the potential to make more 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6" descr="S50136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ampl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you know what that mea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rotei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7" descr="S50137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 of rRNA genes in amphibian eg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mphibian eggs, genes for rRNA become highly amp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S50138"/>
          <p:cNvPicPr/>
          <p:nvPr/>
        </p:nvPicPr>
        <p:blipFill>
          <a:blip r:embed="rId1"/>
          <a:stretch/>
        </p:blipFill>
        <p:spPr>
          <a:xfrm>
            <a:off x="3962520" y="18334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 of rRNA genes in amphibian eg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plification, in this case, begins with recombination between repeated copies of the rRNA genes, resulting in the production of circular DNA molecules containing the rRNA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S50139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amplification of rRNA genes in amphibian eg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8" descr="S50140"/>
          <p:cNvPicPr/>
          <p:nvPr/>
        </p:nvPicPr>
        <p:blipFill>
          <a:blip r:embed="rId1"/>
          <a:stretch/>
        </p:blipFill>
        <p:spPr>
          <a:xfrm>
            <a:off x="1727280" y="172872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r more efficient that duplicating DNA the old fashioned wa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mall, circular DNA molecules replicate to produce 1000s of copies of the rRNA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llows the egg to quickly make many ribosomes which are needed for protein synthesis after fer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7" descr="S5014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14:12:43Z</dcterms:created>
  <dc:creator>Program Coordinator</dc:creator>
  <dc:description/>
  <dc:language>en-US</dc:language>
  <cp:lastModifiedBy>René McCormick</cp:lastModifiedBy>
  <dcterms:modified xsi:type="dcterms:W3CDTF">2010-04-01T18:26:10Z</dcterms:modified>
  <cp:revision>10</cp:revision>
  <dc:subject/>
  <dc:title>Gene Regulation</dc:title>
</cp:coreProperties>
</file>