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E6E6-D311-426C-8398-F300BD377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452C-943F-4459-A4A4-99593C2A3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4C7-FD8D-4273-BC95-1075ED28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4F51-2676-47F9-A2B7-F893C012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AB4-58FE-43B1-9C9E-AA75CF5F2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CA62-4093-4ACA-B58D-43EB81894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4A3B-CADB-4438-A1DC-6C7501F6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35D4-8A4F-4B79-A32C-9431FEED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8F5C-84FB-45DB-B81F-5687902F3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286B-8066-484E-A03C-70FACEF6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D0D-5903-4813-9397-78799E381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F95-07C8-4E0A-B348-533D89636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01D-830A-4E7C-859A-9437ECB3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BE07-841E-4C54-8441-0FD100B2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10D4-4069-4821-B9DD-10D09A711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3BE6-6F11-45EB-A1D9-E706CA460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E7E9-561A-4DE4-922D-74A74E1B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E746-EBB0-4267-8182-796D8046D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03DA-3E12-4F4B-AC3D-701A52BD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1CFD-182C-4740-9056-6F983BD5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11E-620D-4567-93B5-5ACEE3E59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A70D-1EFB-46B3-9115-2BBDF7E89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FDDD-60FE-4303-AF4E-34332D68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3D5B-93D9-46A3-B9C2-C681F049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39E2-E471-4F75-BB70-C1A0919C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573B-D7B5-4F36-9EA7-2D255CA91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509-03A8-4605-A2A1-D9496439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F383-D228-4785-9710-8D260741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DFF-7487-4DEF-B00C-E82E4E91E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3C6E-7024-417B-A924-440A19F5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2F82-4870-4CAD-8DA0-F1330FEA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044-B81F-4C49-A2F1-C11B5B1BB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DA33-23FA-4D25-A304-6477218C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87C2-189F-46BC-89EC-F035728F4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D56D-5829-4552-9D65-8412634F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151-60EF-4031-98B2-9A563B11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33FA-A67A-419E-B5DA-0DCDE995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B3B6-4E14-48C0-BC78-3F3126CD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E7A4-781E-4F75-A018-59D3DFAD4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BF2B-CE1E-41DE-825C-CCE7911F5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D4D-D844-499B-AA64-E5FE47BF4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DB0-8656-4772-9C3F-3DD8CD895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355B-EAEB-43D2-A701-AF228B95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4A4-80D9-449F-BD1E-B03597F15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AC02-70C7-4310-B64F-419EB066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206A-3DD1-41E5-BC59-CDD04789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0788-889B-404B-968C-5CA5414A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F88-7728-4B5D-8CD2-A57C45E0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075C-8D9F-429E-AE4B-6FD45E8A3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7282-8208-4C14-A536-DB342776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08C-94B0-4B90-B45D-CD908BE2F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6F4E-7215-4A3D-AE70-7AC415A7D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4D79-5E6E-44A1-B9EF-D6CC6E4C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10ED-2774-4BA9-B8DF-2D4DF306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58AA-530B-458B-A9CD-3245CEA0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795-50F4-4882-B65F-75E792473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3D4-6F82-4220-B739-B100839C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16A4-A037-4556-B0C7-C167562E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1453-DC75-4E54-B19F-9DF7FD0A8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4ABB-43AA-4587-BB43-9BA9E72F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766C-2926-416E-B59B-4F810CEB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FEC8-B8D6-4BD9-ADF9-4B41BA48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B848-E3E5-40A1-A0DB-F95A398A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3573-BD3C-404D-94E6-3686715EF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077E-8375-4146-8E7B-0B17526D2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D97E-7771-4ABD-A9B9-A7249ED5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114C-9CC3-47D3-921A-553FB387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02B1-D1D5-491E-A5CA-4268B781C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5992-CBC7-4399-82E1-7ED5E242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122E-95D5-421C-A29B-C86A8BAB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8213-7F9F-4272-B7FC-42ABF96A0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AE48-7D01-440A-9878-465175EFB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377F-C21D-4FB4-A79E-0985A660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7893-612D-4BAB-A0E1-B6C43671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974B-9E0B-4E77-A501-B4F74FCB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6C3-6FF3-4E19-A3D5-66847CA0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2C01-7A6C-41CA-923C-9E61C6C6F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731-22DB-4C67-9923-05864858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540A-A5E4-4E93-9A49-98D8ADE70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1F2A-5CAD-4078-93CD-3F9F2DB9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9611-DBC0-4A9F-9990-178C71D93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23A8-D660-4DD7-A6DE-F245DE44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1A9A-A474-45A5-96D6-930465F8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43E1-B39F-46D5-8289-7624D6300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1D28-6978-435E-BEC8-B7A62A9D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DD4D-45F0-4F70-8823-31CE9E11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B0D3-DECF-441D-A34E-894FBA69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2533-CA1B-4129-B41D-951FD33D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2A03-A4C3-446B-B513-A3FF097D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DEFF-3C7E-4771-8C6E-BD8E6720D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2ADF-FE72-47C3-80B2-467C70C3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F79A-65FC-4AB5-9A1E-FAC654494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E1D9-1C55-483B-A64D-C8A99E205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A60-5201-4AD1-A986-3E912F2F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B6C-B79E-44D1-A02C-6E113D23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A79F-1131-414F-903B-65CAD9E8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B796-1347-402C-96D1-900D192CD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960-D569-47C4-8184-6509BD2DB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5639-83BD-478F-9CBF-BC547B47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3C78-4BCE-4D9D-9319-3F69ED79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D95-1FAD-4698-81DF-296A33FB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1162-6BB0-4641-BC5B-395972064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600E-4767-4377-8B13-A4F8BAF2E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BB3-EB1F-4B63-A3CF-DED9844E8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8EC5-6635-480D-A067-0D6B09150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026E-5C37-43F9-B1BA-5CFC60EA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312-737C-4DB1-A141-B5174C5F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134-362B-4727-8C54-F493F36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A51-FE29-4DBB-A0A2-7DE0F277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31F-48F5-485C-AE5D-063BDF49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731-95E8-4849-A5E1-9DB27434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4F9-08D8-491B-A771-4F7DB2E0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2A2-EBDC-4ED0-AD19-0BB41307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13C-95A4-4207-A8A1-3E387EE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50F-1B91-4175-87C9-047A2F49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EE6-7F6C-47CA-AAF9-7C346D6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263-9BC8-4171-8C98-E1C5849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1BB-C3BC-4C8E-82E6-984FFAAD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31D5-9F2C-46F4-A6DF-C185CAA9F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Gene Regu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urning genes ON an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s:  These bind to 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ctivat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Repress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50073"/>
          <p:cNvPicPr/>
          <p:nvPr/>
        </p:nvPicPr>
        <p:blipFill>
          <a:blip r:embed="rId1"/>
          <a:stretch/>
        </p:blipFill>
        <p:spPr>
          <a:xfrm>
            <a:off x="1295280" y="2438280"/>
            <a:ext cx="5689800" cy="42674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6858000" y="1676520"/>
            <a:ext cx="2286000" cy="1676160"/>
          </a:xfrm>
          <a:prstGeom prst="wedgeRoundRectCallout">
            <a:avLst>
              <a:gd name="adj1" fmla="val -70069"/>
              <a:gd name="adj2" fmla="val 11818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ey line will repres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this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amplification can also be important in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s a drug used to treat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cells that are rapidly synthesizing DNA are more damaged by the drug than normal cel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S5014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nhibits the activity of dihydrofolate reductase (DHFR), an enzyme needed for synthesis of 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ncer cell may become resistant to methotrexate if amplification of the DHFR gen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50143"/>
          <p:cNvPicPr/>
          <p:nvPr/>
        </p:nvPicPr>
        <p:blipFill>
          <a:blip r:embed="rId1"/>
          <a:stretch/>
        </p:blipFill>
        <p:spPr>
          <a:xfrm>
            <a:off x="4267080" y="20048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pies of the gene encoding DHFR allow enough enzyme to be made for the cell to continue to grow in the presence of methotrex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S5014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S50145"/>
          <p:cNvPicPr/>
          <p:nvPr/>
        </p:nvPicPr>
        <p:blipFill>
          <a:blip r:embed="rId1"/>
          <a:stretch/>
        </p:blipFill>
        <p:spPr>
          <a:xfrm>
            <a:off x="114300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S50146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gen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and time of gene expression can be regulated at any one of several steps between the DNA and the final functional gen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S50147"/>
          <p:cNvPicPr/>
          <p:nvPr/>
        </p:nvPicPr>
        <p:blipFill>
          <a:blip r:embed="rId1"/>
          <a:stretch/>
        </p:blipFill>
        <p:spPr>
          <a:xfrm>
            <a:off x="2590920" y="31050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s that are regulated by the same repressor or activator have the same or closely related regulatory sequen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50074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gulatory sequences are tissue-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50075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-specific genes all have a particular sequence in their DNA to which a muscle-specific transcription factor binds and activates expression of these ge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-specific genes have a DIFFERENT sequence in the DNA and different transcript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NA base sequences lie “upstream” from the base sequences that will be transcribed when the gene is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bout those DNA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5007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-Binding domains have been conserved throughout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5007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 ar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distinct regions with specif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the DNA-bind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—it IS a region of the protein that is the transcrip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ten the domain is an </a:t>
            </a:r>
            <a:r>
              <a:rPr b="0" lang="el-GR" sz="4400" spc="-1" strike="noStrike">
                <a:solidFill>
                  <a:srgbClr val="000000"/>
                </a:solidFill>
                <a:latin typeface="Times New Roman MT Extra Bold"/>
                <a:ea typeface="Arial"/>
              </a:rPr>
              <a:t>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5007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7162920" y="4267080"/>
            <a:ext cx="1981080" cy="2210040"/>
          </a:xfrm>
          <a:prstGeom prst="wedgeRoundRectCallout">
            <a:avLst>
              <a:gd name="adj1" fmla="val -123078"/>
              <a:gd name="adj2" fmla="val -40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d thing, that looks like a stick of dynamite, is just another representation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el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2 most common DNA-binding domains.  If you can name them &amp; explain their function in an essay, it’s often worth a po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50079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inding domains of repressors and activators contact specific nucleotide sequences in D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50080"/>
          <p:cNvPicPr/>
          <p:nvPr/>
        </p:nvPicPr>
        <p:blipFill>
          <a:blip r:embed="rId1"/>
          <a:stretch/>
        </p:blipFill>
        <p:spPr>
          <a:xfrm>
            <a:off x="1752480" y="2286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gulatory region of a gene has many binding sites upstream from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50081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ese sites are near the promoter, BUT they can be distant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positive activator binds is called an activat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negative repressor binds is called a repress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50082"/>
          <p:cNvPicPr/>
          <p:nvPr/>
        </p:nvPicPr>
        <p:blipFill>
          <a:blip r:embed="rId1"/>
          <a:stretch/>
        </p:blipFill>
        <p:spPr>
          <a:xfrm>
            <a:off x="1143000" y="6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in an organism contain the same DNA, so why are the cell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50065"/>
          <p:cNvPicPr/>
          <p:nvPr/>
        </p:nvPicPr>
        <p:blipFill>
          <a:blip r:embed="rId1"/>
          <a:stretch/>
        </p:blipFill>
        <p:spPr>
          <a:xfrm>
            <a:off x="167652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sors prevent transcription by being a “roadblock” so RNA polymerase cannot bind to the DNA at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50083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repressor is NOT bound, RNA polymerase can bind to the promoter and transcription beg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5008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ators help RNA polymerase bind to the DNA.  Very active genes have several RNA polymerases transcrib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50085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cture and function of the transcription factor can be altered when other molecules bind to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50086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olecules, INDUCERS, can bind to a transcription factor [repressor in this picture], cause a conformational shape change and decrease its ability to bin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repressor to abandon the DNA and transcription is no longer block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S50087"/>
          <p:cNvPicPr/>
          <p:nvPr/>
        </p:nvPicPr>
        <p:blipFill>
          <a:blip r:embed="rId1"/>
          <a:stretch/>
        </p:blipFill>
        <p:spPr>
          <a:xfrm>
            <a:off x="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THIS W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5008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ON is a group of genes that are transcribed togeth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urned ON or OFF as a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 genes are needed to metabolize lact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essor site of an operon is called a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5008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800600" y="5638680"/>
            <a:ext cx="4038480" cy="10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ucose + ga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code for the enzymes that metabolize the above rea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6172200" y="304920"/>
            <a:ext cx="2971800" cy="2133360"/>
          </a:xfrm>
          <a:prstGeom prst="wedgeRoundRectCallout">
            <a:avLst>
              <a:gd name="adj1" fmla="val -83013"/>
              <a:gd name="adj2" fmla="val 735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are only turned ON if lactose is present.  Why waste energy synthesizing proteins that serve NO function in the absence of lact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 repres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ound to the repressor site, called the operator [since it controls the operon].  It is the “roadblock” that blocks the initiation of transcription at the promo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5009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lactose is an IND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ctose is present, some of it exists as an isomer called allolact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lactose acts as an indu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the Lac Repressor, causing a conformational shap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5009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called negative regulation of the lac ope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shape, causes the Lac Repressor to release the DNA so transcription is no longer blo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can now bind to the promoter and transcription of the lactose operon can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5009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they contain and are made up of different prote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5006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more, with feel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BSENCE OF LACTOSE, it is normal for the lac repressor to be bound to the ope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ctose is present, it’s isomer—allolactose—acts as an indu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inds to the repressor, changing its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uses the repressor to release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polymerase can now bind to the promoter so transcription of the 3 genes comprising the operon can comm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of the 3 proteins necessary for the breakdown of lactose are now manufactured and lactose can be utilized by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50093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181480" y="5410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GATIVE REGULATIO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LACTOSE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ator steps up the transcrip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 the lactose enzymes can be transcribed at once—assembly line sty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50094"/>
          <p:cNvPicPr/>
          <p:nvPr/>
        </p:nvPicPr>
        <p:blipFill>
          <a:blip r:embed="rId1"/>
          <a:stretch/>
        </p:blipFill>
        <p:spPr>
          <a:xfrm>
            <a:off x="4495680" y="182880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495680" y="5562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POSITIVE Regulation of the Lac Oper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tabolite Activator Protein: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name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boli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ivat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eeds cyclic AMP [cAMP; AT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] bound to it before it can have the proper shape in order to bind to the activator site of th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bound, it INCREASES the ability of RNA polymerase to bind to the promoter and transcribe th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50095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hyper drive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5009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MP-CAP complex is very attractive to RNA polymera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cAMP-CAP complex contacts BOTH the DNA at the activator site AND the RNA polymer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act makes the RNA polymerase have MORE attraction for the DNA, stepping up the rate of transcription of the op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5009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regulation, cells are very E ef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ells would rather use glucose as a food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why it is normal for the repressor to be i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glucose is available, the cell won’t metabolize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yields more energy to the cells than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5009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4648320" y="5562720"/>
            <a:ext cx="4267080" cy="1066680"/>
          </a:xfrm>
          <a:prstGeom prst="wedgeRoundRectCallout">
            <a:avLst>
              <a:gd name="adj1" fmla="val 20833"/>
              <a:gd name="adj2" fmla="val -45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helps the cells grow!  As it is used up, the number of dividing cells stabilizes in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ucose availability regulates cAMP produ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bacterial cells—glycolysis is their only source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lucose is gone, ATP production c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 SO, the concentration of the cyclic form of AMP wil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5009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both glucose and lactose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will use glucose first until g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production increases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binds to the CAP and the activator complex, in turn, causes RNA polymerase to crank up the rate of transcription of the lac op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zymes necessary to utilize lactose as an energy source are QUICKLY manufactu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S501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7620120" y="5867280"/>
            <a:ext cx="1523880" cy="533520"/>
          </a:xfrm>
          <a:prstGeom prst="wedgeRoundRectCallout">
            <a:avLst>
              <a:gd name="adj1" fmla="val -102606"/>
              <a:gd name="adj2" fmla="val -399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ga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 repressor, which can be affected by an inducer.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nd activator.  Repressors, inducers and activators are transcripti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50101"/>
          <p:cNvPicPr/>
          <p:nvPr/>
        </p:nvPicPr>
        <p:blipFill>
          <a:blip r:embed="rId1"/>
          <a:stretch/>
        </p:blipFill>
        <p:spPr>
          <a:xfrm>
            <a:off x="182880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transcription factors are bound to the DNA when the different sugars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50102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different genes are transcribed in the different cells so different mRNA is transcribed for protein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50067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lactose?  The repressor is b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50103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ose present?  The allolactose inducer causes the bound repressor to change shape and release the DNA.  The “roadblock” is removed.  Transcription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S5010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lactose present? The absence of glucose causes the cAMP level to rise and allows the binding of the activator [cAMP-CAP complex].  RNA polymerase’s affinity for DNA is enhanc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50105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6868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expression in eukaryotes has two main differences from the same process in prokary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e typical multicellular eukaryotic genome is much larger than that of a bacte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cell specialization limits the expression of many genes to specif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THIS DIFFERENT IN EUKARYO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5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timated 35,000 genes in the human genome includes an enormous amount of DNA that does not program the synthesis of RNA or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NA is elaborate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is the DNA associated with protein to form chromatin, but the chromatin is organized into higher organizational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packing is one way that gene expression is reg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ly packed areas are inactiv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packed areas are being actively tran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868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single circular chromosome of bacteria is coiled and looped in a complex, but orderly manner, eukaryotic chromatin is far mor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is precisely combined with large amounts of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interphase of the cell cycle, chromatin fibers are usually highly extended with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itosis, the chromatin coils and condenses to form short, thick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7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hromosomes contain an enormous amount of DNA relative to their condensed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uman chromosome averages about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cleotide p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xtended, each DNA molecule would be about 6 cm long, thousands of times longer than the cell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romosome and 45 other human chromosomes fit into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ccurs through an elaborate, multilevel system of DNA p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54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s are responsible for the first level of DNA pack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positively charged amino acids bind tightly to negatively charge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types of histones are very similar from one eukaryote to another and are even present in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lded chromatin has the appearance of beads on a string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which DNA winds around a core of 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15LLL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turned on and off.  When a gene is on, it is expressed meaning it is transcribed.  The DNA must unzip in order for transcription—it just doesn’t have to unzip entire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50068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seems to remain essentially intact throughou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nes leave the DNA only transiently during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ay with the DNA during tran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ging shape and position, nucleosomes allow RNA-synthesizing polymerases to move along the D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romosomes enter mitosis the beaded string undergoes higher-order pac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coils to for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0-nm chromatin fi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iber fo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oped dom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hed to a scaffold of non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itotic chromoso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 and fol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the character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cking steps are highly specific and precise with particular ge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same pla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505320" y="152280"/>
            <a:ext cx="5464080" cy="64008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514600" y="624852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9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9-00-Chromatin"/>
          <p:cNvPicPr/>
          <p:nvPr/>
        </p:nvPicPr>
        <p:blipFill>
          <a:blip r:embed="rId1"/>
          <a:stretch/>
        </p:blipFill>
        <p:spPr>
          <a:xfrm>
            <a:off x="269388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0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atin is generally much less condensed than the chromatin of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30-nm fibers and looped domains remain, the discrete scaffold is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 appear to be attached to the nuclear lamina and perhaps the nuclear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atin of each chromosome occupies a restricted area within the interphas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osomes have areas that remain highly condensed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less compacted area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19-01-DNAPacking.mov" descr=""/>
          <p:cNvPicPr/>
          <p:nvPr/>
        </p:nvPicPr>
        <p:blipFill>
          <a:blip r:embed="rId1"/>
          <a:stretch/>
        </p:blipFill>
        <p:spPr>
          <a:xfrm>
            <a:off x="1219320" y="1387440"/>
            <a:ext cx="7010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S50106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bind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region of a gene is very complex in 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 sites for 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regions contain 1,000s of base pair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5010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is flexible and can form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S50108"/>
          <p:cNvPicPr/>
          <p:nvPr/>
        </p:nvPicPr>
        <p:blipFill>
          <a:blip r:embed="rId1"/>
          <a:stretch/>
        </p:blipFill>
        <p:spPr>
          <a:xfrm>
            <a:off x="1447920" y="22860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teract over lo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S501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have “housekeeping” genes.  These genes code for proteins necessary for metabolism, structure, and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50069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ATE of tran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amount of mRNA and protein synthesis is determined by these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S5011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 binding in eukaryotes; in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ne another or with DNA can be influenced by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integrated at the 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S5011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low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state of a cell may affect the activity of various 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a nutrient may signal a particula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to an operator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urn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expression of a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5011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high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ifferent gene, the presence of the same nutrient may signal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in the regulator region and stimulate a high level of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S5011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time of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particular time of day [lunch?] a second transcription factor may bind to augment transcription to an even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control is an internal clock regulation and would be independent of the availability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S5011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--Tissu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ion of the gene that was turned on by nutrient availability and time of day in cell A may be turned off completely by the presence of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ell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transcription factor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, other factors and the environment can dramatically alter the expression of a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S5011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on a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9-09-TurningOnAGene.mov" descr=""/>
          <p:cNvPicPr/>
          <p:nvPr/>
        </p:nvPicPr>
        <p:blipFill>
          <a:blip r:embed="rId1"/>
          <a:stretch/>
        </p:blipFill>
        <p:spPr>
          <a:xfrm>
            <a:off x="914400" y="1330200"/>
            <a:ext cx="708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S50116"/>
          <p:cNvPicPr/>
          <p:nvPr/>
        </p:nvPicPr>
        <p:blipFill>
          <a:blip r:embed="rId1"/>
          <a:stretch/>
        </p:blipFill>
        <p:spPr>
          <a:xfrm>
            <a:off x="533520" y="2858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/>
          <p:cNvSpPr/>
          <p:nvPr/>
        </p:nvSpPr>
        <p:spPr>
          <a:xfrm>
            <a:off x="2362320" y="4572000"/>
            <a:ext cx="502920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cost more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the best pl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transcriptional control Mechanis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chanisms act AFTER mRNA has been 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the cell more Ener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s affect the amount of protein made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S50117"/>
          <p:cNvPicPr/>
          <p:nvPr/>
        </p:nvPicPr>
        <p:blipFill>
          <a:blip r:embed="rId1"/>
          <a:stretch/>
        </p:blipFill>
        <p:spPr>
          <a:xfrm>
            <a:off x="2286000" y="30862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ssue-specific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proteins made by a cell can be regula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cing the precursor mRNA in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RNAs are spliced in a </a:t>
            </a:r>
            <a:r>
              <a:rPr b="1" lang="en-US" sz="3200" spc="-1" strike="noStrike" u="sng">
                <a:solidFill>
                  <a:srgbClr val="9900ff"/>
                </a:solidFill>
                <a:uFillTx/>
                <a:latin typeface="Arial"/>
              </a:rPr>
              <a:t>tissue-spec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ner so that two different proteins are made in two different types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enes are tissue-specific and are only expressed in certain types of cells or tiss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5007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yroid cells splice together exons 1,2,3 and 4 of the gene to form an mRNA that is translated into the calcitonin prote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S50118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cells splice together exons 1,2,3,5, and 6 from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RNA to form the neuropeptide C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S50119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RNA is important for its sta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 then RNA is rapidly degraded and less protein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S5012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that bind to mRNA can influence survival o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nce influence the amount of protein translated form th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S5012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ompartment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s can b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transported to specific sections of the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the translated products of the mRNA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RNAs ar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sequestered in sections of a cell until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S5012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Translation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Alters the rate at which ribosomes bind to a m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ssue-specific blocking protein may bind to the RNA and inhibit the binding of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5012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19-10-ControlOfTranslation.mov" descr=""/>
          <p:cNvPicPr/>
          <p:nvPr/>
        </p:nvPicPr>
        <p:blipFill>
          <a:blip r:embed="rId1"/>
          <a:stretch/>
        </p:blipFill>
        <p:spPr>
          <a:xfrm>
            <a:off x="2243160" y="21430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 is transcribed into mRNA in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also processed in the nucleus by splicing and adding the poly-A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cing influences the ultimate product of th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YTOPLASM, the availability of mRNA to ribosomes and the presence of molecules that either protect or degrade the mRNA will influence the amount of protein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19-08-RNAprocessing.mov" descr=""/>
          <p:cNvPicPr/>
          <p:nvPr/>
        </p:nvPicPr>
        <p:blipFill>
          <a:blip r:embed="rId1"/>
          <a:stretch/>
        </p:blipFill>
        <p:spPr>
          <a:xfrm>
            <a:off x="990720" y="1387440"/>
            <a:ext cx="69339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S50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genes turn ON and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50071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teins that recognize invaders [antige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by cells in which DNA rearrangement produces a functional antibody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4 polypeptid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vy (H) &amp; 2 light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is composed of 3 regions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le, joining and constant: V,J &amp;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ntibody recognizes and binds to one specific 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a great diversity of antibodies to protect against a variety of invaders [pathoge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S5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/>
          <p:cNvSpPr/>
          <p:nvPr/>
        </p:nvSpPr>
        <p:spPr>
          <a:xfrm>
            <a:off x="6477120" y="4800600"/>
            <a:ext cx="1904760" cy="380880"/>
          </a:xfrm>
          <a:prstGeom prst="wedgeRectCallout">
            <a:avLst>
              <a:gd name="adj1" fmla="val -133083"/>
              <a:gd name="adj2" fmla="val -19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ody light chain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me contains several copies of the different parts of the antibody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ifferentiated cells, each gene for the L of antibodies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of different V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J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different 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s for the H chains are organized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S50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differentiation of immune cells that are destined to produce antibodies, the antibody genes are rearranged via recombination to produce functional antibody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ment of the gene occurs by joining together one segment from each of the 3 regions of the gene and by deleting the other, extra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mber of combinations of segments from the 3 regions is tremend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S50128"/>
          <p:cNvPicPr/>
          <p:nvPr/>
        </p:nvPicPr>
        <p:blipFill>
          <a:blip r:embed="rId1"/>
          <a:stretch/>
        </p:blipFill>
        <p:spPr>
          <a:xfrm>
            <a:off x="1219320" y="1866960"/>
            <a:ext cx="6654600" cy="49910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"/>
          <p:cNvSpPr/>
          <p:nvPr/>
        </p:nvSpPr>
        <p:spPr>
          <a:xfrm>
            <a:off x="0" y="1523880"/>
            <a:ext cx="1676520" cy="1676520"/>
          </a:xfrm>
          <a:prstGeom prst="wedgeRectCallout">
            <a:avLst>
              <a:gd name="adj1" fmla="val 66574"/>
              <a:gd name="adj2" fmla="val 3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ex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intr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 chain protein produced by the cell contains one V, J and 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 chain is produced by a similar rearran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light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heavy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mbination of a light chain and a heavy chain can recognize one specific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S5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s of antibodies on pa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of antibody gene DNA segments can occur at many different sites bu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ways occur between V-J and J-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tibody expressed by a cell is determined by the combination of V, J and C regions that are NOT de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reates the potential for each cell to make any one of 1000s of different antibody molecules, each of which can recognize a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binations occur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-J and J-C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S5013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50130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conserve ENERGY, it is most efficient to control this at the transcription level.  Why transcribe mRNA that is not needed by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S50072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developing antibody-producing cell has the potential to form a unique anti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ach cell makes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nes undergo rearrangement early in the differentiation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thereafter committed to produce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50132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S5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regions of DNA can undergo EXTRA rounds of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S5013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call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S5013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reates MORE copies of DNA and hence the potential to make mor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S5013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you know what that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ote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S5013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mphibian eggs, genes for rRNA become highly amp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S50138"/>
          <p:cNvPicPr/>
          <p:nvPr/>
        </p:nvPicPr>
        <p:blipFill>
          <a:blip r:embed="rId1"/>
          <a:stretch/>
        </p:blipFill>
        <p:spPr>
          <a:xfrm>
            <a:off x="3962520" y="1833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lification, in this case, begins with recombination between repeated copies of the rRNA genes, resulting in the production of circular DNA molecules containing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S5013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S50140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 more efficient that duplicating DNA the old fashioned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mall, circular DNA molecules replicate to produce 1000s of copies of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the egg to quickly make many ribosomes which are needed for protein synthesis after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S5014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4:12:43Z</dcterms:created>
  <dc:creator>Program Coordinator</dc:creator>
  <dc:description/>
  <dc:language>en-US</dc:language>
  <cp:lastModifiedBy>René McCormick</cp:lastModifiedBy>
  <dcterms:modified xsi:type="dcterms:W3CDTF">2010-04-01T18:26:10Z</dcterms:modified>
  <cp:revision>10</cp:revision>
  <dc:subject/>
  <dc:title>Gene Regulation</dc:title>
</cp:coreProperties>
</file>