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CA6-7807-47DF-9F3A-B500D411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E2D-2714-4696-B6BA-0A6CCE73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C547-7275-4947-AD36-5846ECCB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CEDF-100A-443F-9B4E-1CC43D9A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E260-DAB8-4000-91E1-BE00F9F4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E14-62B7-4861-ACCA-4F8957B4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8394-2F4A-4591-82B8-809DA3D21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662-09CE-4B3E-BC88-8062EAC1C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E285-FB3B-4F19-8245-42C7B8ADD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3E32-87F7-42BC-94CA-4B58EAF3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1AED-FA13-4F02-B145-805E5605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E638-189A-4AC3-AC89-35D5187F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C349-6E05-4A9B-918C-962F1D682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A8E-DC94-4AA3-B02B-AC57E53F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7DD-C4C6-40BF-BF38-E20E934C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77B8-4308-4A12-84C3-B2B8FBFA6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BFB-BF86-4EEE-8AA2-6A76902C0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332B-96C3-42A0-926D-588493EB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1C05-3B52-4D8E-B922-928F634F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C43-ADD9-41EF-9C86-8D57B33AA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CF38-D91A-4B00-A125-85DB920CC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6F0C-545B-4186-A4F5-B3DE05B7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584-E911-4B75-A2D3-3D2F9F19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8D96-7A17-4E9F-B07B-AE861DE6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1EDD-2EE6-4EAF-9322-804F7ED3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3466-01E5-4980-A0BC-A175CA95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15BD-F454-483A-A57C-F280E0BB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B847-F147-435B-A41D-D1FDE231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3D4C-FDB9-4471-86FB-259F1ADA1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32A6-DB86-4214-8CA3-645709445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8064-7E69-4F70-97D5-8C6A2D15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CDFF-6271-4D3E-B186-1298CF49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D13-CBDF-4CBE-A604-E27B331AE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77BC-0DA5-4431-8EA7-6DCE8D944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495C-A944-4E68-B7B0-EFD9B66E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8998-25AA-4A84-82C4-5E8C5FEB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8546-E0D2-4930-B010-159A6CB8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BEFA-ECE6-4873-861A-DEAC4D40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3AD2-371E-4493-B549-08C73FC1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811-205D-40A7-8CA5-27BF14C9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BD53-4500-431C-BB2F-0C61F3CB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F390-220E-4EA7-87BD-4A5987E5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69E0-30A3-4FD4-93CE-1945560A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1F1-20B4-46A7-B27A-7E4EC058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9D5-5DF6-4E6C-A2FB-8A43B7CF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7A0E-7E68-460E-86E9-6935A260E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823-9143-4458-A3AC-AD82368A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ACAB-7AA8-4E1F-A2B4-8A112040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7C7D-47B1-4D6E-8402-82A20539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7195-7008-4072-8C0B-0D4423A0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1D0E-D905-4834-977D-ACE562B5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3B81-A2BF-4D26-9FA2-4915426D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B82-EFF1-4287-88B3-88016B35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3929-44D2-4CFB-A082-A47FACA8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C841-CF71-4CC0-8C81-A011B6C1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5621-3971-4DB9-8C95-CC15B647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318A-F462-4BA7-A5CF-2429CCF7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3144-23A8-4D03-81F2-7FD63DE0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FCA-2479-4C71-A60A-94637F9A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400F-4C7E-49CA-81DF-1733E750D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17D8-3BDA-4B59-A605-BA37CF91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27C-5B90-4D44-9867-07531503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02E6-A6B9-4536-9BC8-62AE613A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033B-35D0-4EC2-99D6-25D96E296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309-8572-4E5D-B362-9111774C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511C-84F9-422F-A4AF-60AD51D2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432A-E4F4-4380-B085-028BA1C4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A406-F62F-4781-B271-DCAB5238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5C47-1A4C-4636-A3B3-9BCD5925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592-D6FD-43CA-A572-18C780C2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DBE8-7A22-411D-AA24-0E7331C6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42A8-EF1B-46D9-8439-AB88CC47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4402-9000-4B65-BD1D-7D9F3B564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FD4-4B58-4F05-9CBF-04E0082D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9DA5-FC50-4B03-A037-68EA6F07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027-B0C0-4643-A367-B5024D67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D2EA-80E9-4348-90D5-11D54CBE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B5C-85DB-4A2D-8323-23D802E5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12D1-DF92-4183-8635-6C413C80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782-454C-4A20-A56C-A176E46E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7878-BB35-49C1-A65A-68F1A2A6F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F156-BFFC-4AA0-9EBF-CB0FA0B5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32E-6648-4A12-9386-CC18EE9D6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AF7B-307B-4CFF-B460-5C830ABF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F080-0976-4352-8A4A-D834D255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ACE-2AEA-4F9F-ACED-41FEA7EC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B19B-12F0-48CF-AE9E-22C018C5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2772-3A5B-4583-98C3-D88A9E87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D946-6C94-4CFA-BB41-B8E35AD8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E00-D205-4D8C-AA04-774AFF11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1B15-67F3-4532-BBF7-48E8DB5AB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3BC6-C4A3-495D-A370-423E8A7B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09A-E6FA-4B6F-A9B7-B8549039D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B5C3-F52C-4660-B5D9-3C88A44EF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B91A-132E-43D3-8FB5-A7337FFF9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8C6F-25FF-4F66-92F4-4391ED0A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29B5-4348-4774-8B73-54B81CD1D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C0A8-6AB0-448C-8C2B-197ECF73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F93A-EB62-4D3B-904D-C1012CD7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9590-713E-4BB1-BFB6-DD038C91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4F05-C213-419D-9E55-163BB27D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B47B-334F-4B78-9C83-C9D7488D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2CFA-CC0B-4450-9275-CA55479E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B454-BBE2-4786-B38F-9C9E4FDD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096-5445-46FB-97B1-9CC1F3D7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7F42-4F14-403D-8B43-A6845548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B25-6EA8-4A15-A023-FDBFEB13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8DB-C30D-469F-8F8D-067D0E0D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A31-9D32-4635-BEF5-02861009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858-0936-452F-986B-5E390125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9AD-F2ED-483A-BEBB-E16727EB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40D-E802-4C0A-BA19-8FDD448B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DC7-B938-4454-8EE5-3E483D8E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0DC-970E-43E6-BE43-DC45EA6E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F42-0E70-4898-A774-7E3FF2FE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4E2-0A87-4AFF-9DDE-AD66E2D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8D6-5454-4541-A8A5-15150DB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9CB-E579-4EBE-9C59-C5A12C9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8E9D-3D50-4BDF-94F2-BBAC2F368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Gene Reg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urning genes ON an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s:  These bind to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ctiva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Repr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50073"/>
          <p:cNvPicPr/>
          <p:nvPr/>
        </p:nvPicPr>
        <p:blipFill>
          <a:blip r:embed="rId1"/>
          <a:stretch/>
        </p:blipFill>
        <p:spPr>
          <a:xfrm>
            <a:off x="1295280" y="243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6858000" y="1676520"/>
            <a:ext cx="2286000" cy="1676160"/>
          </a:xfrm>
          <a:prstGeom prst="wedgeRoundRectCallout">
            <a:avLst>
              <a:gd name="adj1" fmla="val -70069"/>
              <a:gd name="adj2" fmla="val 118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ey line will re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i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amplification can also be important i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s a drug used to treat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cells that are rapidly synthesizing DNA are more damaged by the drug than normal cel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S5014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nhibits the activity of dihydrofolate reductase (DHFR), an enzyme needed for synthesis of 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ncer cell may become resistant to methotrexate if amplification of the DHFR gen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50143"/>
          <p:cNvPicPr/>
          <p:nvPr/>
        </p:nvPicPr>
        <p:blipFill>
          <a:blip r:embed="rId1"/>
          <a:stretch/>
        </p:blipFill>
        <p:spPr>
          <a:xfrm>
            <a:off x="4267080" y="2004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pies of the gene encoding DHFR allow enough enzyme to be made for the cell to continue to grow in the presence of methotrex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S5014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50145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50146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en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nd time of gene expression can be regulated at any one of several steps between the DNA and the final functional gen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50147"/>
          <p:cNvPicPr/>
          <p:nvPr/>
        </p:nvPicPr>
        <p:blipFill>
          <a:blip r:embed="rId1"/>
          <a:stretch/>
        </p:blipFill>
        <p:spPr>
          <a:xfrm>
            <a:off x="2590920" y="3105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s that are regulated by the same repressor or activator have the same or closely related regulatory sequ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50074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gulatory sequences are tissue-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50075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-specific genes all have a particular sequence in their DNA to which a muscle-specific transcription factor binds and activates expression of these ge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-specific genes have a DIFFERENT sequence in the DNA and different transcript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NA base sequences lie “upstream” from the base sequences that will be transcribed when the gene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those DNA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5007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-Binding domains have been conserved throughout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5007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 ar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distinct regions with specif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the DNA-bind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—it IS a region of the protein that is the transcrip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ten the domain is an </a:t>
            </a:r>
            <a:r>
              <a:rPr b="0" lang="el-GR" sz="4400" spc="-1" strike="noStrike">
                <a:solidFill>
                  <a:srgbClr val="000000"/>
                </a:solidFill>
                <a:latin typeface="Times New Roman MT Extra Bold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5007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7162920" y="4267080"/>
            <a:ext cx="1981080" cy="2210040"/>
          </a:xfrm>
          <a:prstGeom prst="wedgeRoundRectCallout">
            <a:avLst>
              <a:gd name="adj1" fmla="val -123078"/>
              <a:gd name="adj2" fmla="val -40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d thing, that looks like a stick of dynamite, is just another representation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l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2 most common DNA-binding domains.  If you can name them &amp; explain their function in an essay, it’s often worth a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50079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domains of repressors and activators contact specific nucleotide sequences in D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50080"/>
          <p:cNvPicPr/>
          <p:nvPr/>
        </p:nvPicPr>
        <p:blipFill>
          <a:blip r:embed="rId1"/>
          <a:stretch/>
        </p:blipFill>
        <p:spPr>
          <a:xfrm>
            <a:off x="1752480" y="2286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ulatory region of a gene has many binding sites upstream from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50081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se sites are near the promoter, BUT they can be distan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positive activator binds is called an activat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negative repressor binds is called a repress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50082"/>
          <p:cNvPicPr/>
          <p:nvPr/>
        </p:nvPicPr>
        <p:blipFill>
          <a:blip r:embed="rId1"/>
          <a:stretch/>
        </p:blipFill>
        <p:spPr>
          <a:xfrm>
            <a:off x="1143000" y="6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in an organism contain the same DNA, so why are the cell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50065"/>
          <p:cNvPicPr/>
          <p:nvPr/>
        </p:nvPicPr>
        <p:blipFill>
          <a:blip r:embed="rId1"/>
          <a:stretch/>
        </p:blipFill>
        <p:spPr>
          <a:xfrm>
            <a:off x="167652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ors prevent transcription by being a “roadblock” so RNA polymerase cannot bind to the DNA at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50083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repressor is NOT bound, RNA polymerase can bind to the promoter and transcription beg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5008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ors help RNA polymerase bind to the DNA.  Very active genes have several RNA polymerases transcrib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50085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and function of the transcription factor can be altered when other molecules bind to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50086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olecules, INDUCERS, can bind to a transcription factor [repressor in this picture], cause a conformational shape change and decrease its ability to bin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repressor to abandon the DNA and transcription is no longer block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S50087"/>
          <p:cNvPicPr/>
          <p:nvPr/>
        </p:nvPicPr>
        <p:blipFill>
          <a:blip r:embed="rId1"/>
          <a:stretch/>
        </p:blipFill>
        <p:spPr>
          <a:xfrm>
            <a:off x="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THIS W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5008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ON is a group of genes that are transcribed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urned ON or OFF as a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 genes are needed to metabolize lact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sor site of an operon is called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5008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800600" y="5638680"/>
            <a:ext cx="403848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ucose + 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code for the enzymes that metabolize the above re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6172200" y="304920"/>
            <a:ext cx="2971800" cy="2133360"/>
          </a:xfrm>
          <a:prstGeom prst="wedgeRoundRectCallout">
            <a:avLst>
              <a:gd name="adj1" fmla="val -83013"/>
              <a:gd name="adj2" fmla="val 735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are only turned ON if lactose is present.  Why waste energy synthesizing proteins that serve NO function in the absence of lact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 repres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ound to the repressor site, called the operator [since it controls the operon].  It is the “roadblock” that blocks the initiation of transcription at the prom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5009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lactose is an IN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some of it exists as an isomer called allolact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lactose acts as an indu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the Lac Repressor, causing a conformational shap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500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called negative regulation of the lac op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shape, causes the Lac Repressor to release the DNA so transcription is no longer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can now bind to the promoter and transcription of the lactose operon can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5009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they contain and are made up of different prot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5006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more, with fee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LACTOSE, it is normal for the lac repressor to be bound to the op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ctose is present, it’s isomer—allolactose—acts as an in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inds to the repressor, changing its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s the repressor to release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polymerase can now bind to the promoter so transcription of the 3 genes comprising the operon can comm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of the 3 proteins necessary for the breakdown of lactose are now manufactured and lactose can be utilized b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50093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18148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 REGULATIO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ACTOSE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or steps up the transcrip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 the lactose enzymes can be transcribed at once—assembly line sty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50094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495680" y="5562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POSITIVE Regulation of the Lac Ope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tabolite Activator Protein: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am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bol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at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eeds cyclic AMP [cAMP; AT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] bound to it before it can have the proper shape in order to bind to the activator site of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bound, it INCREASES the ability of RNA polymerase to bind to the promoter and transcribe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50095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hyper drive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5009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MP-CAP complex is very attractive to RNA polymer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cAMP-CAP complex contacts BOTH the DNA at the activator site AND the RNA polymer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act makes the RNA polymerase have MORE attraction for the DNA, stepping up the rate of transcription of the op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5009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regulation, cells are very E 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ells would rather use glucose as a food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why it is normal for the repressor to b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glucose is available, the cell won’t metabolize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yields more energy to the cells than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5009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648320" y="5562720"/>
            <a:ext cx="4267080" cy="1066680"/>
          </a:xfrm>
          <a:prstGeom prst="wedgeRoundRectCallout">
            <a:avLst>
              <a:gd name="adj1" fmla="val 20833"/>
              <a:gd name="adj2" fmla="val -4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helps the cells grow!  As it is used up, the number of dividing cells stabilizes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cose availability regulates cAMP produ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acterial cells—glycolysis is their only source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lucose is gone, ATP production c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 SO, the concentration of the cyclic form of AMP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500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both glucose and lactose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ll use glucose first until g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production increas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binds to the CAP and the activator complex, in turn, causes RNA polymerase to crank up the rate of transcription of the lac op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zymes necessary to utilize lactose as an energy source are QUICKLY manufactu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501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620120" y="5867280"/>
            <a:ext cx="1523880" cy="533520"/>
          </a:xfrm>
          <a:prstGeom prst="wedgeRoundRectCallout">
            <a:avLst>
              <a:gd name="adj1" fmla="val -102606"/>
              <a:gd name="adj2" fmla="val -399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 repressor, which can be affected by an inducer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nd activator.  Repressors, inducers and activators are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50101"/>
          <p:cNvPicPr/>
          <p:nvPr/>
        </p:nvPicPr>
        <p:blipFill>
          <a:blip r:embed="rId1"/>
          <a:stretch/>
        </p:blipFill>
        <p:spPr>
          <a:xfrm>
            <a:off x="182880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ranscription factors are bound to the DNA when the different sugars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50102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different genes are transcribed in the different cells so different mRNA is transcribed for protein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50067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lactose?  The repressor is b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50103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ose present?  The allolactose inducer causes the bound repressor to change shape and release the DNA.  The “roadblock” is removed.  Transcription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S5010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lactose present? The absence of glucose causes the cAMP level to rise and allows the binding of the activator [cAMP-CAP complex].  RNA polymerase’s affinity for DNA is enhanc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50105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expression in eukaryotes has two main differences from the same process in prokary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 typical multicellular eukaryotic genome is much larger than that of a bacte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cell specialization limits the expression of many genes to specif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THIS DIFFERENT IN EUKARYO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5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d 35,000 genes in the human genome includes an enormous amount of DNA that does not program the synthesis of RNA or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NA is elaborate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is the DNA associated with protein to form chromatin, but the chromatin is organized into higher organizational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acking is one way that gene expression is reg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ly packed areas are inactiv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packed areas are being actively tran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single circular chromosome of bacteria is coiled and looped in a complex, but orderly manner, eukaryotic chromatin is far mor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is precisely combined with large amounts of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nterphase of the cell cycle, chromatin fibers are usually highly extended with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itosis, the chromatin coils and condenses to form short, thick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7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hromosomes contain an enormous amount of DNA relative to their condensed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uman chromosome averages about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cleotide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tended, each DNA molecule would be about 6 cm long, thousands of times longer than the cell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and 45 other human chromosomes fit into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ccurs through an elaborate, multilevel system of DNA p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s are responsible for the first level of DNA pack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ositively charged amino acids bind tightly to negatively charge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types of histones are very similar from one eukaryote to another and are even present in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DNA winds around a core of 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15LLL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turned on and off.  When a gene is on, it is expressed meaning it is transcribed.  The DNA must unzip in order for transcription—it just doesn’t have to unzip entir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50068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seems to remain essentially intact throughou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nes leave the DNA only transiently during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y with the DNA during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shape and position, nucleosomes allow RNA-synthesizing polymerases to move along the D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romosomes enter mitosis the beaded string undergoes higher-order pa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coils to for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-nm chromatin fi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ber fo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hed to a scaffold of non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itotic chromoso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and fol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the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cking steps are highly specific and precise with particular ge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ame pla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505320" y="152280"/>
            <a:ext cx="5464080" cy="6400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514600" y="62485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9-00-Chromatin"/>
          <p:cNvPicPr/>
          <p:nvPr/>
        </p:nvPicPr>
        <p:blipFill>
          <a:blip r:embed="rId1"/>
          <a:stretch/>
        </p:blipFill>
        <p:spPr>
          <a:xfrm>
            <a:off x="269388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atin is generally much less condensed than the chromatin of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30-nm fibers and looped domains remain, the discrete scaffold i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appear to be attached to the nuclear lamina and perhaps the nuclear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atin of each chromosome occupies a restricted area within the interphas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osomes have areas that remain highly condense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less compacted area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19-01-DNAPacking.mov" descr=""/>
          <p:cNvPicPr/>
          <p:nvPr/>
        </p:nvPicPr>
        <p:blipFill>
          <a:blip r:embed="rId1"/>
          <a:stretch/>
        </p:blipFill>
        <p:spPr>
          <a:xfrm>
            <a:off x="1219320" y="1387440"/>
            <a:ext cx="7010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50106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bind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region of a gene is very complex in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 for 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gions contain 1,000s of base pair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501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flexible and can form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50108"/>
          <p:cNvPicPr/>
          <p:nvPr/>
        </p:nvPicPr>
        <p:blipFill>
          <a:blip r:embed="rId1"/>
          <a:stretch/>
        </p:blipFill>
        <p:spPr>
          <a:xfrm>
            <a:off x="1447920" y="22860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ract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501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have “housekeeping” genes.  These genes code for proteins necessary for metabolism, structure, and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50069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ATE of tran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amount of mRNA and protein synthesis is determined by thes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S5011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 binding in eukaryotes;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ne another or with DNA can be influenced by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integrated at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5011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low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tate of a cell may affect the activity of various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a nutrient may signal a particula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to an operator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urn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express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5011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high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ifferent gene, the presence of the same nutrient may signal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in the regulator region and stimulate a high level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5011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time of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of day [lunch?] a second transcription factor may bind to augment transcription to an even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control is an internal clock regulation and would be independent of the availability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S501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--Tissu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ion of the gene that was turned on by nutrient availability and time of day in cell A may be turned off completely by the presence of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e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ranscription factor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other factors and the environment can dramatically alter the expression of a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5011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on a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9-09-TurningOnAGene.mov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08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S50116"/>
          <p:cNvPicPr/>
          <p:nvPr/>
        </p:nvPicPr>
        <p:blipFill>
          <a:blip r:embed="rId1"/>
          <a:stretch/>
        </p:blipFill>
        <p:spPr>
          <a:xfrm>
            <a:off x="533520" y="285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2362320" y="4572000"/>
            <a:ext cx="502920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cost more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he best p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transcriptional control Mechanis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chanisms act AFTER mRNA has been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the cell more Ener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s affect the amount of protein made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50117"/>
          <p:cNvPicPr/>
          <p:nvPr/>
        </p:nvPicPr>
        <p:blipFill>
          <a:blip r:embed="rId1"/>
          <a:stretch/>
        </p:blipFill>
        <p:spPr>
          <a:xfrm>
            <a:off x="2286000" y="30862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-specific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proteins made by a cell can be regul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cing the precursor mRNA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RNAs are spliced in a </a:t>
            </a:r>
            <a:r>
              <a:rPr b="1" lang="en-US" sz="3200" spc="-1" strike="noStrike" u="sng">
                <a:solidFill>
                  <a:srgbClr val="9900ff"/>
                </a:solidFill>
                <a:uFillTx/>
                <a:latin typeface="Arial"/>
              </a:rPr>
              <a:t>tissue-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 so that two different proteins are made in two different type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enes are tissue-specific and are only expressed in certain types of cells or tiss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5007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yroid cells splice together exons 1,2,3 and 4 of the gene to form an mRNA that is translated into the calcitonin prote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50118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cells splice together exons 1,2,3,5, and 6 from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RNA to form the neuropeptide C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S50119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RNA is important for its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RNA is rapidly degraded and less protei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S5012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that bind to mRNA can influence survival o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nce influence the amount of protein translated form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S5012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ompartment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s can b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ransported to specific sections of the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the translated products of the mRNA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RNAs ar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questered in sections of a cell until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5012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lation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Alters the rate at which ribosomes bind to a m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sue-specific blocking protein may bind to the RNA and inhibit the binding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501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19-10-ControlOfTranslation.mov" descr=""/>
          <p:cNvPicPr/>
          <p:nvPr/>
        </p:nvPicPr>
        <p:blipFill>
          <a:blip r:embed="rId1"/>
          <a:stretch/>
        </p:blipFill>
        <p:spPr>
          <a:xfrm>
            <a:off x="2243160" y="21430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is transcribed into mRNA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also processed in the nucleus by splicing and adding the poly-A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nfluences the ultimate product of th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YTOPLASM, the availability of mRNA to ribosomes and the presence of molecules that either protect or degrade the mRNA will influence the amount of protei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9-08-RNAprocessing.mov" descr=""/>
          <p:cNvPicPr/>
          <p:nvPr/>
        </p:nvPicPr>
        <p:blipFill>
          <a:blip r:embed="rId1"/>
          <a:stretch/>
        </p:blipFill>
        <p:spPr>
          <a:xfrm>
            <a:off x="990720" y="1387440"/>
            <a:ext cx="6933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5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genes turn ON and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50071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teins that recognize invaders [antige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by cells in which DNA rearrangement produces a functional antibod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4 polypept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vy (H) &amp; 2 light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is composed of 3 regions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le, joining and constant: V,J &amp;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ntibody recognizes and binds to one specific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 great diversity of antibodies to protect against a variety of invaders [pathoge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5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6477120" y="4800600"/>
            <a:ext cx="1904760" cy="380880"/>
          </a:xfrm>
          <a:prstGeom prst="wedgeRectCallout">
            <a:avLst>
              <a:gd name="adj1" fmla="val -133083"/>
              <a:gd name="adj2" fmla="val -19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y light chain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me contains several copies of the different parts of the antibody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ifferentiated cells, each gene for the L of antibodie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of different V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J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ifferent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s for the H chains are organized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S50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ifferentiation of immune cells that are destined to produce antibodies, the antibody genes are rearranged via recombination to produce functional antibody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of the gene occurs by joining together one segment from each of the 3 regions of the gene and by deleting the other, extra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mber of combinations of segments from the 3 regions is tremend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50128"/>
          <p:cNvPicPr/>
          <p:nvPr/>
        </p:nvPicPr>
        <p:blipFill>
          <a:blip r:embed="rId1"/>
          <a:stretch/>
        </p:blipFill>
        <p:spPr>
          <a:xfrm>
            <a:off x="1219320" y="186696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"/>
          <p:cNvSpPr/>
          <p:nvPr/>
        </p:nvSpPr>
        <p:spPr>
          <a:xfrm>
            <a:off x="0" y="1523880"/>
            <a:ext cx="1676520" cy="1676520"/>
          </a:xfrm>
          <a:prstGeom prst="wedgeRectCallout">
            <a:avLst>
              <a:gd name="adj1" fmla="val 66574"/>
              <a:gd name="adj2" fmla="val 3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ex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intr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 chain protein produced by the cell contains one V, J and 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chain is produced by a similar rearran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light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heavy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bination of a light chain and a heavy chain can recognize one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5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s of antibodies on pa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of antibody gene DNA segments can occur at many different sites bu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ways occur between V-J and J-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tibody expressed by a cell is determined by the combination of V, J and C regions that are NOT de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the potential for each cell to make any one of 1000s of different antibody molecules, each of which can recognize a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binations occur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-J and J-C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5013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50130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onserve ENERGY, it is most efficient to control this at the transcription level.  Why transcribe mRNA that is not needed by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S50072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developing antibody-producing cell has the potential to form a unique anti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ach cell makes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nes undergo rearrangement early in the differentiation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thereafter committed to produce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50132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5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regions of DNA can undergo EXTRA round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5013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5013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MORE copies of DNA and hence the potential to make mor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S5013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you know what that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ote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S5013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mphibian eggs, genes for rRNA become highly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S50138"/>
          <p:cNvPicPr/>
          <p:nvPr/>
        </p:nvPicPr>
        <p:blipFill>
          <a:blip r:embed="rId1"/>
          <a:stretch/>
        </p:blipFill>
        <p:spPr>
          <a:xfrm>
            <a:off x="3962520" y="1833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fication, in this case, begins with recombination between repeated copies of the rRNA genes, resulting in the production of circular DNA molecules containing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S5013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S50140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 more efficient that duplicating DNA the old fashioned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mall, circular DNA molecules replicate to produce 1000s of copies of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the egg to quickly make many ribosomes which are needed for protein synthesis after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S5014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12:43Z</dcterms:created>
  <dc:creator>Program Coordinator</dc:creator>
  <dc:description/>
  <dc:language>en-US</dc:language>
  <cp:lastModifiedBy>René McCormick</cp:lastModifiedBy>
  <dcterms:modified xsi:type="dcterms:W3CDTF">2010-04-01T18:26:10Z</dcterms:modified>
  <cp:revision>10</cp:revision>
  <dc:subject/>
  <dc:title>Gene Regulation</dc:title>
</cp:coreProperties>
</file>