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15B9-720C-42A4-B632-589CC956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31B0-6712-48DD-B7A1-E83110A5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0CF1-65D6-43F4-A0B0-A9E8BC7D2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09B3-BE94-4705-935E-03D0FA84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479-B6E2-4C50-80D9-26C9EEF9C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49FD-42E0-4EE0-9E05-3DD28CF7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3010-3CE3-4FBA-95B1-83D8AA15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AD25-0746-443F-936F-DBA5CDA5B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BA97-439D-4483-96F4-E00DE56B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43EC-63BD-47BD-86DD-90262037D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D53-D7BC-4C7C-90A3-9E9AA024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497C-A5AE-4E9B-B06A-C338EB10D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ACC0-807B-4A08-95DF-11F0D655A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768C-6AA1-404C-A401-E1C7799F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06B6-A074-4DB2-9DD9-BBEA3E1EC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45AB-E092-41E9-98C8-925F6BB3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4137-7C5C-42EA-87B0-4893A8FD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AEFC-2406-4BEF-9EDC-5C2F3AAC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46B3-B1D1-4953-B3FD-BBF22E572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579B-D60A-4EB4-BB1A-5CF50392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AE0-EF9F-40DD-B56C-765B8E42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C58B-FA75-4D02-B9C9-15BD7B726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46CE-5AC6-40DC-9C33-86E9F49B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C7E1-1BB7-4850-A008-474F3E9C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35D1-2D37-4342-84BC-9986474A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B06-19C1-4465-98BE-8E9A65FD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1507-20FE-49C6-BB6A-2E036AB59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DBBF-F0AC-47EC-9067-D28037292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B28E-367E-4884-962C-915A8A92B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D68F-DAF5-4882-A8F2-FAF3C182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5BBE-70C3-4702-A723-043F8DE4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8B1-2808-40F1-92DC-A5C0FB996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604C-025D-4A47-A655-8CFCC3360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B28-4471-430A-88FB-1AB20F42F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EE65-2174-4090-89A7-C9BBE8D4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8CE-51C9-499C-AFDE-30F34AC2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D45-C699-453F-9153-68D89C51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17CC-BD25-4B87-9BF9-4EDE30FAC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0F03-856B-40ED-85CC-A1DDC069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2F50-2655-4C16-A27F-6BD3F872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57F6-2E88-44E6-B58D-B7B94E95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072-E047-474E-B7DE-702CC0F2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E3DF-055C-4559-8243-E23B2D61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2BEE-2679-4700-974B-8FCD33B8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3B45-2B03-430C-99A2-1FE3ABCB5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FE6D-03E6-4D05-A37E-8AED334D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D80-AF28-43EE-B5D0-F47B708D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7BE1-851F-47A5-BD4A-F54A653D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C372-B513-4131-9A68-B850482B8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44D6-B287-4580-8921-D31A512EB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8B75-C54F-42B4-B2D5-55BB7CD7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EE9E-1347-4052-A646-C4A9BDC4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4814-7197-4091-AD79-AE3D2252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FFB0-DA4A-44FE-B1EC-ECFF3918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6AF0-0EFC-4F84-BA6C-66367218C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35FD-D6D7-490C-B6F7-E4B04382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C30-E397-42F9-972B-9772680C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2E4B-A2AA-435F-B135-19F55BBDD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395B-1DEB-4ECC-91A4-8273A8CDA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4247-9E5A-498B-A376-48EC8A64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2EF-DB18-4919-B8B2-0B9F562F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BD45-070B-44B0-AC81-34B90C711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4FA9-8AB7-43F6-BE5D-3C7A954BC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3AB8-7811-418F-9042-B5D03249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582E-0A0E-4F40-A282-4BD5EF5F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811F-01C4-479D-95E4-BB7E6B96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5EC-3ABE-482B-9783-CFDFE67AE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5F0-C565-430E-A196-FD5F3230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E018-234F-44EC-84A3-999DA3D7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6BB-42A9-4017-871F-21C656668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EB12-8C62-4D60-B692-80A3407D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2596-FC85-4ACC-B837-C39E5B2AA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E3BE-8BF5-48F6-A844-7EA69B95E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4E97-6ADB-4D3E-80DD-60840283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2DEE-4C0F-4192-B25B-DFC22974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5F6-B23C-4462-BD2D-6518E388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2D39-DAF4-41AE-BB05-09BDF9B77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D3C5-6A75-4284-A2A7-7D1B65B1F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F80-8E5A-429C-93F0-B4ED8B0A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9457-5E2B-428D-A71E-DF99E5631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00D2-084D-4770-90E5-E4532F06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7EF-D93A-43E9-A9C1-EEB77C2C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0090-EF86-43C8-8D28-09E7632C2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FE1D-14F2-4A9B-B7F7-93BCB3CC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9FD-9009-4E04-935A-0C774D8E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31E6-6CB2-4941-9A89-EA518D51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5871-6B33-4CD5-A40B-017CF2F5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E460-FFF8-43C8-AA63-823A42DB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D54-A3A7-4ACA-BFEC-74D80427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0B37-B207-4E20-AD9C-8DB3BB81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29AD-422C-49FC-BA91-BE5F4C44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564E-3D2F-4B80-AEF4-82B0BB6EA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8C6C-5044-4AC3-ACAB-ABC2AAE98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DE78-673B-4F68-B36F-D9218BDF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2FD4-D57A-4FB4-9AB6-5A0A2EAA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52D6-4ADE-4353-A235-D88E76E0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1095-F22F-4D0C-85A0-B04256DB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30A8-17F2-4F72-8E75-17859B92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893E-7C87-43AA-B00B-C0EC4444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6808-CCDC-4104-A663-A0BD5DCF4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51DB-562B-48DB-B82D-D58A3B44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65AC-DC82-4E68-8960-EA4D1E671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907D-182F-4947-9AA1-50173151D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10A4-663A-4CC0-9994-6D657E96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FFDA-0C74-4D63-9211-4C27915C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0A12-F97C-4279-9ADC-B2C742B8A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3FE-5E37-48F9-A3DC-B7203760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A36-8949-4273-8F7B-9510BFBD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70D-26D0-4604-A7C5-3D6880F3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A70-FF75-4856-86BD-1FFA5877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7B75-0A57-4525-B2D1-C76B5D9E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394-A244-41AA-93A4-83EE0768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9AF-0966-45CF-B975-7A816DB3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245-8795-4CBD-8ED0-0BF415DE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1DC-B703-410E-AC2E-73116320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AF5-2EAE-4D8F-9AB5-D5925FF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E37-42BA-4BD1-8D86-FE334FED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358-4409-4FF1-8E74-461CBC1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2B75-6152-4EB5-8293-0D209BCB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Gene Regu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urning genes ON an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s:  These bind to 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ctiva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Repr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50073"/>
          <p:cNvPicPr/>
          <p:nvPr/>
        </p:nvPicPr>
        <p:blipFill>
          <a:blip r:embed="rId1"/>
          <a:stretch/>
        </p:blipFill>
        <p:spPr>
          <a:xfrm>
            <a:off x="1295280" y="2438280"/>
            <a:ext cx="5689800" cy="4267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6858000" y="1676520"/>
            <a:ext cx="2286000" cy="1676160"/>
          </a:xfrm>
          <a:prstGeom prst="wedgeRoundRectCallout">
            <a:avLst>
              <a:gd name="adj1" fmla="val -70069"/>
              <a:gd name="adj2" fmla="val 11818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ey line will re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i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amplification can also be important i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s a drug used to treat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cells that are rapidly synthesizing DNA are more damaged by the drug than normal cel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S5014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nhibits the activity of dihydrofolate reductase (DHFR), an enzyme needed for synthesis of 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ncer cell may become resistant to methotrexate if amplification of the DHFR gen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50143"/>
          <p:cNvPicPr/>
          <p:nvPr/>
        </p:nvPicPr>
        <p:blipFill>
          <a:blip r:embed="rId1"/>
          <a:stretch/>
        </p:blipFill>
        <p:spPr>
          <a:xfrm>
            <a:off x="4267080" y="20048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pies of the gene encoding DHFR allow enough enzyme to be made for the cell to continue to grow in the presence of methotrex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S5014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50145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50146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en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nd time of gene expression can be regulated at any one of several steps between the DNA and the final functional gen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S50147"/>
          <p:cNvPicPr/>
          <p:nvPr/>
        </p:nvPicPr>
        <p:blipFill>
          <a:blip r:embed="rId1"/>
          <a:stretch/>
        </p:blipFill>
        <p:spPr>
          <a:xfrm>
            <a:off x="2590920" y="3105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s that are regulated by the same repressor or activator have the same or closely related regulatory sequen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50074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gulatory sequences are tissue-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50075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-specific genes all have a particular sequence in their DNA to which a muscle-specific transcription factor binds and activates expression of these ge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-specific genes have a DIFFERENT sequence in the DNA and different transcript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NA base sequences lie “upstream” from the base sequences that will be transcribed when the gene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those DNA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5007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-Binding domains have been conserved throughout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5007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 ar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distinct regions with specif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the DNA-bind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—it IS a region of the protein that is the transcrip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ten the domain is an </a:t>
            </a:r>
            <a:r>
              <a:rPr b="0" lang="el-GR" sz="4400" spc="-1" strike="noStrike">
                <a:solidFill>
                  <a:srgbClr val="000000"/>
                </a:solidFill>
                <a:latin typeface="Times New Roman MT Extra Bold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5007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7162920" y="4267080"/>
            <a:ext cx="1981080" cy="2210040"/>
          </a:xfrm>
          <a:prstGeom prst="wedgeRoundRectCallout">
            <a:avLst>
              <a:gd name="adj1" fmla="val -123078"/>
              <a:gd name="adj2" fmla="val -40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d thing, that looks like a stick of dynamite, is just another representation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el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2 most common DNA-binding domains.  If you can name them &amp; explain their function in an essay, it’s often worth a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50079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domains of repressors and activators contact specific nucleotide sequences in D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50080"/>
          <p:cNvPicPr/>
          <p:nvPr/>
        </p:nvPicPr>
        <p:blipFill>
          <a:blip r:embed="rId1"/>
          <a:stretch/>
        </p:blipFill>
        <p:spPr>
          <a:xfrm>
            <a:off x="1752480" y="2286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ulatory region of a gene has many binding sites upstream from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50081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se sites are near the promoter, BUT they can be distant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positive activator binds is called an activat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negative repressor binds is called a repress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50082"/>
          <p:cNvPicPr/>
          <p:nvPr/>
        </p:nvPicPr>
        <p:blipFill>
          <a:blip r:embed="rId1"/>
          <a:stretch/>
        </p:blipFill>
        <p:spPr>
          <a:xfrm>
            <a:off x="1143000" y="6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in an organism contain the same DNA, so why are the cell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50065"/>
          <p:cNvPicPr/>
          <p:nvPr/>
        </p:nvPicPr>
        <p:blipFill>
          <a:blip r:embed="rId1"/>
          <a:stretch/>
        </p:blipFill>
        <p:spPr>
          <a:xfrm>
            <a:off x="167652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sors prevent transcription by being a “roadblock” so RNA polymerase cannot bind to the DNA at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50083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repressor is NOT bound, RNA polymerase can bind to the promoter and transcription beg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5008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ators help RNA polymerase bind to the DNA.  Very active genes have several RNA polymerases transcrib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50085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cture and function of the transcription factor can be altered when other molecules bind to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50086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olecules, INDUCERS, can bind to a transcription factor [repressor in this picture], cause a conformational shape change and decrease its ability to bin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repressor to abandon the DNA and transcription is no longer block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S50087"/>
          <p:cNvPicPr/>
          <p:nvPr/>
        </p:nvPicPr>
        <p:blipFill>
          <a:blip r:embed="rId1"/>
          <a:stretch/>
        </p:blipFill>
        <p:spPr>
          <a:xfrm>
            <a:off x="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THIS W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5008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ON is a group of genes that are transcribed toge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urned ON or OFF as a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 genes are needed to metabolize lact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essor site of an operon is called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5008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800600" y="5638680"/>
            <a:ext cx="4038480" cy="10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ucose + 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code for the enzymes that metabolize the above re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6172200" y="304920"/>
            <a:ext cx="2971800" cy="2133360"/>
          </a:xfrm>
          <a:prstGeom prst="wedgeRoundRectCallout">
            <a:avLst>
              <a:gd name="adj1" fmla="val -83013"/>
              <a:gd name="adj2" fmla="val 735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are only turned ON if lactose is present.  Why waste energy synthesizing proteins that serve NO function in the absence of lact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 repres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ound to the repressor site, called the operator [since it controls the operon].  It is the “roadblock” that blocks the initiation of transcription at the promo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5009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lactose is an IN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some of it exists as an isomer called allolact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lactose acts as an indu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the Lac Repressor, causing a conformational shap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500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called negative regulation of the lac ope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shape, causes the Lac Repressor to release the DNA so transcription is no longer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can now bind to the promoter and transcription of the lactose operon can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5009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they contain and are made up of different prot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5006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more, with fee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LACTOSE, it is normal for the lac repressor to be bound to the ope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ctose is present, it’s isomer—allolactose—acts as an in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inds to the repressor, changing its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uses the repressor to release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polymerase can now bind to the promoter so transcription of the 3 genes comprising the operon can comm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of the 3 proteins necessary for the breakdown of lactose are now manufactured and lactose can be utilized b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50093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18148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GATIVE REGULATIO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ACTOSE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ator steps up the transcrip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 the lactose enzymes can be transcribed at once—assembly line sty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50094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495680" y="5562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POSITIVE Regulation of the Lac Oper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tabolite Activator Protein: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am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bol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at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eeds cyclic AMP [cAMP; AT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] bound to it before it can have the proper shape in order to bind to the activator site of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bound, it INCREASES the ability of RNA polymerase to bind to the promoter and transcribe th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50095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hyper drive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5009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MP-CAP complex is very attractive to RNA polymer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cAMP-CAP complex contacts BOTH the DNA at the activator site AND the RNA polymer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act makes the RNA polymerase have MORE attraction for the DNA, stepping up the rate of transcription of the op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5009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regulation, cells are very E 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ells would rather use glucose as a food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why it is normal for the repressor to b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glucose is available, the cell won’t metabolize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yields more energy to the cells than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5009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4648320" y="5562720"/>
            <a:ext cx="4267080" cy="1066680"/>
          </a:xfrm>
          <a:prstGeom prst="wedgeRoundRectCallout">
            <a:avLst>
              <a:gd name="adj1" fmla="val 20833"/>
              <a:gd name="adj2" fmla="val -45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helps the cells grow!  As it is used up, the number of dividing cells stabilizes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ucose availability regulates cAMP produ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acterial cells—glycolysis is their only source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lucose is gone, ATP production c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 SO, the concentration of the cyclic form of AMP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500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both glucose and lactose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will use glucose first until g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production increas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binds to the CAP and the activator complex, in turn, causes RNA polymerase to crank up the rate of transcription of the lac op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zymes necessary to utilize lactose as an energy source are QUICKLY manufactu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501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620120" y="5867280"/>
            <a:ext cx="1523880" cy="533520"/>
          </a:xfrm>
          <a:prstGeom prst="wedgeRoundRectCallout">
            <a:avLst>
              <a:gd name="adj1" fmla="val -102606"/>
              <a:gd name="adj2" fmla="val -399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 repressor, which can be affected by an inducer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nd activator.  Repressors, inducers and activators are transcripti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50101"/>
          <p:cNvPicPr/>
          <p:nvPr/>
        </p:nvPicPr>
        <p:blipFill>
          <a:blip r:embed="rId1"/>
          <a:stretch/>
        </p:blipFill>
        <p:spPr>
          <a:xfrm>
            <a:off x="182880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ranscription factors are bound to the DNA when the different sugars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50102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different genes are transcribed in the different cells so different mRNA is transcribed for protein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50067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lactose?  The repressor is b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50103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ose present?  The allolactose inducer causes the bound repressor to change shape and release the DNA.  The “roadblock” is removed.  Transcription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S5010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lactose present? The absence of glucose causes the cAMP level to rise and allows the binding of the activator [cAMP-CAP complex].  RNA polymerase’s affinity for DNA is enhanc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50105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expression in eukaryotes has two main differences from the same process in prokary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 typical multicellular eukaryotic genome is much larger than that of a bacte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cell specialization limits the expression of many genes to specif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THIS DIFFERENT IN EUKARYO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5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d 35,000 genes in the human genome includes an enormous amount of DNA that does not program the synthesis of RNA or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NA is elaborate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is the DNA associated with protein to form chromatin, but the chromatin is organized into higher organizational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acking is one way that gene expression is reg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ly packed areas are inactiv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packed areas are being actively tran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single circular chromosome of bacteria is coiled and looped in a complex, but orderly manner, eukaryotic chromatin is far mor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is precisely combined with large amounts of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nterphase of the cell cycle, chromatin fibers are usually highly extended with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itosis, the chromatin coils and condenses to form short, thick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7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hromosomes contain an enormous amount of DNA relative to their condensed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uman chromosome averages about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cleotide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tended, each DNA molecule would be about 6 cm long, thousands of times longer than the cell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and 45 other human chromosomes fit into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ccurs through an elaborate, multilevel system of DNA p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s are responsible for the first level of DNA pack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ositively charged amino acids bind tightly to negatively charge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types of histones are very similar from one eukaryote to another and are even present in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ed chromatin has the appearance of beads on a string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DNA winds around a core of 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15LLL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turned on and off.  When a gene is on, it is expressed meaning it is transcribed.  The DNA must unzip in order for transcription—it just doesn’t have to unzip entir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50068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seems to remain essentially intact throughou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nes leave the DNA only transiently during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y with the DNA during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shape and position, nucleosomes allow RNA-synthesizing polymerases to move along the D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romosomes enter mitosis the beaded string undergoes higher-order pa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coils to for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-nm chromatin fi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ber fo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hed to a scaffold of non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itotic chromoso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 and fol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the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cking steps are highly specific and precise with particular ge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ame pla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505320" y="152280"/>
            <a:ext cx="5464080" cy="64008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514600" y="62485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9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9-00-Chromatin"/>
          <p:cNvPicPr/>
          <p:nvPr/>
        </p:nvPicPr>
        <p:blipFill>
          <a:blip r:embed="rId1"/>
          <a:stretch/>
        </p:blipFill>
        <p:spPr>
          <a:xfrm>
            <a:off x="269388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atin is generally much less condensed than the chromatin of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30-nm fibers and looped domains remain, the discrete scaffold i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 appear to be attached to the nuclear lamina and perhaps the nuclear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atin of each chromosome occupies a restricted area within the interphas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osomes have areas that remain highly condensed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less compacted area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19-01-DNAPacking.mov" descr=""/>
          <p:cNvPicPr/>
          <p:nvPr/>
        </p:nvPicPr>
        <p:blipFill>
          <a:blip r:embed="rId1"/>
          <a:stretch/>
        </p:blipFill>
        <p:spPr>
          <a:xfrm>
            <a:off x="1219320" y="1387440"/>
            <a:ext cx="7010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50106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bind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region of a gene is very complex in 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ites for 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regions contain 1,000s of base pair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501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flexible and can form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S50108"/>
          <p:cNvPicPr/>
          <p:nvPr/>
        </p:nvPicPr>
        <p:blipFill>
          <a:blip r:embed="rId1"/>
          <a:stretch/>
        </p:blipFill>
        <p:spPr>
          <a:xfrm>
            <a:off x="1447920" y="22860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ract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S501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have “housekeeping” genes.  These genes code for proteins necessary for metabolism, structure, and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50069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ATE of tran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amount of mRNA and protein synthesis is determined by thes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S5011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 binding in eukaryotes;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ne another or with DNA can be influenced by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integrated at the 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5011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low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state of a cell may affect the activity of various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a nutrient may signal a particula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to an operator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urn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expression of a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5011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high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ifferent gene, the presence of the same nutrient may signal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in the regulator region and stimulate a high level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5011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time of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particular time of day [lunch?] a second transcription factor may bind to augment transcription to an even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control is an internal clock regulation and would be independent of the availability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S501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--Tissu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ion of the gene that was turned on by nutrient availability and time of day in cell A may be turned off completely by the presence of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e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ranscription factor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other factors and the environment can dramatically alter the expression of a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S5011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on a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9-09-TurningOnAGene.mov" descr=""/>
          <p:cNvPicPr/>
          <p:nvPr/>
        </p:nvPicPr>
        <p:blipFill>
          <a:blip r:embed="rId1"/>
          <a:stretch/>
        </p:blipFill>
        <p:spPr>
          <a:xfrm>
            <a:off x="914400" y="1330200"/>
            <a:ext cx="708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S50116"/>
          <p:cNvPicPr/>
          <p:nvPr/>
        </p:nvPicPr>
        <p:blipFill>
          <a:blip r:embed="rId1"/>
          <a:stretch/>
        </p:blipFill>
        <p:spPr>
          <a:xfrm>
            <a:off x="533520" y="2858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2362320" y="4572000"/>
            <a:ext cx="502920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cost more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he best p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transcriptional control Mechanis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chanisms act AFTER mRNA has been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the cell more Ener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s affect the amount of protein made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50117"/>
          <p:cNvPicPr/>
          <p:nvPr/>
        </p:nvPicPr>
        <p:blipFill>
          <a:blip r:embed="rId1"/>
          <a:stretch/>
        </p:blipFill>
        <p:spPr>
          <a:xfrm>
            <a:off x="2286000" y="30862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ssue-specific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proteins made by a cell can be regul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cing the precursor mRNA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RNAs are spliced in a </a:t>
            </a:r>
            <a:r>
              <a:rPr b="1" lang="en-US" sz="3200" spc="-1" strike="noStrike" u="sng">
                <a:solidFill>
                  <a:srgbClr val="9900ff"/>
                </a:solidFill>
                <a:uFillTx/>
                <a:latin typeface="Arial"/>
              </a:rPr>
              <a:t>tissue-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 so that two different proteins are made in two different type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enes are tissue-specific and are only expressed in certain types of cells or tiss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5007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yroid cells splice together exons 1,2,3 and 4 of the gene to form an mRNA that is translated into the calcitonin prote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S50118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cells splice together exons 1,2,3,5, and 6 from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RNA to form the neuropeptide C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S50119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RNA is important for its sta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RNA is rapidly degraded and less protei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S5012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that bind to mRNA can influence survival o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nce influence the amount of protein translated form th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S5012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ompartment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s can b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ransported to specific sections of the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the translated products of the mRNA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RNAs ar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sequestered in sections of a cell until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5012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lation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Alters the rate at which ribosomes bind to a m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ssue-specific blocking protein may bind to the RNA and inhibit the binding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501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19-10-ControlOfTranslation.mov" descr=""/>
          <p:cNvPicPr/>
          <p:nvPr/>
        </p:nvPicPr>
        <p:blipFill>
          <a:blip r:embed="rId1"/>
          <a:stretch/>
        </p:blipFill>
        <p:spPr>
          <a:xfrm>
            <a:off x="2243160" y="21430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is transcribed into mRNA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also processed in the nucleus by splicing and adding the poly-A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cing influences the ultimate product of th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YTOPLASM, the availability of mRNA to ribosomes and the presence of molecules that either protect or degrade the mRNA will influence the amount of protei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19-08-RNAprocessing.mov" descr=""/>
          <p:cNvPicPr/>
          <p:nvPr/>
        </p:nvPicPr>
        <p:blipFill>
          <a:blip r:embed="rId1"/>
          <a:stretch/>
        </p:blipFill>
        <p:spPr>
          <a:xfrm>
            <a:off x="990720" y="1387440"/>
            <a:ext cx="6933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50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genes turn ON and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50071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teins that recognize invaders [antige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by cells in which DNA rearrangement produces a functional antibody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4 polypeptid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vy (H) &amp; 2 light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is composed of 3 regions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le, joining and constant: V,J &amp;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ntibody recognizes and binds to one specific 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a great diversity of antibodies to protect against a variety of invaders [pathoge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5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/>
          <p:cNvSpPr/>
          <p:nvPr/>
        </p:nvSpPr>
        <p:spPr>
          <a:xfrm>
            <a:off x="6477120" y="4800600"/>
            <a:ext cx="1904760" cy="380880"/>
          </a:xfrm>
          <a:prstGeom prst="wedgeRectCallout">
            <a:avLst>
              <a:gd name="adj1" fmla="val -133083"/>
              <a:gd name="adj2" fmla="val -19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ody light chain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me contains several copies of the different parts of the antibody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ifferentiated cells, each gene for the L of antibodies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of different V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J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ifferent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s for the H chains are organized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S50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differentiation of immune cells that are destined to produce antibodies, the antibody genes are rearranged via recombination to produce functional antibody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of the gene occurs by joining together one segment from each of the 3 regions of the gene and by deleting the other, extra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mber of combinations of segments from the 3 regions is tremend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S50128"/>
          <p:cNvPicPr/>
          <p:nvPr/>
        </p:nvPicPr>
        <p:blipFill>
          <a:blip r:embed="rId1"/>
          <a:stretch/>
        </p:blipFill>
        <p:spPr>
          <a:xfrm>
            <a:off x="1219320" y="186696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"/>
          <p:cNvSpPr/>
          <p:nvPr/>
        </p:nvSpPr>
        <p:spPr>
          <a:xfrm>
            <a:off x="0" y="1523880"/>
            <a:ext cx="1676520" cy="1676520"/>
          </a:xfrm>
          <a:prstGeom prst="wedgeRectCallout">
            <a:avLst>
              <a:gd name="adj1" fmla="val 66574"/>
              <a:gd name="adj2" fmla="val 3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ex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intr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 chain protein produced by the cell contains one V, J and 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 chain is produced by a similar rearran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light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heavy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bination of a light chain and a heavy chain can recognize one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5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s of antibodies on pa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of antibody gene DNA segments can occur at many different sites bu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ways occur between V-J and J-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tibody expressed by a cell is determined by the combination of V, J and C regions that are NOT de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the potential for each cell to make any one of 1000s of different antibody molecules, each of which can recognize a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binations occur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-J and J-C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S5013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50130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onserve ENERGY, it is most efficient to control this at the transcription level.  Why transcribe mRNA that is not needed by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S50072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developing antibody-producing cell has the potential to form a unique anti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ach cell makes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nes undergo rearrangement early in the differentiation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thereafter committed to produce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50132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5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regions of DNA can undergo EXTRA round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S5013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S5013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MORE copies of DNA and hence the potential to make mor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S5013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you know what that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ote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S5013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mphibian eggs, genes for rRNA become highly amp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S50138"/>
          <p:cNvPicPr/>
          <p:nvPr/>
        </p:nvPicPr>
        <p:blipFill>
          <a:blip r:embed="rId1"/>
          <a:stretch/>
        </p:blipFill>
        <p:spPr>
          <a:xfrm>
            <a:off x="3962520" y="1833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fication, in this case, begins with recombination between repeated copies of the rRNA genes, resulting in the production of circular DNA molecules containing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S5013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S50140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 more efficient that duplicating DNA the old fashioned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mall, circular DNA molecules replicate to produce 1000s of copies of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the egg to quickly make many ribosomes which are needed for protein synthesis after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S5014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12:43Z</dcterms:created>
  <dc:creator>Program Coordinator</dc:creator>
  <dc:description/>
  <dc:language>en-US</dc:language>
  <cp:lastModifiedBy>René McCormick</cp:lastModifiedBy>
  <dcterms:modified xsi:type="dcterms:W3CDTF">2010-04-01T18:26:10Z</dcterms:modified>
  <cp:revision>10</cp:revision>
  <dc:subject/>
  <dc:title>Gene Regulation</dc:title>
</cp:coreProperties>
</file>