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6.jpeg" ContentType="image/jpeg"/>
  <Override PartName="/ppt/media/image23.jpeg" ContentType="image/jpeg"/>
  <Override PartName="/ppt/media/image12.png" ContentType="image/png"/>
  <Override PartName="/ppt/media/image49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jpeg" ContentType="image/jpeg"/>
  <Override PartName="/ppt/media/image25.png" ContentType="image/png"/>
  <Override PartName="/ppt/media/image42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1.jpeg" ContentType="image/jpeg"/>
  <Override PartName="/ppt/media/image47.png" ContentType="image/png"/>
  <Override PartName="/ppt/media/image2.png" ContentType="image/png"/>
  <Override PartName="/ppt/media/image32.png" ContentType="image/png"/>
  <Override PartName="/ppt/media/image3.png" ContentType="image/png"/>
  <Override PartName="/ppt/media/image33.png" ContentType="image/png"/>
  <Override PartName="/ppt/media/image4.png" ContentType="image/png"/>
  <Override PartName="/ppt/media/image34.png" ContentType="image/png"/>
  <Override PartName="/ppt/media/image36.png" ContentType="image/png"/>
  <Override PartName="/ppt/media/image37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11.jpeg" ContentType="image/jpeg"/>
  <Override PartName="/ppt/media/image44.png" ContentType="image/png"/>
  <Override PartName="/ppt/media/image46.png" ContentType="image/png"/>
  <Override PartName="/ppt/media/image45.png" ContentType="image/png"/>
  <Override PartName="/ppt/media/image51.jpeg" ContentType="image/jpeg"/>
  <Override PartName="/ppt/media/image31.png" ContentType="image/png"/>
  <Override PartName="/ppt/media/image52.jpeg" ContentType="image/jpeg"/>
  <Override PartName="/ppt/media/image53.jpeg" ContentType="image/jpeg"/>
  <Override PartName="/ppt/media/image54.png" ContentType="image/png"/>
  <Override PartName="/ppt/media/image30.png" ContentType="image/png"/>
  <Override PartName="/ppt/media/image38.png" ContentType="image/png"/>
  <Override PartName="/ppt/media/image8.jpeg" ContentType="image/jpeg"/>
  <Override PartName="/ppt/media/image5.png" ContentType="image/png"/>
  <Override PartName="/ppt/media/image43.jpeg" ContentType="image/jpeg"/>
  <Override PartName="/ppt/media/image35.png" ContentType="image/png"/>
  <Override PartName="/ppt/media/image28.png" ContentType="image/png"/>
  <Override PartName="/ppt/media/image7.jpeg" ContentType="image/jpeg"/>
  <Override PartName="/ppt/media/image20.png" ContentType="image/png"/>
  <Override PartName="/ppt/media/image6.jpeg" ContentType="image/jpeg"/>
  <Override PartName="/ppt/media/image18.png" ContentType="image/png"/>
  <Override PartName="/ppt/media/image13.png" ContentType="image/png"/>
  <Override PartName="/ppt/media/image9.jpeg" ContentType="image/jpeg"/>
  <Override PartName="/ppt/media/image48.png" ContentType="image/png"/>
  <Override PartName="/ppt/media/image27.jpeg" ContentType="image/jpeg"/>
  <Override PartName="/ppt/media/image50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  <p:sldId id="310" r:id="rId69"/>
    <p:sldId id="311" r:id="rId70"/>
    <p:sldId id="312" r:id="rId71"/>
    <p:sldId id="313" r:id="rId72"/>
    <p:sldId id="314" r:id="rId73"/>
    <p:sldId id="315" r:id="rId74"/>
    <p:sldId id="316" r:id="rId75"/>
    <p:sldId id="317" r:id="rId76"/>
    <p:sldId id="318" r:id="rId77"/>
    <p:sldId id="319" r:id="rId78"/>
    <p:sldId id="320" r:id="rId79"/>
    <p:sldId id="321" r:id="rId80"/>
    <p:sldId id="322" r:id="rId81"/>
    <p:sldId id="323" r:id="rId82"/>
    <p:sldId id="324" r:id="rId83"/>
    <p:sldId id="325" r:id="rId84"/>
    <p:sldId id="326" r:id="rId85"/>
    <p:sldId id="327" r:id="rId86"/>
    <p:sldId id="328" r:id="rId8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slide" Target="slides/slide55.xml"/><Relationship Id="rId70" Type="http://schemas.openxmlformats.org/officeDocument/2006/relationships/slide" Target="slides/slide56.xml"/><Relationship Id="rId71" Type="http://schemas.openxmlformats.org/officeDocument/2006/relationships/slide" Target="slides/slide57.xml"/><Relationship Id="rId72" Type="http://schemas.openxmlformats.org/officeDocument/2006/relationships/slide" Target="slides/slide58.xml"/><Relationship Id="rId73" Type="http://schemas.openxmlformats.org/officeDocument/2006/relationships/slide" Target="slides/slide59.xml"/><Relationship Id="rId74" Type="http://schemas.openxmlformats.org/officeDocument/2006/relationships/slide" Target="slides/slide60.xml"/><Relationship Id="rId75" Type="http://schemas.openxmlformats.org/officeDocument/2006/relationships/slide" Target="slides/slide61.xml"/><Relationship Id="rId76" Type="http://schemas.openxmlformats.org/officeDocument/2006/relationships/slide" Target="slides/slide62.xml"/><Relationship Id="rId77" Type="http://schemas.openxmlformats.org/officeDocument/2006/relationships/slide" Target="slides/slide63.xml"/><Relationship Id="rId78" Type="http://schemas.openxmlformats.org/officeDocument/2006/relationships/slide" Target="slides/slide64.xml"/><Relationship Id="rId79" Type="http://schemas.openxmlformats.org/officeDocument/2006/relationships/slide" Target="slides/slide65.xml"/><Relationship Id="rId80" Type="http://schemas.openxmlformats.org/officeDocument/2006/relationships/slide" Target="slides/slide66.xml"/><Relationship Id="rId81" Type="http://schemas.openxmlformats.org/officeDocument/2006/relationships/slide" Target="slides/slide67.xml"/><Relationship Id="rId82" Type="http://schemas.openxmlformats.org/officeDocument/2006/relationships/slide" Target="slides/slide68.xml"/><Relationship Id="rId83" Type="http://schemas.openxmlformats.org/officeDocument/2006/relationships/slide" Target="slides/slide69.xml"/><Relationship Id="rId84" Type="http://schemas.openxmlformats.org/officeDocument/2006/relationships/slide" Target="slides/slide70.xml"/><Relationship Id="rId85" Type="http://schemas.openxmlformats.org/officeDocument/2006/relationships/slide" Target="slides/slide71.xml"/><Relationship Id="rId86" Type="http://schemas.openxmlformats.org/officeDocument/2006/relationships/slide" Target="slides/slide72.xml"/><Relationship Id="rId87" Type="http://schemas.openxmlformats.org/officeDocument/2006/relationships/slide" Target="slides/slide73.xml"/><Relationship Id="rId8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dt" idx="3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Click to move the slide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ftr" idx="3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 type="sldNum" idx="3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258FF-5F8A-45AD-B608-27525CE5465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ACC48-6087-4D35-B1A1-60F1BDE9F1D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C4EF8-EAA3-42E5-BE3B-873160FB927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E8C78-EEC1-4241-B555-98040D4C7CC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81F0A-1F8B-435F-9D3B-1AC892600A2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E0F73-3557-438B-B79C-B9938026BA7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D86B6-3B6D-4CBB-99C9-BD3997ED888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70CE2-24F8-4F7A-8D44-5249CE5E1EC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30241-0818-43D5-83D3-9221AF2C988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4C311-439B-40C1-B76B-303D61656AE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8D68-0880-4F1C-A8E5-E924B1B09F8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93275-00EC-406E-B3B2-0EDBF358C21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83375-4E2F-4DF2-9551-757FE53302E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24A3B-757C-459C-97E6-72713C58D4C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354C8-2C4D-4021-8BBD-712AFCF73F6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C6344-3408-4B1D-BFDC-4B8B60E3639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BEA67-B4E8-4569-8D03-B89D1BDF3E5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218A2-A4C4-4C45-B90F-43F270E894C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D0D3C-7B51-4202-BD5A-44016C112CE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E1967-4635-422A-8D40-C6EE446FCE7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EADFC-D511-440E-BFFD-4AB9B7E2519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267F6-6784-402D-A6C1-CC4F840080D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ACAC3-5082-4BC9-BC65-17C8DEEA864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0F5DA-A033-4E90-83E9-8BC2973313B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6D676-08FD-43AF-9A1A-C610F9F5603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CE3C7-354D-47CA-815D-997CC36ACB4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4AE6D-5C0E-42D0-BA25-D5A37DE3C38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45D76-560B-423B-9D4E-1BAD5D2B955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3004E-2FB0-4A1F-B16F-1733E7D9E0F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BC826-4D42-4A19-9D98-CA28041618F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DF5EC-F5C1-42F6-B0B4-D38F4C31052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7431C-A9CE-43D5-AB0C-81672DB0A4A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240AD-D8AB-415E-A80F-05C4D3824D4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74A09-60AA-4D02-84C2-1A759DE0C50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36C29-0927-4B51-A56A-BEF98C7FB2D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93BD9-C8A0-4BF1-BB22-CA37DABC837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06E6B-6FEB-4BCD-A340-DBC2FB626AB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0CAA6-E7D9-443E-A769-4D6309E4389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F9B7C-02F5-4E94-9A02-A107C433DEC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8C3A6-C46B-4451-B2AE-3945619C367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5ECAB-F097-44BF-AAFA-E096C973E7E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9A413-FE46-4F2B-B716-C28AEFAB852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9E3F4-8593-403B-BE22-87734306140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46D50-CACC-4355-B121-E948A196970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D10D1-3C7E-4659-8EF4-7A85D3DD533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0847D-20E3-4C9C-93C4-643F568E627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5026F-6148-400E-8C60-30EB173B18E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F3C16-FC65-46AA-BDE5-A83D1CA8DAD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F9BA8-1817-4DEE-9632-AD219AE592E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4C251-4439-492A-B9C3-1921176F30B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94ECC-4336-4A74-A0E1-D9D53EB4C03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27197-7A71-4B30-8D1B-6158DBF968F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0FE7A-475D-4707-BAB4-3CB7BD69B00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FF2E9-7A21-4B65-B7EE-2B56EDC8191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F2B04-E49F-4157-BC42-C243D55FA9A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FA41B-C823-4968-9126-4CA992B4AAC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0184B-C2EC-41CB-A30E-0800E4DCFD7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E6FB9-9F58-49D6-ACD5-3491A05B18A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944A0-907A-41B6-A244-880B9760564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99C90-461B-4F35-96DF-10763404C02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CE87A-04E4-496D-9DBF-DF9F29AC287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193D1-E1A6-4A5E-8771-8AB42651CDB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3E1CA-AFBC-45EC-93E7-31A0C7C8F4D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37688-6FF4-49A0-81E7-EA38A7D70BA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BC93C-2C24-42C7-B767-3FEA970E353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B244C-FBD1-43B8-8260-187A8F3C15A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0FE03-1A96-40B3-B286-04237B63DC4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F13E0-9C8E-4310-BEE6-E8D32D16564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96984-0D48-495C-956D-CD15C51299B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D3C85-09AD-46E8-8D31-C3E71FF7536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2E09B-06BF-4F0F-A6A7-4771C25F5A0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DD4BF-DDAC-488C-9388-4623C35D13E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95E2D-1987-484C-B57A-E74B0F3C59C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D3DC0-6C5A-4A11-B7B2-20599AC53FD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2331-FC68-4EFB-AE4A-28EFF2CCD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A353-B3D8-44DC-A0B0-CD57D910B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E18DFE-9BE7-4213-A514-4825B3639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C2BABC-09C7-499D-A215-302E40A5E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8D9BFD-5EE4-412A-B4BF-33ECB4349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921B24-9B79-4BD7-8F4C-AE28E101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0D9BFF-FEA9-49DB-A856-DD445C51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C780E7-6480-4194-8FF0-3DE913DC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99E526-7B1F-4249-8481-D6F6C7B07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143D14-46E0-42DF-B2A4-F716A9D1E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A5D5EB-3BD0-49E0-88A5-F6CBA921B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43F9A0-442B-47EE-8F35-CB72BCED5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ECB7-AE37-4925-ACA3-9679DF2A3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9836E0-7821-4231-86BC-F764F325A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C466AD-1048-4E1A-B940-047A0088F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98B524-744B-463E-85D5-C6106A129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7F72FD-7C00-4144-890A-C39DF4F0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089F13-FDF8-41D8-9C0D-7A9DBC67C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0A15C8-B604-4F05-8F53-A7FDDEBB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32BFC5-97D3-435C-9345-EEF87120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9B6F5D-502B-4EBF-86EC-856624C4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994622-1330-4D1B-A287-D1EF93E16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25CAC3-1E9A-470E-A143-6CA1D7D15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1F5C-A3E9-4DC9-9939-1A1348748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7EBE4F-297A-4776-A2EC-72A977898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B0C14E-6B81-49E0-B4CE-CA891FCCD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44CE21-6D67-48F2-BFEA-76315F863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E3678F-A8FA-4824-8829-7EF26D30A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2842D7-DFD9-4668-9CE2-D3A66852F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ACED1E-2229-4CE4-B29B-CC5BC258A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D88826-EC68-4E00-B47D-BD863C855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B80BCF-DE93-484B-BBA3-D883FFAA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B81559-85CE-4A7D-A6B7-942F9B1C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345C14-FFD5-41F8-966B-9B835026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D44A0-9960-40DD-9029-739CA03DE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A6579E-C071-40C1-B230-25C6EA91E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BDA9A8-80BA-4187-AC3B-EB4D8A7D2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D0BBE9-FA72-4B31-9225-1D1C4F266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3FF3EE-3F50-4CA7-8B4E-E4E39DCB7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401DED-245F-450F-A695-64B24CCC6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CF18B1-999D-4AD9-9131-08E1032FC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CB813E-48E9-4721-BC42-85DDB41F0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781D67-2E42-4B6F-85C1-30875F1E0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4017B9-C00E-4112-87A5-F768CA300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DF83F5-DD6A-44DB-8AB3-ED3C096F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30C08-A108-4C2F-8202-FB740BBC0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325050-CF5C-4906-8A0D-45BFCAFA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057B24-77B6-44D8-8825-557377FD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662BF3-9EB6-4111-BEC7-EAF99D255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FBF4B2-43C1-4E7E-9B97-DBE762DF9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82E295-DB9B-4381-9C3B-B344BB698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C026F-03F4-46D6-B949-41A7E40BA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C138B-1309-4946-A2FA-BD0321438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B1F64-4F4B-4903-B83A-CD743CCDA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7AF94-4B75-46C5-882B-75D3E28A5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ECA9B-9252-4477-BA8C-3B5294314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7572-1071-4415-8B9C-9A8B7BFD8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6AD96-1337-407A-B0ED-534F3790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B836B-3BD8-40B9-8A43-61AF1534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39E95-D200-4451-862F-E01248B4F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D46C3-010D-4703-918B-AB064312F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B802B-76E7-458D-B2B2-DCF46F640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2FCD7-C8FA-4CF5-8D38-8ED0EC4B4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282DF-7285-4E45-9E01-17E695C47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B33C5-59E2-47D0-A3FB-95B57F9CA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1C0FB-0A8A-4F8A-B59F-E2A763C2B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7C11E-D742-4226-82D6-D1DC6CFE4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EED4-EB36-4F20-8FA8-11DFFE8E9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754E7-731F-46E6-ADEF-D61BA4866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17A5B-AD72-417C-ABBD-7BDFB8F7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08DC5-72E3-4ED2-8D34-D133877C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C25B3-88C6-478B-8F98-A68575F8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2461E-7B9B-4C30-A194-236390D65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EF6F5-EF39-4B3B-9E1F-BC89F5B16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69D16-640B-41EF-AE69-A7ADF517E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6F475-A66E-4517-8DF9-45E6DA5BF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F4CA0-14B7-49DF-BDA4-C595D3252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96EF8-CAB1-4A04-98CE-C1756FF37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E67E-EB27-42E8-A952-ED7434F01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1B56E-738D-4288-8E28-82B19E161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41526-0998-4BFF-BB7A-7E38E5F2F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43411-AAAA-46C3-BBFF-2E110933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E360D-BA7E-4396-B80D-2179405B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21358-88EC-43F8-B7C7-537C7C6F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0FDBD-E24A-4C89-A0BB-4D3D466B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E27FC-3882-43BF-B01C-47BABF437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7F742-2365-4466-884B-5FF98B2FD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0A325-CC46-49F5-90D1-2D6BD103E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F455A-B8D5-4B0C-9DFC-158398E58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014F-97CF-40EE-9B30-72960D33B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ECC1A-788D-4A05-9767-B9B940701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D15A2-87F5-4DF8-8CA7-7A59C77A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857C7-CCB8-4A6A-AEF6-26D963FF1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D00D5-1B19-41F5-88AC-44A562ADE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AAECB-0560-4762-8F77-A0FC09E22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17C74-4C2A-4722-A886-ACA75252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371BD-3670-4B7D-BBF8-37407866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6FCD8-845C-4426-9C35-1015784C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E2FA3-9060-401E-983C-B2BFE0D9D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45020-D87D-4C49-B206-9942C1047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0A2C-726D-43ED-AC36-8FB92861F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56B92-392E-4584-816E-B50221CBA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7FECD-D1D8-472F-BF0F-0F44A38CA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603BA-33EB-4593-9913-989284292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C26B0-A4B8-4DC4-8F90-63192CEB7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3E307F-50D8-4FDA-B9EA-4B4A9F9AE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54EC4-C62B-4252-9F9C-355B9EA4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5F65C-2584-48F6-B078-198B8BC39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9DAED-D20F-496F-AD8D-F46E727F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87AC9-BAA4-45BC-BAF1-EB7DF662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E290C-C289-4EB4-97E1-07BCD7D8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A577-A41E-4EAF-94A3-8F0BB4AF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69120-51FF-4FF4-A30D-8FBFF7C54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BAFDA-3FC6-4DBD-9B75-A60BE6FE0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259D4-EA12-4132-A6FF-4E6DB6059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3FFAC6-FE0F-467C-84D7-DA5045053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85EE31-241E-4BB5-BCDA-9C3E6C196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610BD-57F9-427A-BEB5-D6418855D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1B1835-E1A5-4104-BEE3-CF4DD5DEC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7A9B6F-4BB7-477A-AFEA-487B42E07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9DF9B-124D-448B-B6D0-434F2C6AE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22554-4463-4886-8873-8537551B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1BA9-BD66-4BEF-B4BF-B67CBAA0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7DE79-0481-4642-97E5-129B6BEE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87867-C943-4E38-875A-A4BFEAB6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7A40B-1853-4182-8FB5-4A292B324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CBB91-1169-4FF7-8960-75E9F3183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878470-7D1A-46D4-B23A-0151DB01B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4D8DC-FE00-4E6A-A3C4-0100BE98D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F39FA-7A74-4FA8-9BE5-083F2B667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BF3446-EE4A-4E2D-8F8D-ABA9E1587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2AFCDF-43F0-4F16-968C-DDCC803C2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2515B-F11C-4CAF-8DCD-68A6B6A30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140B-472F-4808-97A8-AC49336D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BCDF39-FEDC-4CE5-8E45-122D9258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B0F3FE-F28F-4DEE-BF81-F98C8223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2092D3-0ED9-489E-9973-00C907FA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3C3B0B-5D78-4304-AFC1-F4C0B0B7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7C227E-A86B-463A-B1EC-CD4EFD039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1AF11E-F27A-430D-AB58-93AEDD81B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D254CB-1D32-4D18-8872-5ED3F2C90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732773-EAD0-41C4-BC5A-E0468B9FD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C6F244-A7E3-45EE-A581-BB421A50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D3B7BE-A2B5-4C60-B75D-940839546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4f8fa">
              <a:alpha val="33000"/>
            </a:srgbClr>
          </a:solidFill>
          <a:ln cap="rnd" w="3240">
            <a:solidFill>
              <a:srgbClr val="a0b5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0eef6"/>
            </a:solidFill>
            <a:miter/>
          </a:ln>
          <a:effectLst>
            <a:outerShdw dist="12600" dir="5400000" blurRad="0" rotWithShape="0">
              <a:srgbClr val="8d9aa1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990360" y="6381360"/>
            <a:ext cx="106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2743200" y="617184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Copyright 2008 by René McCormick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National Math and Science Initiative, In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AP</a:t>
            </a:r>
            <a:r>
              <a:rPr b="0" lang="en-US" sz="1200" spc="-1" strike="noStrike" baseline="30000">
                <a:solidFill>
                  <a:srgbClr val="899ba4"/>
                </a:solidFill>
                <a:latin typeface="Perpetua"/>
              </a:rPr>
              <a:t>®</a:t>
            </a: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 is a registered trademark of the College Board. The College Board was not involved in the production of this produc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9944C-1017-4E8A-B6E4-81FB90C60912}" type="slidenum">
              <a:rPr b="0" lang="en-US" sz="1200" spc="-1" strike="noStrike">
                <a:solidFill>
                  <a:srgbClr val="899ba4"/>
                </a:solidFill>
                <a:latin typeface="Perpet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417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b3cad6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5d1d7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>
            <a:off x="990360" y="6381360"/>
            <a:ext cx="106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9"/>
          </p:nvPr>
        </p:nvSpPr>
        <p:spPr>
          <a:xfrm>
            <a:off x="2743200" y="617184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D3110-7BD2-4B86-925A-96E3E1213FFA}" type="slidenum">
              <a:rPr b="0" lang="en-US" sz="1200" spc="-1" strike="noStrike">
                <a:solidFill>
                  <a:srgbClr val="899ba4"/>
                </a:solidFill>
                <a:latin typeface="Perpet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4f8fa">
              <a:alpha val="33000"/>
            </a:srgbClr>
          </a:solidFill>
          <a:ln cap="rnd" w="3240">
            <a:solidFill>
              <a:srgbClr val="a0b5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0eef6"/>
            </a:solidFill>
            <a:miter/>
          </a:ln>
          <a:effectLst>
            <a:outerShdw dist="12600" dir="5400000" blurRad="0" rotWithShape="0">
              <a:srgbClr val="8d9aa1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65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1"/>
          </p:nvPr>
        </p:nvSpPr>
        <p:spPr>
          <a:xfrm>
            <a:off x="990360" y="6381360"/>
            <a:ext cx="106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2"/>
          </p:nvPr>
        </p:nvSpPr>
        <p:spPr>
          <a:xfrm>
            <a:off x="2743200" y="617184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B5E27-70DB-4D8B-93B0-0780D678E536}" type="slidenum">
              <a:rPr b="0" lang="en-US" sz="1200" spc="-1" strike="noStrike">
                <a:solidFill>
                  <a:srgbClr val="899ba4"/>
                </a:solidFill>
                <a:latin typeface="Perpet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4f8fa">
              <a:alpha val="33000"/>
            </a:srgbClr>
          </a:solidFill>
          <a:ln cap="rnd" w="3240">
            <a:solidFill>
              <a:srgbClr val="a0b5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0eef6"/>
            </a:solidFill>
            <a:miter/>
          </a:ln>
          <a:effectLst>
            <a:outerShdw dist="12600" dir="5400000" blurRad="0" rotWithShape="0">
              <a:srgbClr val="8d9aa1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990360" y="6381360"/>
            <a:ext cx="106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2743200" y="617184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38EEC-6FCA-4F7F-A990-9E1C61BD2E74}" type="slidenum">
              <a:rPr b="0" lang="en-US" sz="1200" spc="-1" strike="noStrike">
                <a:solidFill>
                  <a:srgbClr val="899ba4"/>
                </a:solidFill>
                <a:latin typeface="Perpet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4f8fa">
              <a:alpha val="33000"/>
            </a:srgbClr>
          </a:solidFill>
          <a:ln cap="rnd" w="3240">
            <a:solidFill>
              <a:srgbClr val="a0b5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0eef6"/>
            </a:solidFill>
            <a:miter/>
          </a:ln>
          <a:effectLst>
            <a:outerShdw dist="12600" dir="5400000" blurRad="0" rotWithShape="0">
              <a:srgbClr val="8d9aa1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b8563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990720" y="6552720"/>
            <a:ext cx="838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9ba4"/>
                </a:solidFill>
                <a:latin typeface="Perpetu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209680" y="6095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9ba4"/>
                </a:solidFill>
                <a:latin typeface="Perpetua"/>
              </a:rPr>
              <a:t>Copyright 2008 by René McCormick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9ba4"/>
                </a:solidFill>
                <a:latin typeface="Perpetua"/>
              </a:rPr>
              <a:t>National Math and Science Initiative, In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9ba4"/>
                </a:solidFill>
                <a:latin typeface="Perpetua"/>
              </a:rPr>
              <a:t>AP</a:t>
            </a:r>
            <a:r>
              <a:rPr b="0" lang="en-US" sz="1000" spc="-1" strike="noStrike" baseline="30000">
                <a:solidFill>
                  <a:srgbClr val="899ba4"/>
                </a:solidFill>
                <a:latin typeface="Perpetua"/>
              </a:rPr>
              <a:t>®</a:t>
            </a:r>
            <a:r>
              <a:rPr b="0" lang="en-US" sz="1000" spc="-1" strike="noStrike">
                <a:solidFill>
                  <a:srgbClr val="899ba4"/>
                </a:solidFill>
                <a:latin typeface="Perpetua"/>
              </a:rPr>
              <a:t> is a registered trademark of the College Board. The College Board was not involved in the production of this product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BB966-A22A-487C-B281-C00B10634EBA}" type="slidenum">
              <a:rPr b="0" lang="en-US" sz="1200" spc="-1" strike="noStrike">
                <a:solidFill>
                  <a:srgbClr val="899ba4"/>
                </a:solidFill>
                <a:latin typeface="Perpet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4f8fa">
              <a:alpha val="33000"/>
            </a:srgbClr>
          </a:solidFill>
          <a:ln cap="rnd" w="3240">
            <a:solidFill>
              <a:srgbClr val="a0b5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0eef6"/>
            </a:solidFill>
            <a:miter/>
          </a:ln>
          <a:effectLst>
            <a:outerShdw dist="12600" dir="5400000" blurRad="0" rotWithShape="0">
              <a:srgbClr val="8d9aa1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990360" y="6381360"/>
            <a:ext cx="106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2743200" y="617184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99ba4"/>
                </a:solidFill>
                <a:latin typeface="Perpetua"/>
              </a:rPr>
              <a:t>Copyright 2008 by René McCormick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99ba4"/>
                </a:solidFill>
                <a:latin typeface="Perpetua"/>
              </a:rPr>
              <a:t>National Math and Science Initiative, Inc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99ba4"/>
                </a:solidFill>
                <a:latin typeface="Perpetua"/>
              </a:rPr>
              <a:t>AP</a:t>
            </a:r>
            <a:r>
              <a:rPr b="0" lang="en-US" sz="1100" spc="-1" strike="noStrike" baseline="30000">
                <a:solidFill>
                  <a:srgbClr val="899ba4"/>
                </a:solidFill>
                <a:latin typeface="Perpetua"/>
              </a:rPr>
              <a:t>®</a:t>
            </a:r>
            <a:r>
              <a:rPr b="0" lang="en-US" sz="1100" spc="-1" strike="noStrike">
                <a:solidFill>
                  <a:srgbClr val="899ba4"/>
                </a:solidFill>
                <a:latin typeface="Perpetua"/>
              </a:rPr>
              <a:t> is a registered trademark of the College Board. The College Board was not involved in the production of this product.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F2FBC-6881-430C-A696-79257308FBCE}" type="slidenum">
              <a:rPr b="0" lang="en-US" sz="1200" spc="-1" strike="noStrike">
                <a:solidFill>
                  <a:srgbClr val="899ba4"/>
                </a:solidFill>
                <a:latin typeface="Perpet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51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b8563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990360" y="6381360"/>
            <a:ext cx="106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743200" y="617184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Copyright 2008 by René McCormick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National Math and Science Initiative, In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AP</a:t>
            </a:r>
            <a:r>
              <a:rPr b="0" lang="en-US" sz="1200" spc="-1" strike="noStrike" baseline="30000">
                <a:solidFill>
                  <a:srgbClr val="899ba4"/>
                </a:solidFill>
                <a:latin typeface="Perpetua"/>
              </a:rPr>
              <a:t>®</a:t>
            </a: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 is a registered trademark of the College Board. The College Board was not involved in the production of this product.</a:t>
            </a:r>
            <a:r>
              <a:rPr b="0" lang="en-US" sz="1000" spc="-1" strike="noStrike">
                <a:solidFill>
                  <a:srgbClr val="899ba4"/>
                </a:solidFill>
                <a:latin typeface="Perpetua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31689-01F2-466E-B5BA-0AB2606CC83D}" type="slidenum">
              <a:rPr b="0" lang="en-US" sz="1200" spc="-1" strike="noStrike">
                <a:solidFill>
                  <a:srgbClr val="899ba4"/>
                </a:solidFill>
                <a:latin typeface="Perpet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4f8fa">
              <a:alpha val="33000"/>
            </a:srgbClr>
          </a:solidFill>
          <a:ln cap="rnd" w="3240">
            <a:solidFill>
              <a:srgbClr val="a0b5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0eef6"/>
            </a:solidFill>
            <a:miter/>
          </a:ln>
          <a:effectLst>
            <a:outerShdw dist="12600" dir="5400000" blurRad="0" rotWithShape="0">
              <a:srgbClr val="8d9aa1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98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990360" y="6381360"/>
            <a:ext cx="106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2743200" y="617184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8D7BC-98C0-4CF9-BFE4-F9281B419CE0}" type="slidenum">
              <a:rPr b="0" lang="en-US" sz="1200" spc="-1" strike="noStrike">
                <a:solidFill>
                  <a:srgbClr val="899ba4"/>
                </a:solidFill>
                <a:latin typeface="Perpet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990360" y="6381360"/>
            <a:ext cx="106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2743200" y="617184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4E612-C9E0-4036-942D-C6514F0721A2}" type="slidenum">
              <a:rPr b="0" lang="en-US" sz="1200" spc="-1" strike="noStrike">
                <a:solidFill>
                  <a:srgbClr val="899ba4"/>
                </a:solidFill>
                <a:latin typeface="Perpet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4f8fa">
              <a:alpha val="33000"/>
            </a:srgbClr>
          </a:solidFill>
          <a:ln cap="rnd" w="3240">
            <a:solidFill>
              <a:srgbClr val="a0b5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0eef6"/>
            </a:solidFill>
            <a:miter/>
          </a:ln>
          <a:effectLst>
            <a:outerShdw dist="12600" dir="5400000" blurRad="0" rotWithShape="0">
              <a:srgbClr val="8d9aa1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87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990360" y="6381360"/>
            <a:ext cx="106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2743200" y="617184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99ba4"/>
                </a:solidFill>
                <a:latin typeface="Perpetua"/>
              </a:rPr>
              <a:t>Copyright 2008 by René McCormick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99ba4"/>
                </a:solidFill>
                <a:latin typeface="Perpetua"/>
              </a:rPr>
              <a:t>National Math and Science Initiative, Inc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99ba4"/>
                </a:solidFill>
                <a:latin typeface="Perpetua"/>
              </a:rPr>
              <a:t>AP</a:t>
            </a:r>
            <a:r>
              <a:rPr b="0" lang="en-US" sz="1100" spc="-1" strike="noStrike" baseline="30000">
                <a:solidFill>
                  <a:srgbClr val="899ba4"/>
                </a:solidFill>
                <a:latin typeface="Perpetua"/>
              </a:rPr>
              <a:t>®</a:t>
            </a:r>
            <a:r>
              <a:rPr b="0" lang="en-US" sz="1100" spc="-1" strike="noStrike">
                <a:solidFill>
                  <a:srgbClr val="899ba4"/>
                </a:solidFill>
                <a:latin typeface="Perpetua"/>
              </a:rPr>
              <a:t> is a registered trademark of the College Board. The College Board was not involved in the production of this product.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9B252-4D96-4A60-A96C-8837E3E4FE99}" type="slidenum">
              <a:rPr b="0" lang="en-US" sz="1200" spc="-1" strike="noStrike">
                <a:solidFill>
                  <a:srgbClr val="899ba4"/>
                </a:solidFill>
                <a:latin typeface="Perpet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2"/>
          </p:nvPr>
        </p:nvSpPr>
        <p:spPr>
          <a:xfrm>
            <a:off x="990360" y="6381360"/>
            <a:ext cx="106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3"/>
          </p:nvPr>
        </p:nvSpPr>
        <p:spPr>
          <a:xfrm>
            <a:off x="2743200" y="617184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DEE5F-F5BD-4D8F-83DB-BB76E174C370}" type="slidenum">
              <a:rPr b="0" lang="en-US" sz="1200" spc="-1" strike="noStrike">
                <a:solidFill>
                  <a:srgbClr val="899ba4"/>
                </a:solidFill>
                <a:latin typeface="Perpet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5"/>
          </p:nvPr>
        </p:nvSpPr>
        <p:spPr>
          <a:xfrm>
            <a:off x="990360" y="6381360"/>
            <a:ext cx="106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6"/>
          </p:nvPr>
        </p:nvSpPr>
        <p:spPr>
          <a:xfrm>
            <a:off x="2743200" y="617184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4C5B7-E127-4D84-9516-02488082197A}" type="slidenum">
              <a:rPr b="0" lang="en-US" sz="1200" spc="-1" strike="noStrike">
                <a:solidFill>
                  <a:srgbClr val="899ba4"/>
                </a:solidFill>
                <a:latin typeface="Perpet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nationalmathandscience.org/index.php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Alanine" TargetMode="External"/><Relationship Id="rId2" Type="http://schemas.openxmlformats.org/officeDocument/2006/relationships/hyperlink" Target="http://en.wikipedia.org/wiki/Arginine" TargetMode="External"/><Relationship Id="rId3" Type="http://schemas.openxmlformats.org/officeDocument/2006/relationships/hyperlink" Target="http://en.wikipedia.org/wiki/Asparagine" TargetMode="External"/><Relationship Id="rId4" Type="http://schemas.openxmlformats.org/officeDocument/2006/relationships/hyperlink" Target="http://en.wikipedia.org/wiki/Aspartate" TargetMode="External"/><Relationship Id="rId5" Type="http://schemas.openxmlformats.org/officeDocument/2006/relationships/hyperlink" Target="http://en.wikipedia.org/wiki/Cysteine" TargetMode="External"/><Relationship Id="rId6" Type="http://schemas.openxmlformats.org/officeDocument/2006/relationships/hyperlink" Target="http://en.wikipedia.org/wiki/Glutamate" TargetMode="External"/><Relationship Id="rId7" Type="http://schemas.openxmlformats.org/officeDocument/2006/relationships/hyperlink" Target="http://en.wikipedia.org/wiki/Glutamine" TargetMode="External"/><Relationship Id="rId8" Type="http://schemas.openxmlformats.org/officeDocument/2006/relationships/hyperlink" Target="http://en.wikipedia.org/wiki/Glycine" TargetMode="External"/><Relationship Id="rId9" Type="http://schemas.openxmlformats.org/officeDocument/2006/relationships/hyperlink" Target="http://en.wikipedia.org/wiki/Histidine" TargetMode="External"/><Relationship Id="rId10" Type="http://schemas.openxmlformats.org/officeDocument/2006/relationships/hyperlink" Target="http://en.wikipedia.org/wiki/Isoleucine" TargetMode="External"/><Relationship Id="rId11" Type="http://schemas.openxmlformats.org/officeDocument/2006/relationships/hyperlink" Target="http://en.wikipedia.org/wiki/Leucine" TargetMode="External"/><Relationship Id="rId12" Type="http://schemas.openxmlformats.org/officeDocument/2006/relationships/hyperlink" Target="http://en.wikipedia.org/wiki/Lysine" TargetMode="External"/><Relationship Id="rId13" Type="http://schemas.openxmlformats.org/officeDocument/2006/relationships/hyperlink" Target="http://en.wikipedia.org/wiki/Methionine" TargetMode="External"/><Relationship Id="rId14" Type="http://schemas.openxmlformats.org/officeDocument/2006/relationships/hyperlink" Target="http://en.wikipedia.org/wiki/Phenylalanine" TargetMode="External"/><Relationship Id="rId15" Type="http://schemas.openxmlformats.org/officeDocument/2006/relationships/hyperlink" Target="http://en.wikipedia.org/wiki/Proline" TargetMode="External"/><Relationship Id="rId16" Type="http://schemas.openxmlformats.org/officeDocument/2006/relationships/hyperlink" Target="http://en.wikipedia.org/wiki/Serine" TargetMode="External"/><Relationship Id="rId17" Type="http://schemas.openxmlformats.org/officeDocument/2006/relationships/hyperlink" Target="http://en.wikipedia.org/wiki/Threonine" TargetMode="External"/><Relationship Id="rId18" Type="http://schemas.openxmlformats.org/officeDocument/2006/relationships/hyperlink" Target="http://en.wikipedia.org/wiki/Tryptophan" TargetMode="External"/><Relationship Id="rId19" Type="http://schemas.openxmlformats.org/officeDocument/2006/relationships/hyperlink" Target="http://en.wikipedia.org/wiki/Tyrosine" TargetMode="External"/><Relationship Id="rId20" Type="http://schemas.openxmlformats.org/officeDocument/2006/relationships/hyperlink" Target="http://en.wikipedia.org/wiki/Valine" TargetMode="External"/><Relationship Id="rId21" Type="http://schemas.openxmlformats.org/officeDocument/2006/relationships/slideLayout" Target="../slideLayouts/slideLayout85.xml"/><Relationship Id="rId2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447560" y="106668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AP</a:t>
            </a:r>
            <a:r>
              <a:rPr b="0" lang="en-US" sz="3900" spc="-1" strike="noStrike" baseline="30000">
                <a:solidFill>
                  <a:srgbClr val="5f688b"/>
                </a:solidFill>
                <a:latin typeface="Franklin Gothic Book"/>
              </a:rPr>
              <a:t>®</a:t>
            </a: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 Biology 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Biochemistry Prep Session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1447560" y="266652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b5064"/>
                </a:solidFill>
                <a:latin typeface="Perpetua"/>
              </a:rPr>
              <a:t>Proteins, Carbohydrates, Lipids &amp; Nucleic Acids. </a:t>
            </a:r>
            <a:endParaRPr b="0" lang="en-US" sz="6000" spc="-1" strike="noStrike">
              <a:solidFill>
                <a:srgbClr val="000000"/>
              </a:solidFill>
              <a:latin typeface="Perpetua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b5064"/>
                </a:solidFill>
                <a:latin typeface="Perpetua"/>
              </a:rPr>
              <a:t>Oh, my!</a:t>
            </a:r>
            <a:endParaRPr b="0" lang="en-US" sz="6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67" name="Picture 5" descr="National Math and Science Initiativ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55440"/>
            <a:ext cx="404820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What is a “hydrogen bond” if it’s not a chemical bond??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1434600" y="1447560"/>
            <a:ext cx="7099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339480" indent="-2628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339480" indent="-2628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t’s an intermolecular force (IMF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339480" indent="-2628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339480" indent="-2628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t’s an electrostatic attraction (ever heard of Coulomb’s Law?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339480" indent="-2628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339480" indent="-2628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t’s the attractive force between a hydrogen atom on one molecule and a highly electronegative atom (F,O or N) on an adjacent molecule.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339480" indent="-2628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339480" indent="-2628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UT, there’s a catch!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6" descr="http://upload.wikimedia.org/wikipedia/commons/thumb/b/b5/Hydrogen-bonding-in-water-2D.png/800px-Hydrogen-bonding-in-water-2D.png"/>
          <p:cNvPicPr/>
          <p:nvPr/>
        </p:nvPicPr>
        <p:blipFill>
          <a:blip r:embed="rId1"/>
          <a:stretch/>
        </p:blipFill>
        <p:spPr>
          <a:xfrm>
            <a:off x="1219320" y="1676520"/>
            <a:ext cx="7619760" cy="4647960"/>
          </a:xfrm>
          <a:prstGeom prst="rect">
            <a:avLst/>
          </a:prstGeom>
          <a:ln w="0">
            <a:noFill/>
          </a:ln>
        </p:spPr>
      </p:pic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What is a “hydrogen bond” if it’s not a chemical bond??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96" name="TextBox 4"/>
          <p:cNvSpPr/>
          <p:nvPr/>
        </p:nvSpPr>
        <p:spPr>
          <a:xfrm>
            <a:off x="2362320" y="5486400"/>
            <a:ext cx="3809880" cy="916920"/>
          </a:xfrm>
          <a:prstGeom prst="rect">
            <a:avLst/>
          </a:prstGeom>
          <a:solidFill>
            <a:srgbClr val="edc1b6"/>
          </a:solidFill>
          <a:ln w="9360">
            <a:solidFill>
              <a:srgbClr val="fff8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Hydrogen bon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(really an IMF or electrostatic attra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7" name="Straight Arrow Connector 8"/>
          <p:cNvCxnSpPr>
            <a:stCxn id="596" idx="0"/>
          </p:cNvCxnSpPr>
          <p:nvPr/>
        </p:nvCxnSpPr>
        <p:spPr>
          <a:xfrm flipV="1">
            <a:off x="4266000" y="4344120"/>
            <a:ext cx="2520" cy="114228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598" name="TextBox 14"/>
          <p:cNvSpPr/>
          <p:nvPr/>
        </p:nvSpPr>
        <p:spPr>
          <a:xfrm>
            <a:off x="3352680" y="1924200"/>
            <a:ext cx="3124440" cy="642600"/>
          </a:xfrm>
          <a:prstGeom prst="rect">
            <a:avLst/>
          </a:prstGeom>
          <a:solidFill>
            <a:srgbClr val="fff8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Covalently bonded hydrogen 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9" name="Straight Arrow Connector 16"/>
          <p:cNvCxnSpPr/>
          <p:nvPr/>
        </p:nvCxnSpPr>
        <p:spPr>
          <a:xfrm flipH="1">
            <a:off x="2513880" y="2284920"/>
            <a:ext cx="1524600" cy="762840"/>
          </a:xfrm>
          <a:prstGeom prst="straightConnector1">
            <a:avLst/>
          </a:prstGeom>
          <a:ln w="28440">
            <a:solidFill>
              <a:srgbClr val="546d7a"/>
            </a:solidFill>
            <a:miter/>
            <a:tailEnd len="med" type="triangle" w="med"/>
          </a:ln>
        </p:spPr>
      </p:cxnSp>
      <p:cxnSp>
        <p:nvCxnSpPr>
          <p:cNvPr id="600" name="Straight Arrow Connector 18"/>
          <p:cNvCxnSpPr/>
          <p:nvPr/>
        </p:nvCxnSpPr>
        <p:spPr>
          <a:xfrm>
            <a:off x="5715000" y="2286000"/>
            <a:ext cx="381600" cy="1372320"/>
          </a:xfrm>
          <a:prstGeom prst="straightConnector1">
            <a:avLst/>
          </a:prstGeom>
          <a:ln w="28440">
            <a:solidFill>
              <a:srgbClr val="546d7a"/>
            </a:solidFill>
            <a:miter/>
            <a:tailEnd len="med" type="triangle" w="med"/>
          </a:ln>
        </p:spPr>
      </p:cxnSp>
      <p:cxnSp>
        <p:nvCxnSpPr>
          <p:cNvPr id="601" name="Straight Arrow Connector 20"/>
          <p:cNvCxnSpPr/>
          <p:nvPr/>
        </p:nvCxnSpPr>
        <p:spPr>
          <a:xfrm>
            <a:off x="5715000" y="2285640"/>
            <a:ext cx="1448640" cy="762840"/>
          </a:xfrm>
          <a:prstGeom prst="straightConnector1">
            <a:avLst/>
          </a:prstGeom>
          <a:ln w="28440">
            <a:solidFill>
              <a:srgbClr val="546d7a"/>
            </a:solidFill>
            <a:miter/>
            <a:tailEnd len="med" type="triangle" w="med"/>
          </a:ln>
        </p:spPr>
      </p:cxnSp>
      <p:cxnSp>
        <p:nvCxnSpPr>
          <p:cNvPr id="602" name="Straight Arrow Connector 9"/>
          <p:cNvCxnSpPr/>
          <p:nvPr/>
        </p:nvCxnSpPr>
        <p:spPr>
          <a:xfrm flipH="1">
            <a:off x="2513880" y="2286000"/>
            <a:ext cx="1524600" cy="2286720"/>
          </a:xfrm>
          <a:prstGeom prst="straightConnector1">
            <a:avLst/>
          </a:prstGeom>
          <a:ln w="28440">
            <a:solidFill>
              <a:srgbClr val="546d7a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What is a “hydrogen bond” if it’s not a chemical bond??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1434600" y="1447560"/>
            <a:ext cx="7099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346680" indent="-2682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H atom must also be bound to a highly electronegative atom (and carbon doesn’t count)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346680" indent="-2682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346680" indent="-2682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hat’s the big deal?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580680" indent="-268200">
              <a:lnSpc>
                <a:spcPct val="90000"/>
              </a:lnSpc>
              <a:spcBef>
                <a:spcPts val="601"/>
              </a:spcBef>
              <a:buClr>
                <a:srgbClr val="ccb4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Hydrogen bonds are 10× stronger than other IMFs and about a 1/1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Perpetua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as strong as a covalent bond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346680" indent="-2682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o?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580680" indent="-268200">
              <a:lnSpc>
                <a:spcPct val="90000"/>
              </a:lnSpc>
              <a:spcBef>
                <a:spcPts val="601"/>
              </a:spcBef>
              <a:buClr>
                <a:srgbClr val="ccb4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Most all of water’s unique properties are attributed to its ability to form such electrostatic attractions or “hydrogen bonds”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2" marL="580680" indent="-268200">
              <a:lnSpc>
                <a:spcPct val="90000"/>
              </a:lnSpc>
              <a:spcBef>
                <a:spcPts val="601"/>
              </a:spcBef>
              <a:buClr>
                <a:srgbClr val="ccb4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What unique properties?  High FP, high MP, high heat of vaporization, high specific heat, etc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What else does a “hydrogen bond”</a:t>
            </a:r>
            <a:r>
              <a:rPr b="0" i="1" lang="en-US" sz="3900" spc="-1" strike="noStrike">
                <a:solidFill>
                  <a:srgbClr val="5f688b"/>
                </a:solidFill>
                <a:latin typeface="Franklin Gothic Book"/>
              </a:rPr>
              <a:t>do</a:t>
            </a: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?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1434600" y="1447560"/>
            <a:ext cx="7099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335520" indent="-25992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n general, it makes molecules stick together through electrostatic attraction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335520" indent="-25992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335520" indent="-25992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t holds the DNA base pairs together and accounts for why A pairs with T (or U) and G pairs with C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335520" indent="-25992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335520" indent="-25992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t causes electrostatic interactions that form various shapes in all sorts of biomolecules: the active sites of enzymes, the allosteric sites of enzymes, the alpha helix, the beta pleated sheet, etc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688b"/>
                </a:solidFill>
                <a:latin typeface="Franklin Gothic Book"/>
              </a:rPr>
              <a:t>NEXT, </a:t>
            </a:r>
            <a:br>
              <a:rPr sz="4000"/>
            </a:br>
            <a:r>
              <a:rPr b="1" lang="en-US" sz="4000" spc="-1" strike="noStrike">
                <a:solidFill>
                  <a:srgbClr val="5f688b"/>
                </a:solidFill>
                <a:latin typeface="Franklin Gothic Book"/>
              </a:rPr>
              <a:t>SOME BASIC BIOCHEMISTRY</a:t>
            </a:r>
            <a:endParaRPr b="0" lang="en-US" sz="40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851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Macromolecules: 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Proteins &amp; Nucleic Acids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graphicFrame>
        <p:nvGraphicFramePr>
          <p:cNvPr id="610" name=""/>
          <p:cNvGraphicFramePr/>
          <p:nvPr/>
        </p:nvGraphicFramePr>
        <p:xfrm>
          <a:off x="1371600" y="1981080"/>
          <a:ext cx="7499520" cy="3870360"/>
        </p:xfrm>
        <a:graphic>
          <a:graphicData uri="http://schemas.openxmlformats.org/drawingml/2006/table">
            <a:tbl>
              <a:tblPr/>
              <a:tblGrid>
                <a:gridCol w="1874880"/>
                <a:gridCol w="1874880"/>
                <a:gridCol w="1874880"/>
                <a:gridCol w="1874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Macro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Subun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Fun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ROTE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Glob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Amino Aci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atalysis &amp; Trans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Hemoglob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Struct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Amino Aci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Sup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Hair; sil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368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NUCLEIC ACI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D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Nucleoti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Encodes ge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hromoso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Nucleoti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Needed for gen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mRNA, tRNA, r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368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Macromolecules: Lipids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graphicFrame>
        <p:nvGraphicFramePr>
          <p:cNvPr id="612" name=""/>
          <p:cNvGraphicFramePr/>
          <p:nvPr/>
        </p:nvGraphicFramePr>
        <p:xfrm>
          <a:off x="1371600" y="1981080"/>
          <a:ext cx="7499520" cy="4221360"/>
        </p:xfrm>
        <a:graphic>
          <a:graphicData uri="http://schemas.openxmlformats.org/drawingml/2006/table">
            <a:tbl>
              <a:tblPr/>
              <a:tblGrid>
                <a:gridCol w="1874880"/>
                <a:gridCol w="1874880"/>
                <a:gridCol w="1874880"/>
                <a:gridCol w="1874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Macro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Subun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Fun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LIPI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Fa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Glycerol &amp; 3 fatty aci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Energy stor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utter; corn oil; so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hospholipi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Glycerol, 2 fatty acids, phosphate and polar R grou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ell membra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Lec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rostagland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5-C rings with 2 nonpolar tai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hemical messeng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rostaglandin E (PG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Steroi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4 fused C rin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Membranes; horm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holesterol; es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Terpe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Long C cha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igments; struct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arotene; rub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Macromolecules: Carbohydrates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1371600" y="1981080"/>
          <a:ext cx="7499520" cy="2117880"/>
        </p:xfrm>
        <a:graphic>
          <a:graphicData uri="http://schemas.openxmlformats.org/drawingml/2006/table">
            <a:tbl>
              <a:tblPr/>
              <a:tblGrid>
                <a:gridCol w="2057400"/>
                <a:gridCol w="1828800"/>
                <a:gridCol w="1738440"/>
                <a:gridCol w="1874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Macro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Subun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Fun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ARBOHYDR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Starch, glyc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Gluc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Energy stor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otato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ellul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Gluc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ell wa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aper; strings of cele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hi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Modified gluc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Structural sup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rab she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Macromolecules: 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Dehydration Synthesis 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Goal:  </a:t>
            </a:r>
            <a:r>
              <a:rPr b="0" i="1" lang="en-US" sz="2700" spc="-1" strike="noStrike">
                <a:solidFill>
                  <a:srgbClr val="000000"/>
                </a:solidFill>
                <a:latin typeface="Perpetua"/>
              </a:rPr>
              <a:t>Form</a:t>
            </a: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 a covalent bond between two subunit molecules.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marL="324720" indent="-2512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How?  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marL="324720" indent="-2512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An –OH group is removed from one subunit &amp; a H atom is removed from the other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marL="324720" indent="-2512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This condensation (yes, think “water”) reaction is called a dehydration synthesis since a molecule of H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O is removed with each covalent bond formed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marL="324720" indent="-2512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ENERGY IS REQUIRED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marL="324720" indent="-2512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Molecules are brought into position and bonds stressed (catalysis) which is carried out by enzymes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Macromolecules: 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Dehydration Synthesis 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618" name="Content Placeholder 3" descr="0028D1.BMP"/>
          <p:cNvPicPr/>
          <p:nvPr/>
        </p:nvPicPr>
        <p:blipFill>
          <a:blip r:embed="rId1"/>
          <a:stretch/>
        </p:blipFill>
        <p:spPr>
          <a:xfrm>
            <a:off x="1984320" y="144792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688b"/>
                </a:solidFill>
                <a:latin typeface="Franklin Gothic Book"/>
              </a:rPr>
              <a:t>FIRST, </a:t>
            </a:r>
            <a:br>
              <a:rPr sz="4000"/>
            </a:br>
            <a:r>
              <a:rPr b="1" lang="en-US" sz="4000" spc="-1" strike="noStrike">
                <a:solidFill>
                  <a:srgbClr val="5f688b"/>
                </a:solidFill>
                <a:latin typeface="Franklin Gothic Book"/>
              </a:rPr>
              <a:t>SOME BASIC CHEMISTRY</a:t>
            </a:r>
            <a:endParaRPr b="0" lang="en-US" sz="40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851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Macromolecules: 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Hydrolysis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99160" indent="-23148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Goal:  </a:t>
            </a:r>
            <a:r>
              <a:rPr b="0" i="1" lang="en-US" sz="3200" spc="-1" strike="noStrike">
                <a:solidFill>
                  <a:srgbClr val="000000"/>
                </a:solidFill>
                <a:latin typeface="Perpetua"/>
              </a:rPr>
              <a:t>Break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a covalent bond between two subunit molecules. </a:t>
            </a:r>
            <a:r>
              <a:rPr b="0" i="1" lang="en-US" sz="3200" spc="-1" strike="noStrike">
                <a:solidFill>
                  <a:srgbClr val="000000"/>
                </a:solidFill>
                <a:latin typeface="Perpetua"/>
              </a:rPr>
              <a:t>Hydrolysis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(Greek </a:t>
            </a:r>
            <a:r>
              <a:rPr b="0" i="1" lang="en-US" sz="3200" spc="-1" strike="noStrike">
                <a:solidFill>
                  <a:srgbClr val="000000"/>
                </a:solidFill>
                <a:latin typeface="Perpetua"/>
              </a:rPr>
              <a:t>hydro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, “water” + </a:t>
            </a:r>
            <a:r>
              <a:rPr b="0" i="1" lang="en-US" sz="3200" spc="-1" strike="noStrike">
                <a:solidFill>
                  <a:srgbClr val="000000"/>
                </a:solidFill>
                <a:latin typeface="Perpetua"/>
              </a:rPr>
              <a:t>lyse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“break or split”)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99160" indent="-23148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How?  Simple, reverse the synthesis process!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99160" indent="-23148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A molecule of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O is “added” across a covalent bond such that a H atom binds to one subunit and an –OH group binds to the other subuni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99160" indent="-23148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ENERGY IS RELEASED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99160" indent="-23148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is process is also carried out by enzymes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99160" indent="-231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99160" indent="-23148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Macromolecules: 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Hydrolysis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623" name="Picture 3" descr="0028D2.BMP"/>
          <p:cNvPicPr/>
          <p:nvPr/>
        </p:nvPicPr>
        <p:blipFill>
          <a:blip r:embed="rId1"/>
          <a:stretch/>
        </p:blipFill>
        <p:spPr>
          <a:xfrm>
            <a:off x="1371600" y="1600200"/>
            <a:ext cx="655308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Macromolecules: Dehydration Synthesis &amp; Hydrolysis Reactions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625" name="05-02-Macromolecules.mov" descr=""/>
          <p:cNvPicPr/>
          <p:nvPr/>
        </p:nvPicPr>
        <p:blipFill>
          <a:blip r:embed="rId1"/>
          <a:stretch/>
        </p:blipFill>
        <p:spPr>
          <a:xfrm>
            <a:off x="1523880" y="1146240"/>
            <a:ext cx="7010640" cy="5175360"/>
          </a:xfrm>
          <a:prstGeom prst="rect">
            <a:avLst/>
          </a:prstGeom>
          <a:ln w="0">
            <a:noFill/>
          </a:ln>
        </p:spPr>
      </p:pic>
      <p:sp>
        <p:nvSpPr>
          <p:cNvPr id="626" name="TextBox 5"/>
          <p:cNvSpPr/>
          <p:nvPr/>
        </p:nvSpPr>
        <p:spPr>
          <a:xfrm>
            <a:off x="1219320" y="61722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The animation should start automatically if you are in Slide Show view.  If not, see “Troubleshooting” at the end of this presen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3417" fill="hold"/>
                                        <p:tgtEl>
                                          <p:spTgt spid="6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2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62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6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688b"/>
                </a:solidFill>
                <a:latin typeface="Franklin Gothic Book"/>
              </a:rPr>
              <a:t>PROTEINS</a:t>
            </a:r>
            <a:endParaRPr b="0" lang="en-US" sz="40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851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Proteins are composed of amino acids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1434960" y="1447920"/>
            <a:ext cx="7251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e basic structure of an amino acid is shown on the next slid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There’s a central carbon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 hydrogen atom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n amine group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 carboxylic acid group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n “R” group that determines the differences between amino acid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886360" y="1066320"/>
            <a:ext cx="3029040" cy="388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5f688b"/>
                </a:solidFill>
                <a:latin typeface="Franklin Gothic Book"/>
              </a:rPr>
              <a:t>Generic Structure of an </a:t>
            </a:r>
            <a:r>
              <a:rPr b="1" lang="en-US" sz="4000" spc="-1" strike="noStrike">
                <a:solidFill>
                  <a:srgbClr val="5f688b"/>
                </a:solidFill>
                <a:latin typeface="Franklin Gothic Book"/>
              </a:rPr>
              <a:t>Amino Acid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5f688b"/>
                </a:solidFill>
                <a:latin typeface="Franklin Gothic Book"/>
              </a:rPr>
              <a:t>There are 20 naturally occurring amino acids</a:t>
            </a:r>
            <a:endParaRPr b="0" lang="en-US" sz="24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837720" y="4572000"/>
            <a:ext cx="4419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Perpetua"/>
              </a:rPr>
              <a:t>Primary protein structure is simply the amino acid sequence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Perpetua"/>
              </a:rPr>
              <a:t>Example:  gly-leu-ala-cys…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633" name="Picture 2" descr="http://img.sparknotes.com/figures/F/f88cd44dc6a50ffa6b94cdb9d213894e/aminoacid.gif"/>
          <p:cNvPicPr/>
          <p:nvPr/>
        </p:nvPicPr>
        <p:blipFill>
          <a:blip r:embed="rId1"/>
          <a:stretch/>
        </p:blipFill>
        <p:spPr>
          <a:xfrm>
            <a:off x="963720" y="1352520"/>
            <a:ext cx="419076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4" name=""/>
          <p:cNvGraphicFramePr/>
          <p:nvPr/>
        </p:nvGraphicFramePr>
        <p:xfrm>
          <a:off x="1295280" y="380880"/>
          <a:ext cx="7315200" cy="6070680"/>
        </p:xfrm>
        <a:graphic>
          <a:graphicData uri="http://schemas.openxmlformats.org/drawingml/2006/table">
            <a:tbl>
              <a:tblPr/>
              <a:tblGrid>
                <a:gridCol w="1347840"/>
                <a:gridCol w="1349280"/>
                <a:gridCol w="1347840"/>
                <a:gridCol w="1347840"/>
                <a:gridCol w="1922400"/>
              </a:tblGrid>
              <a:tr h="93888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Name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(Residu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3-letter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o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Relative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abundance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(%) E.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Mol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Ma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harged,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olar,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Hydrophobic,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Neutral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632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1"/>
                        </a:rPr>
                        <a:t>Alan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A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668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2"/>
                        </a:rPr>
                        <a:t>Argin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AR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5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632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3"/>
                        </a:rPr>
                        <a:t>Asparag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A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9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668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4"/>
                        </a:rPr>
                        <a:t>Aspart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AS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9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−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632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5"/>
                        </a:rPr>
                        <a:t>Cyste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632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6"/>
                        </a:rPr>
                        <a:t>Glutam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GL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0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−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668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7"/>
                        </a:rPr>
                        <a:t>Glutam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GL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0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632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8"/>
                        </a:rPr>
                        <a:t>Glyc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G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7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668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9"/>
                        </a:rPr>
                        <a:t>Histid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H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,C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632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10"/>
                        </a:rPr>
                        <a:t>Isoleuc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4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488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11"/>
                        </a:rPr>
                        <a:t>Leuc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LE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7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3364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12"/>
                        </a:rPr>
                        <a:t>Lys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L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668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13"/>
                        </a:rPr>
                        <a:t>Methion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M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3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632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14"/>
                        </a:rPr>
                        <a:t>Phenylalan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3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632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15"/>
                        </a:rPr>
                        <a:t>Prol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4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3364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16"/>
                        </a:rPr>
                        <a:t>Ser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S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6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668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17"/>
                        </a:rPr>
                        <a:t>Threon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TH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4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632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18"/>
                        </a:rPr>
                        <a:t>Tryptoph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T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632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19"/>
                        </a:rPr>
                        <a:t>Tyros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TY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3364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20"/>
                        </a:rPr>
                        <a:t>Val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V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6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Peptide Bond Formation:</a:t>
            </a:r>
            <a:br>
              <a:rPr sz="3900"/>
            </a:br>
            <a:r>
              <a:rPr b="0" lang="en-US" sz="3200" spc="-1" strike="noStrike">
                <a:solidFill>
                  <a:srgbClr val="5f688b"/>
                </a:solidFill>
                <a:latin typeface="Franklin Gothic Book"/>
              </a:rPr>
              <a:t>A specific type of </a:t>
            </a:r>
            <a:r>
              <a:rPr b="0" i="1" lang="en-US" sz="3200" spc="-1" strike="noStrike">
                <a:solidFill>
                  <a:srgbClr val="5f688b"/>
                </a:solidFill>
                <a:latin typeface="Franklin Gothic Book"/>
              </a:rPr>
              <a:t>dehydration synthesis</a:t>
            </a:r>
            <a:endParaRPr b="0" lang="en-US" sz="32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1434960" y="1447920"/>
            <a:ext cx="749952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09960" indent="-24012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e amine group of one amino acid is joined to the carboxylic acid group of another amino acid to form a </a:t>
            </a:r>
            <a:r>
              <a:rPr b="0" i="1" lang="en-US" sz="3200" spc="-1" strike="noStrike">
                <a:solidFill>
                  <a:srgbClr val="000000"/>
                </a:solidFill>
                <a:latin typeface="Perpetua"/>
              </a:rPr>
              <a:t>peptide bond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. This type of chemical reaction is often called a </a:t>
            </a:r>
            <a:r>
              <a:rPr b="0" i="1" lang="en-US" sz="3200" spc="-1" strike="noStrike">
                <a:solidFill>
                  <a:srgbClr val="000000"/>
                </a:solidFill>
                <a:latin typeface="Perpetua"/>
              </a:rPr>
              <a:t>condensation reaction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ince a water molecule is also produced</a:t>
            </a:r>
            <a:r>
              <a:rPr b="0" i="1" lang="en-US" sz="3200" spc="-1" strike="noStrike">
                <a:solidFill>
                  <a:srgbClr val="000000"/>
                </a:solidFill>
                <a:latin typeface="Perpetu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637" name="Picture 7" descr="http://homepages.ius.edu/GKIRCHNE/peptide.jpg"/>
          <p:cNvPicPr/>
          <p:nvPr/>
        </p:nvPicPr>
        <p:blipFill>
          <a:blip r:embed="rId1"/>
          <a:stretch/>
        </p:blipFill>
        <p:spPr>
          <a:xfrm>
            <a:off x="3505320" y="4191120"/>
            <a:ext cx="327636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Protein Structure: The Details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ere are 4 levels of protein structure: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20280" indent="-2293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Primary (1°)—sequence of amino acid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620280" indent="-2293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Secondary (2°)—formation of motif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620280" indent="-2293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Tertiary (3°)—folding into a conformation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620280" indent="-2293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Quaternary (4°)—a combing of subunit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620280" indent="-2293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53880" indent="-2739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hall we examine each level more closely?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Primary Protein Structure: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the sequence of amino acids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641" name="05-24a-PrimaryStructure.mov" descr=""/>
          <p:cNvPicPr/>
          <p:nvPr/>
        </p:nvPicPr>
        <p:blipFill>
          <a:blip r:embed="rId1"/>
          <a:stretch/>
        </p:blipFill>
        <p:spPr>
          <a:xfrm>
            <a:off x="2855880" y="2128680"/>
            <a:ext cx="465768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60834" fill="hold"/>
                                        <p:tgtEl>
                                          <p:spTgt spid="6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641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641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6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Elements Essential to Life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. HOPKINS CaF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arbon, hydrogen, oxygen, phosphorous, potassium, iodine, nitrogen, sulfur, calcium and iron [add Mg for plants]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ose elements make up 95% of the biomass on earth!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Secondary Protein Structure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1434960" y="1447560"/>
            <a:ext cx="725184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econdary structure involves the formation of motifs.  The two most common are the alpha helix and beta pleated sheet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Both form as a result of hydrogen bond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644" name="Picture 4" descr="0040D2.BMP"/>
          <p:cNvPicPr/>
          <p:nvPr/>
        </p:nvPicPr>
        <p:blipFill>
          <a:blip r:embed="rId1"/>
          <a:srcRect l="8966" t="28309" r="0" b="22633"/>
          <a:stretch/>
        </p:blipFill>
        <p:spPr>
          <a:xfrm>
            <a:off x="1905120" y="4343400"/>
            <a:ext cx="4902120" cy="198108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5" descr="0040D1.BMP"/>
          <p:cNvPicPr/>
          <p:nvPr/>
        </p:nvPicPr>
        <p:blipFill>
          <a:blip r:embed="rId2"/>
          <a:srcRect l="10618" t="25793" r="7805" b="25811"/>
          <a:stretch/>
        </p:blipFill>
        <p:spPr>
          <a:xfrm>
            <a:off x="1951200" y="3200400"/>
            <a:ext cx="467820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Secondary Protein Structure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647" name="Picture 5" descr="http://www.columbia.edu/cu/biology/courses/c2005/images/3levelpro.4.p.jpg"/>
          <p:cNvPicPr/>
          <p:nvPr/>
        </p:nvPicPr>
        <p:blipFill>
          <a:blip r:embed="rId1"/>
          <a:stretch/>
        </p:blipFill>
        <p:spPr>
          <a:xfrm>
            <a:off x="1676520" y="1600200"/>
            <a:ext cx="655308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Secondary Protein Structure: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Alpha helix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649" name="Picture 2" descr="http://wiz2.pharm.wayne.edu/biochem/nsphelix1.jpg"/>
          <p:cNvPicPr/>
          <p:nvPr/>
        </p:nvPicPr>
        <p:blipFill>
          <a:blip r:embed="rId1"/>
          <a:stretch/>
        </p:blipFill>
        <p:spPr>
          <a:xfrm>
            <a:off x="2057400" y="2362320"/>
            <a:ext cx="537840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Secondary Protein Structure: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Beta-pleated sheet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651" name="Picture 2" descr="http://tainano.com/Molecular%20Biology%20Glossary.files/image025.gif"/>
          <p:cNvPicPr/>
          <p:nvPr/>
        </p:nvPicPr>
        <p:blipFill>
          <a:blip r:embed="rId1"/>
          <a:stretch/>
        </p:blipFill>
        <p:spPr>
          <a:xfrm>
            <a:off x="2189160" y="1828800"/>
            <a:ext cx="55738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Tertiary Protein Structure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09960" indent="-24012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A polypeptide chain is not </a:t>
            </a:r>
            <a:r>
              <a:rPr b="0" i="1" lang="en-US" sz="3200" spc="-1" strike="noStrike">
                <a:solidFill>
                  <a:srgbClr val="000000"/>
                </a:solidFill>
                <a:latin typeface="Perpetua"/>
              </a:rPr>
              <a:t>really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referred to as a </a:t>
            </a:r>
            <a:r>
              <a:rPr b="0" i="1" lang="en-US" sz="3200" spc="-1" strike="noStrike">
                <a:solidFill>
                  <a:srgbClr val="000000"/>
                </a:solidFill>
                <a:latin typeface="Perpetua"/>
              </a:rPr>
              <a:t>protein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until it has formed its motifs AND further folded upon itself to form its complete 3-D conformation (shape).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09960" indent="-24012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A proteins shape is crucial to its function!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09960" indent="-24012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is is accomplished by even more hydrogen bonding, some hydrophobic &amp; hydrophilic interactions, some polar interactions and the occasional formation of a disulfide bridg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Tertiary Protein Structure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655" name="Picture 2" descr="http://kvhs.nbed.nb.ca/gallant/biology/tertiary_structure.jpg"/>
          <p:cNvPicPr/>
          <p:nvPr/>
        </p:nvPicPr>
        <p:blipFill>
          <a:blip r:embed="rId1"/>
          <a:stretch/>
        </p:blipFill>
        <p:spPr>
          <a:xfrm>
            <a:off x="3124080" y="1219320"/>
            <a:ext cx="30322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Quaternary Protein Structure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1434960" y="1447560"/>
            <a:ext cx="74995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Quaternary structure involves the arrangement of multiple folded protein molecules in a multi-subunit complex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39480" indent="-2628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Hemoglobin is the usual example!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658" name="Picture 7" descr="http://www.nlm.nih.gov/medlineplus/ency/images/ency/fullsize/19510.jpg"/>
          <p:cNvPicPr/>
          <p:nvPr/>
        </p:nvPicPr>
        <p:blipFill>
          <a:blip r:embed="rId1"/>
          <a:stretch/>
        </p:blipFill>
        <p:spPr>
          <a:xfrm>
            <a:off x="2408400" y="2782800"/>
            <a:ext cx="487656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Quaternary Protein Structure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09960" indent="-24012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Misfolded proteins are responsible for prion-related illnesses such as Creutzfeldt-Jakob disease, bovine spongiform encephalopathy (mad cow disease), amyloid-related illnesses such as Alzheimer's Disease, and a number of other forms of proteopathy such as cystic fibrosis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09960" indent="-24012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What’s a </a:t>
            </a:r>
            <a:r>
              <a:rPr b="0" i="1" lang="en-US" sz="2800" spc="-1" strike="noStrike">
                <a:solidFill>
                  <a:srgbClr val="000000"/>
                </a:solidFill>
                <a:latin typeface="Perpetua"/>
              </a:rPr>
              <a:t>prion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? short for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pr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oteinaceous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nfectious particl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3600" indent="-20088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t’s an infectious agent [made of protein]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3600" indent="-20088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ll known prion diseases affect the structure of the brain or other neural tissue, and all are currently untreatable and fatal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The Six Functions of Proteins: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1.  Enzyme Catalysis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06360" indent="-23724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06360" indent="-23724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Globular proteins with a 3-D shape that fits snugly around the chemicals they work on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06360" indent="-23724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06360" indent="-23724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ey provide a surface for chemical reactions and stress particular chemical bond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06360" indent="-23724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06360" indent="-23724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ey lower the activation energy of chemical reactions and thus, speed them up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The Six Functions of Proteins: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1.  Enzyme Catalysis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664" name="05T-01g-Enzymes.mov" descr=""/>
          <p:cNvPicPr/>
          <p:nvPr/>
        </p:nvPicPr>
        <p:blipFill>
          <a:blip r:embed="rId1"/>
          <a:stretch/>
        </p:blipFill>
        <p:spPr>
          <a:xfrm>
            <a:off x="2855880" y="2128680"/>
            <a:ext cx="465768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5250" fill="hold"/>
                                        <p:tgtEl>
                                          <p:spTgt spid="6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664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664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6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The “i” words: 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ion, isomer &amp; isotope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1371600" y="1752120"/>
            <a:ext cx="2984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06360" indent="-23724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erpetua"/>
              </a:rPr>
              <a:t>What is an ion?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lvl="1" marL="537120" indent="-19836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n atom that has lost electrons to form a (+) cation OR an atom that has gained electrons to form a (−) anion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744120" indent="-191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2" marL="744120" indent="-191880">
              <a:spcBef>
                <a:spcPts val="550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74" name="Picture 2" descr="http://www.nearingzero.net/screen_res/nz069.jpg"/>
          <p:cNvPicPr/>
          <p:nvPr/>
        </p:nvPicPr>
        <p:blipFill>
          <a:blip r:embed="rId1"/>
          <a:stretch/>
        </p:blipFill>
        <p:spPr>
          <a:xfrm>
            <a:off x="4648320" y="1828800"/>
            <a:ext cx="421632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The Six Functions of Proteins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2. Defense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Globular proteins that use their 3-D shape to recognize foreign microbes and cancer cell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ey serve as cell surface receptors and form the core of the body’s hormone and immune system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The Six Functions of Proteins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2. Defense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668" name="05T-01f-DefensiveProteins.mov" descr=""/>
          <p:cNvPicPr/>
          <p:nvPr/>
        </p:nvPicPr>
        <p:blipFill>
          <a:blip r:embed="rId1"/>
          <a:stretch/>
        </p:blipFill>
        <p:spPr>
          <a:xfrm>
            <a:off x="2855880" y="2128680"/>
            <a:ext cx="465768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11750" fill="hold"/>
                                        <p:tgtEl>
                                          <p:spTgt spid="6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668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668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6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The Six Functions of Proteins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3. Transport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Globular proteins that transport specific small molecules and ion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Hemoglobin transports oxygen in blood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Myoglobin transports oxygen in muscle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Transferrin transports iron in blood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The Six Functions of Proteins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3. Transport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672" name="05T-01c-TransportProteins.mov" descr=""/>
          <p:cNvPicPr/>
          <p:nvPr/>
        </p:nvPicPr>
        <p:blipFill>
          <a:blip r:embed="rId1"/>
          <a:stretch/>
        </p:blipFill>
        <p:spPr>
          <a:xfrm>
            <a:off x="2855880" y="2128680"/>
            <a:ext cx="465768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4750" fill="hold"/>
                                        <p:tgtEl>
                                          <p:spTgt spid="6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672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672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5" dur="1" fill="hold"/>
                                        <p:tgtEl>
                                          <p:spTgt spid="6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The Six Functions of Proteins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4. Structure &amp; Support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1434960" y="1447920"/>
            <a:ext cx="74995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erpetua"/>
              </a:rPr>
              <a:t>Fibrous or threadlike proteins that can form a matrix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lvl="1" marL="588240" indent="-21744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Keratin in hai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88240" indent="-21744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brin in blood clo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88240" indent="-21744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llagen forms the matrix of the skin, ligaments, tendons and bones (it’s not just for lip injections!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88240" indent="-21744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llagen is the most abundant protein in a vertebrate bod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675" name="Picture 2" descr="http://fig.cox.miami.edu/~cmallery/150/physiol/40x2collagen.gif"/>
          <p:cNvPicPr/>
          <p:nvPr/>
        </p:nvPicPr>
        <p:blipFill>
          <a:blip r:embed="rId1"/>
          <a:stretch/>
        </p:blipFill>
        <p:spPr>
          <a:xfrm>
            <a:off x="3048120" y="4648320"/>
            <a:ext cx="489564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The Six Functions of Proteins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4. Structure &amp; Support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677" name="05T-01a-StructuralProteins.mov" descr=""/>
          <p:cNvPicPr/>
          <p:nvPr/>
        </p:nvPicPr>
        <p:blipFill>
          <a:blip r:embed="rId1"/>
          <a:stretch/>
        </p:blipFill>
        <p:spPr>
          <a:xfrm>
            <a:off x="2895480" y="2057400"/>
            <a:ext cx="465768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27167" fill="hold"/>
                                        <p:tgtEl>
                                          <p:spTgt spid="6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677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677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6" dur="1" fill="hold"/>
                                        <p:tgtEl>
                                          <p:spTgt spid="6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The Six Functions of Proteins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5. Motion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1434600" y="1447560"/>
            <a:ext cx="74804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06360" indent="-23724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erpetua"/>
              </a:rPr>
              <a:t>Filamentous proteins such as actin and myosin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lvl="1" marL="537120" indent="-19836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uscles contract through the sliding motion of these two protein filamen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37120" indent="-19836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ntractile proteins also play key roles in the cell’s cytoskeleton and in moving materials within cells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680" name="Picture 5" descr="0511.BMP"/>
          <p:cNvPicPr/>
          <p:nvPr/>
        </p:nvPicPr>
        <p:blipFill>
          <a:blip r:embed="rId1"/>
          <a:stretch/>
        </p:blipFill>
        <p:spPr>
          <a:xfrm>
            <a:off x="2870280" y="3352680"/>
            <a:ext cx="46735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The Six Functions of Proteins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5. Motion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682" name="05T-01e-ContractileProteins.mov" descr=""/>
          <p:cNvPicPr/>
          <p:nvPr/>
        </p:nvPicPr>
        <p:blipFill>
          <a:blip r:embed="rId1"/>
          <a:stretch/>
        </p:blipFill>
        <p:spPr>
          <a:xfrm>
            <a:off x="2855880" y="2128680"/>
            <a:ext cx="465768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2667" fill="hold"/>
                                        <p:tgtEl>
                                          <p:spTgt spid="6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682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682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7" dur="1" fill="hold"/>
                                        <p:tgtEl>
                                          <p:spTgt spid="6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The Six Functions of Proteins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6. Regulation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1434600" y="1447920"/>
            <a:ext cx="7404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mall proteins called hormones serve as intercellular (between cells) messengers in animal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Regulatory proteins also play many roles within a cel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Turning on and shutting off genes during development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Proteins that receive information, acting as cell surface receptor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The Six Functions of Proteins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6. Regulation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686" name="05T-01h-SignalProteins.mov" descr=""/>
          <p:cNvPicPr/>
          <p:nvPr/>
        </p:nvPicPr>
        <p:blipFill>
          <a:blip r:embed="rId1"/>
          <a:stretch/>
        </p:blipFill>
        <p:spPr>
          <a:xfrm>
            <a:off x="2855880" y="2128680"/>
            <a:ext cx="465768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21000" fill="hold"/>
                                        <p:tgtEl>
                                          <p:spTgt spid="6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686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686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8" dur="1" fill="hold"/>
                                        <p:tgtEl>
                                          <p:spTgt spid="6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The “i” words: 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ion, isomer &amp; isotope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1434960" y="1447920"/>
            <a:ext cx="74995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582120" indent="-21492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What does the prefix </a:t>
            </a:r>
            <a:r>
              <a:rPr b="0" i="1" lang="en-US" sz="2000" spc="-1" strike="noStrike">
                <a:solidFill>
                  <a:srgbClr val="000000"/>
                </a:solidFill>
                <a:latin typeface="Perpetua"/>
              </a:rPr>
              <a:t>iso-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mean?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06040" indent="-207720">
              <a:lnSpc>
                <a:spcPct val="80000"/>
              </a:lnSpc>
              <a:spcBef>
                <a:spcPts val="425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Perpetua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Perpetua"/>
              </a:rPr>
              <a:t>same”</a:t>
            </a:r>
            <a:endParaRPr b="0" lang="en-US" sz="1700" spc="-1" strike="noStrike">
              <a:solidFill>
                <a:srgbClr val="000000"/>
              </a:solidFill>
              <a:latin typeface="Perpetua"/>
            </a:endParaRPr>
          </a:p>
          <a:p>
            <a:pPr lvl="1" marL="582120" indent="-21492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What is an isomer?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06040" indent="-207720">
              <a:lnSpc>
                <a:spcPct val="80000"/>
              </a:lnSpc>
              <a:spcBef>
                <a:spcPts val="425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Perpetua"/>
              </a:rPr>
              <a:t>Molecules with the same chemical formula, but different structural formulas.  Glucose has 36 isomers: half are sweet and half are bitter!</a:t>
            </a:r>
            <a:endParaRPr b="0" lang="en-US" sz="1700" spc="-1" strike="noStrike">
              <a:solidFill>
                <a:srgbClr val="000000"/>
              </a:solidFill>
              <a:latin typeface="Perpetua"/>
            </a:endParaRPr>
          </a:p>
          <a:p>
            <a:pPr lvl="2" marL="806040" indent="-207720">
              <a:lnSpc>
                <a:spcPct val="80000"/>
              </a:lnSpc>
              <a:spcBef>
                <a:spcPts val="425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Perpetua"/>
              </a:rPr>
              <a:t>Same atoms, different arrangement, different shape, therefore </a:t>
            </a:r>
            <a:r>
              <a:rPr b="0" i="1" lang="en-US" sz="1700" spc="-1" strike="noStrike">
                <a:solidFill>
                  <a:srgbClr val="000000"/>
                </a:solidFill>
                <a:latin typeface="Perpetua"/>
              </a:rPr>
              <a:t>different function</a:t>
            </a:r>
            <a:endParaRPr b="0" lang="en-US" sz="1700" spc="-1" strike="noStrike">
              <a:solidFill>
                <a:srgbClr val="000000"/>
              </a:solidFill>
              <a:latin typeface="Perpetua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77" name="Picture 2" descr="http://www.nearingzero.net/screen_res/nz079.jpg"/>
          <p:cNvPicPr/>
          <p:nvPr/>
        </p:nvPicPr>
        <p:blipFill>
          <a:blip r:embed="rId1"/>
          <a:stretch/>
        </p:blipFill>
        <p:spPr>
          <a:xfrm>
            <a:off x="1003320" y="3325680"/>
            <a:ext cx="2730600" cy="353232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4" descr="http://www.nearingzero.net/screen_res/nz081.jpg"/>
          <p:cNvPicPr/>
          <p:nvPr/>
        </p:nvPicPr>
        <p:blipFill>
          <a:blip r:embed="rId2"/>
          <a:stretch/>
        </p:blipFill>
        <p:spPr>
          <a:xfrm>
            <a:off x="3743280" y="3338640"/>
            <a:ext cx="2752920" cy="351936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6" descr="http://www.nearingzero.net/screen_res/nz083.jpg"/>
          <p:cNvPicPr/>
          <p:nvPr/>
        </p:nvPicPr>
        <p:blipFill>
          <a:blip r:embed="rId3"/>
          <a:stretch/>
        </p:blipFill>
        <p:spPr>
          <a:xfrm>
            <a:off x="6443640" y="3352680"/>
            <a:ext cx="27259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How enzymes work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688" name="06-14-HowEnzymesWork.mov" descr=""/>
          <p:cNvPicPr/>
          <p:nvPr/>
        </p:nvPicPr>
        <p:blipFill>
          <a:blip r:embed="rId1"/>
          <a:stretch/>
        </p:blipFill>
        <p:spPr>
          <a:xfrm>
            <a:off x="2855880" y="2128680"/>
            <a:ext cx="465768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95417" fill="hold"/>
                                        <p:tgtEl>
                                          <p:spTgt spid="6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688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688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9" dur="1" fill="hold"/>
                                        <p:tgtEl>
                                          <p:spTgt spid="6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688b"/>
                </a:solidFill>
                <a:latin typeface="Franklin Gothic Book"/>
              </a:rPr>
              <a:t>CARBOHYDRATES (CH</a:t>
            </a:r>
            <a:r>
              <a:rPr b="1" lang="en-US" sz="4000" spc="-1" strike="noStrike" baseline="-25000">
                <a:solidFill>
                  <a:srgbClr val="5f688b"/>
                </a:solidFill>
                <a:latin typeface="Franklin Gothic Book"/>
              </a:rPr>
              <a:t>2</a:t>
            </a:r>
            <a:r>
              <a:rPr b="1" lang="en-US" sz="4000" spc="-1" strike="noStrike">
                <a:solidFill>
                  <a:srgbClr val="5f688b"/>
                </a:solidFill>
                <a:latin typeface="Franklin Gothic Book"/>
              </a:rPr>
              <a:t>O)</a:t>
            </a:r>
            <a:r>
              <a:rPr b="1" lang="en-US" sz="4000" spc="-1" strike="noStrike" baseline="-25000">
                <a:solidFill>
                  <a:srgbClr val="5f688b"/>
                </a:solidFill>
                <a:latin typeface="Franklin Gothic Book"/>
              </a:rPr>
              <a:t>n</a:t>
            </a:r>
            <a:endParaRPr b="0" lang="en-US" sz="40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851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Glycosidic Bond Formation:</a:t>
            </a:r>
            <a:br>
              <a:rPr sz="3900"/>
            </a:br>
            <a:r>
              <a:rPr b="0" lang="en-US" sz="3200" spc="-1" strike="noStrike">
                <a:solidFill>
                  <a:srgbClr val="5f688b"/>
                </a:solidFill>
                <a:latin typeface="Franklin Gothic Book"/>
              </a:rPr>
              <a:t>A specific type of </a:t>
            </a:r>
            <a:r>
              <a:rPr b="0" i="1" lang="en-US" sz="3200" spc="-1" strike="noStrike">
                <a:solidFill>
                  <a:srgbClr val="5f688b"/>
                </a:solidFill>
                <a:latin typeface="Franklin Gothic Book"/>
              </a:rPr>
              <a:t>dehydration synthesis</a:t>
            </a:r>
            <a:endParaRPr b="0" lang="en-US" sz="32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692" name="Content Placeholder 6" descr="0031A.BMP"/>
          <p:cNvPicPr/>
          <p:nvPr/>
        </p:nvPicPr>
        <p:blipFill>
          <a:blip r:embed="rId1"/>
          <a:srcRect l="0" t="29171" r="0" b="29171"/>
          <a:stretch/>
        </p:blipFill>
        <p:spPr>
          <a:xfrm>
            <a:off x="1600200" y="4495680"/>
            <a:ext cx="6858000" cy="2143080"/>
          </a:xfrm>
          <a:prstGeom prst="rect">
            <a:avLst/>
          </a:prstGeom>
          <a:ln w="0">
            <a:noFill/>
          </a:ln>
        </p:spPr>
      </p:pic>
      <p:sp>
        <p:nvSpPr>
          <p:cNvPr id="693" name="Content Placeholder 4"/>
          <p:cNvSpPr/>
          <p:nvPr/>
        </p:nvSpPr>
        <p:spPr>
          <a:xfrm>
            <a:off x="1434960" y="1447920"/>
            <a:ext cx="74041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2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nosaccharid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joined together to form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sacchari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lycosidic bon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forme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type of chemical reaction is also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densation reac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a water molecule is produced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Disaccharides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695" name="05-05-Disaccharides.mov" descr=""/>
          <p:cNvPicPr/>
          <p:nvPr/>
        </p:nvPicPr>
        <p:blipFill>
          <a:blip r:embed="rId1"/>
          <a:stretch/>
        </p:blipFill>
        <p:spPr>
          <a:xfrm>
            <a:off x="2855880" y="2128680"/>
            <a:ext cx="465768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42167" fill="hold"/>
                                        <p:tgtEl>
                                          <p:spTgt spid="6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695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695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0" dur="1" fill="hold"/>
                                        <p:tgtEl>
                                          <p:spTgt spid="6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Glycosidic Bond Formation:</a:t>
            </a:r>
            <a:br>
              <a:rPr sz="3900"/>
            </a:br>
            <a:r>
              <a:rPr b="0" lang="en-US" sz="3200" spc="-1" strike="noStrike">
                <a:solidFill>
                  <a:srgbClr val="5f688b"/>
                </a:solidFill>
                <a:latin typeface="Franklin Gothic Book"/>
              </a:rPr>
              <a:t>A specific type of </a:t>
            </a:r>
            <a:r>
              <a:rPr b="0" i="1" lang="en-US" sz="3200" spc="-1" strike="noStrike">
                <a:solidFill>
                  <a:srgbClr val="5f688b"/>
                </a:solidFill>
                <a:latin typeface="Franklin Gothic Book"/>
              </a:rPr>
              <a:t>dehydration synthesis</a:t>
            </a:r>
            <a:endParaRPr b="0" lang="en-US" sz="32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97" name="Content Placeholder 4"/>
          <p:cNvSpPr/>
          <p:nvPr/>
        </p:nvSpPr>
        <p:spPr>
          <a:xfrm>
            <a:off x="1371600" y="1905120"/>
            <a:ext cx="74041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more than 2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nosaccharid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joined together b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lycosidic bonds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polysaccharid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form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100+ monomer units have been joined, a starch is formed.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Starch, Cellulose &amp; Glycogen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99" name="Content Placeholder 4"/>
          <p:cNvSpPr/>
          <p:nvPr/>
        </p:nvSpPr>
        <p:spPr>
          <a:xfrm>
            <a:off x="1219320" y="1600200"/>
            <a:ext cx="7556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long (100's) polymer of Glucose molecules, where all the sugars are oriented in the same direction. Starch is one of the primary sources of calories for hum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llu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long (100's) polymer of Glucose molecules. However the orientation of the sugars is a little different. In Cellulose, every other sugar molecule is "upside-down". This small difference in structure makes a big difference in the way we use this molecule. Most animals can’t digest this well.  Termit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ycog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nother Glucose polymer. Glycogen is a stored energy source, found in the Liver and muscles of Humans. Glycogen is different from both Starch and Cellulose in that the Glucose chain is branched or "forked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0" name="Picture 2" descr="http://bioweb.wku.edu/courses/BIOL115/Wyatt/Biochem/Carbos/Carb_poly.gif"/>
          <p:cNvPicPr/>
          <p:nvPr/>
        </p:nvPicPr>
        <p:blipFill>
          <a:blip r:embed="rId1"/>
          <a:stretch/>
        </p:blipFill>
        <p:spPr>
          <a:xfrm>
            <a:off x="1676520" y="304920"/>
            <a:ext cx="601956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Polysaccharides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702" name="05-07-Polysaccharides.mov" descr=""/>
          <p:cNvPicPr/>
          <p:nvPr/>
        </p:nvPicPr>
        <p:blipFill>
          <a:blip r:embed="rId1"/>
          <a:stretch/>
        </p:blipFill>
        <p:spPr>
          <a:xfrm>
            <a:off x="2855880" y="2128680"/>
            <a:ext cx="465768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9750" fill="hold"/>
                                        <p:tgtEl>
                                          <p:spTgt spid="7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702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702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1" dur="1" fill="hold"/>
                                        <p:tgtEl>
                                          <p:spTgt spid="7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688b"/>
                </a:solidFill>
                <a:latin typeface="Franklin Gothic Book"/>
              </a:rPr>
              <a:t>LIPIDS: FATS &amp; OILS</a:t>
            </a:r>
            <a:endParaRPr b="0" lang="en-US" sz="40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851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Lipid Structure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706" name="05-10-Fats.mov" descr=""/>
          <p:cNvPicPr/>
          <p:nvPr/>
        </p:nvPicPr>
        <p:blipFill>
          <a:blip r:embed="rId1"/>
          <a:stretch/>
        </p:blipFill>
        <p:spPr>
          <a:xfrm>
            <a:off x="1905120" y="1576440"/>
            <a:ext cx="601956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29417" fill="hold"/>
                                        <p:tgtEl>
                                          <p:spTgt spid="7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706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706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2" dur="1" fill="hold"/>
                                        <p:tgtEl>
                                          <p:spTgt spid="7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The “i” words: 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ion, isomer &amp; isotope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1294920" y="1599840"/>
            <a:ext cx="72392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lvl="1" marL="556200" indent="-20556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What is an isotope?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2" marL="770760" indent="-198720">
              <a:spcBef>
                <a:spcPts val="700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toms of elements that have the same atomic number (# of </a:t>
            </a:r>
            <a:r>
              <a:rPr b="0" i="1" lang="en-US" sz="2400" spc="-1" strike="noStrike">
                <a:solidFill>
                  <a:srgbClr val="000000"/>
                </a:solidFill>
                <a:latin typeface="Perpetua"/>
              </a:rPr>
              <a:t>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Perpetua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),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but a different number of neutrons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Perpetua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Perpetu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).  Think Carbon-12 vs. Carbon-13 vs. Carbon-14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2" marL="770760" indent="-19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770760" indent="-19872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82" name="Picture 2" descr="http://www.nearingzero.net/screen_res/nz337.jpg"/>
          <p:cNvPicPr/>
          <p:nvPr/>
        </p:nvPicPr>
        <p:blipFill>
          <a:blip r:embed="rId1"/>
          <a:stretch/>
        </p:blipFill>
        <p:spPr>
          <a:xfrm>
            <a:off x="4724280" y="3657600"/>
            <a:ext cx="3951360" cy="298116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4" descr="http://www.nearingzero.net/screen_res/nz169.jpg"/>
          <p:cNvPicPr/>
          <p:nvPr/>
        </p:nvPicPr>
        <p:blipFill>
          <a:blip r:embed="rId2"/>
          <a:stretch/>
        </p:blipFill>
        <p:spPr>
          <a:xfrm>
            <a:off x="1163520" y="3430440"/>
            <a:ext cx="3581640" cy="34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Fat vs. Oil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1434600" y="1447920"/>
            <a:ext cx="755676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Fats are solids at room temperature.  They are saturated [with H atoms—all single bonds]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31920" indent="-25704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Oils are liquids at room temperature. They are unsaturated and contain one or more double bonds [unsaturated vs. </a:t>
            </a:r>
            <a:r>
              <a:rPr b="0" i="1" lang="en-US" sz="2800" spc="-1" strike="noStrike">
                <a:solidFill>
                  <a:srgbClr val="000000"/>
                </a:solidFill>
                <a:latin typeface="Perpetua"/>
              </a:rPr>
              <a:t>poly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unsaturated]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709" name="Picture 2" descr="http://fig.cox.miami.edu/~cmallery/150/chemistry/c5x11saturatedfats.jpg"/>
          <p:cNvPicPr/>
          <p:nvPr/>
        </p:nvPicPr>
        <p:blipFill>
          <a:blip r:embed="rId1"/>
          <a:stretch/>
        </p:blipFill>
        <p:spPr>
          <a:xfrm>
            <a:off x="2438280" y="3683160"/>
            <a:ext cx="592452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Phospholipids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711" name="Picture 2" descr="http://telstar.ote.cmu.edu/biology/MembranePage/images/phospholipid.jpg"/>
          <p:cNvPicPr/>
          <p:nvPr/>
        </p:nvPicPr>
        <p:blipFill>
          <a:blip r:embed="rId1"/>
          <a:stretch/>
        </p:blipFill>
        <p:spPr>
          <a:xfrm>
            <a:off x="1981080" y="1600200"/>
            <a:ext cx="62866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Phospholipid Structure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713" name="Picture 4" descr="0071BLLL.BMP"/>
          <p:cNvPicPr/>
          <p:nvPr/>
        </p:nvPicPr>
        <p:blipFill>
          <a:blip r:embed="rId1"/>
          <a:stretch/>
        </p:blipFill>
        <p:spPr>
          <a:xfrm>
            <a:off x="1676520" y="1219320"/>
            <a:ext cx="67053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Steroids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1434960" y="1447920"/>
            <a:ext cx="749952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09960" indent="-24012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teroids comprise a group of compounds with four interlocking carbon rings. Examples of steroids are bile acids, cholesterol, and adrenal hormones including estrogen, testosterone &amp; progesteron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716" name="Picture 2" descr="http://www.wellesley.edu/Chemistry/Chem101/hormones/steroids.gif"/>
          <p:cNvPicPr/>
          <p:nvPr/>
        </p:nvPicPr>
        <p:blipFill>
          <a:blip r:embed="rId1"/>
          <a:stretch/>
        </p:blipFill>
        <p:spPr>
          <a:xfrm>
            <a:off x="3200400" y="3429000"/>
            <a:ext cx="481968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Steroids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1434960" y="1447560"/>
            <a:ext cx="74995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02760" indent="-2343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e anabolic steroids you hear so much about try to capture the tissue building properties of testosterone. 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02760" indent="-2343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Note that the word </a:t>
            </a:r>
            <a:r>
              <a:rPr b="0" i="1" lang="en-US" sz="3200" spc="-1" strike="noStrike">
                <a:solidFill>
                  <a:srgbClr val="000000"/>
                </a:solidFill>
                <a:latin typeface="Perpetua"/>
              </a:rPr>
              <a:t>anabolism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is associated with a synthesis of biomaterials while </a:t>
            </a:r>
            <a:r>
              <a:rPr b="0" i="1" lang="en-US" sz="3200" spc="-1" strike="noStrike">
                <a:solidFill>
                  <a:srgbClr val="000000"/>
                </a:solidFill>
                <a:latin typeface="Perpetua"/>
              </a:rPr>
              <a:t>catabolism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is a tearing down of biomaterials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02760" indent="-2343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You are more familiar with the summary term </a:t>
            </a:r>
            <a:r>
              <a:rPr b="0" i="1" lang="en-US" sz="3200" spc="-1" strike="noStrike">
                <a:solidFill>
                  <a:srgbClr val="000000"/>
                </a:solidFill>
                <a:latin typeface="Perpetua"/>
              </a:rPr>
              <a:t>metabolism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02760" indent="-2343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If you go on a diet, you want to increase your </a:t>
            </a:r>
            <a:r>
              <a:rPr b="0" i="1" lang="en-US" sz="3200" spc="-1" strike="noStrike">
                <a:solidFill>
                  <a:srgbClr val="000000"/>
                </a:solidFill>
                <a:latin typeface="Perpetua"/>
              </a:rPr>
              <a:t>catabolism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and decrease your </a:t>
            </a:r>
            <a:r>
              <a:rPr b="0" i="1" lang="en-US" sz="3200" spc="-1" strike="noStrike">
                <a:solidFill>
                  <a:srgbClr val="000000"/>
                </a:solidFill>
                <a:latin typeface="Perpetua"/>
              </a:rPr>
              <a:t>anabolism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Gene Regulatory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720" name="05T-01j-GeneRegulatoryProt.mov" descr=""/>
          <p:cNvPicPr/>
          <p:nvPr/>
        </p:nvPicPr>
        <p:blipFill>
          <a:blip r:embed="rId1"/>
          <a:stretch/>
        </p:blipFill>
        <p:spPr>
          <a:xfrm>
            <a:off x="2855880" y="2128680"/>
            <a:ext cx="465768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15334" fill="hold"/>
                                        <p:tgtEl>
                                          <p:spTgt spid="7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720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720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3" dur="1" fill="hold"/>
                                        <p:tgtEl>
                                          <p:spTgt spid="7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688b"/>
                </a:solidFill>
                <a:latin typeface="Franklin Gothic Book"/>
              </a:rPr>
              <a:t>NUCLEIC ACIDS</a:t>
            </a:r>
            <a:endParaRPr b="0" lang="en-US" sz="40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851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Structure of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 DNA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1219320" y="1295280"/>
            <a:ext cx="3657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DNA is composed of nucleotides which are composed of: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575640" indent="-21276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 deoxyribose sugar molecul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75640" indent="-21276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 phosphat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75640" indent="-21276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 nitrogen bas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2" marL="797040" indent="-20556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denin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797040" indent="-20556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Guanin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797040" indent="-20556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ytosin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797040" indent="-20556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ymin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725" name="Picture 3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800600" y="457200"/>
            <a:ext cx="43434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Structure of  DNA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1218960" y="1905120"/>
            <a:ext cx="51051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e carbons of deoxyribose or ribose are numbered. 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n forming a nucleotide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nitrogen base bonds with the #1 carbon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phosphate groups bind with the #3 and #5 carbons 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728" name="Picture 4" descr="http://dl.clackamas.edu/ch106-09/images/ribnum2.gif"/>
          <p:cNvPicPr/>
          <p:nvPr/>
        </p:nvPicPr>
        <p:blipFill>
          <a:blip r:embed="rId1"/>
          <a:stretch/>
        </p:blipFill>
        <p:spPr>
          <a:xfrm>
            <a:off x="6242040" y="2362320"/>
            <a:ext cx="29019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Picture 2" descr="http://www.mun.ca/biology/scarr/T_vs_U.gif"/>
          <p:cNvPicPr/>
          <p:nvPr/>
        </p:nvPicPr>
        <p:blipFill>
          <a:blip r:embed="rId1"/>
          <a:stretch/>
        </p:blipFill>
        <p:spPr>
          <a:xfrm>
            <a:off x="1852560" y="400068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DNA vs. RNA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1434600" y="1447920"/>
            <a:ext cx="42800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4552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DNA is doubly stranded, RNA is singly stranded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17520" indent="-24552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Deoxyribose is replaced with ribos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17520" indent="-24552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ymine is replaced with uraci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732" name="Picture 2" descr="http://www.layevangelism.com/bastxbk/images/deoxyribose.jpg"/>
          <p:cNvPicPr/>
          <p:nvPr/>
        </p:nvPicPr>
        <p:blipFill>
          <a:blip r:embed="rId2"/>
          <a:stretch/>
        </p:blipFill>
        <p:spPr>
          <a:xfrm>
            <a:off x="6172200" y="1676520"/>
            <a:ext cx="2610000" cy="43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Carbon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1434600" y="1447920"/>
            <a:ext cx="70995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4552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erpetua"/>
              </a:rPr>
              <a:t>Carbon has 6 valence electrons: 1</a:t>
            </a:r>
            <a:r>
              <a:rPr b="0" i="1" lang="en-US" sz="3000" spc="-1" strike="noStrike">
                <a:solidFill>
                  <a:srgbClr val="000000"/>
                </a:solidFill>
                <a:latin typeface="Perpetua"/>
              </a:rPr>
              <a:t>s</a:t>
            </a:r>
            <a:r>
              <a:rPr b="0" lang="en-US" sz="3000" spc="-1" strike="noStrike" baseline="30000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Perpetua"/>
              </a:rPr>
              <a:t> 2</a:t>
            </a:r>
            <a:r>
              <a:rPr b="0" i="1" lang="en-US" sz="3000" spc="-1" strike="noStrike">
                <a:solidFill>
                  <a:srgbClr val="000000"/>
                </a:solidFill>
                <a:latin typeface="Perpetua"/>
              </a:rPr>
              <a:t>s</a:t>
            </a:r>
            <a:r>
              <a:rPr b="0" lang="en-US" sz="3000" spc="-1" strike="noStrike" baseline="30000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Perpetua"/>
              </a:rPr>
              <a:t>2p</a:t>
            </a:r>
            <a:r>
              <a:rPr b="0" lang="en-US" sz="3000" spc="-1" strike="noStrike" baseline="30000">
                <a:solidFill>
                  <a:srgbClr val="000000"/>
                </a:solidFill>
                <a:latin typeface="Perpetua"/>
              </a:rPr>
              <a:t>2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Perpetua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lvl="1" marL="556200" indent="-20556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nly the 4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valence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lectrons in the second (2), principal energy level participate in chemical reactions</a:t>
            </a:r>
            <a:r>
              <a:rPr b="0" lang="en-US" sz="2600" spc="-1" strike="noStrike" baseline="30000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56200" indent="-20556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arbon hybridizes its one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and three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-sublevels to form 4 hybrid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sp</a:t>
            </a:r>
            <a:r>
              <a:rPr b="0" lang="en-US" sz="2600" spc="-1" strike="noStrike" baseline="30000">
                <a:solidFill>
                  <a:srgbClr val="000000"/>
                </a:solidFill>
                <a:latin typeface="Perpetua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sublevels.  Why?  There is an energy payoff for carbon (see the energy diagram below)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56200" indent="-20556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s a result, carbon forms 4 equivalent bonds and is very stable, hence its abundance on eart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86" name="Picture 2" descr="http://tcdsbstaff.ednet.ns.ca/devillg/ib/pics/hybrid.gif"/>
          <p:cNvPicPr/>
          <p:nvPr/>
        </p:nvPicPr>
        <p:blipFill>
          <a:blip r:embed="rId1"/>
          <a:stretch/>
        </p:blipFill>
        <p:spPr>
          <a:xfrm>
            <a:off x="3048120" y="5029200"/>
            <a:ext cx="365760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Phosphodiester Bond Formation: Another Dehydration Synthesis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734" name="Picture 2" descr="http://fig.cox.miami.edu/~cmallery/150/chemistry/sf3x14a.jpg"/>
          <p:cNvPicPr/>
          <p:nvPr/>
        </p:nvPicPr>
        <p:blipFill>
          <a:blip r:embed="rId1"/>
          <a:stretch/>
        </p:blipFill>
        <p:spPr>
          <a:xfrm>
            <a:off x="1905120" y="1752480"/>
            <a:ext cx="609588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Hydrogen Bonds Hold the Double Helix Together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736" name="Picture 2" descr="http://fig.cox.miami.edu/~cmallery/150/gene/c16x6base-pairs.jpg"/>
          <p:cNvPicPr/>
          <p:nvPr/>
        </p:nvPicPr>
        <p:blipFill>
          <a:blip r:embed="rId1"/>
          <a:stretch/>
        </p:blipFill>
        <p:spPr>
          <a:xfrm>
            <a:off x="3429000" y="1752480"/>
            <a:ext cx="2838600" cy="4048200"/>
          </a:xfrm>
          <a:prstGeom prst="rect">
            <a:avLst/>
          </a:prstGeom>
          <a:ln w="0">
            <a:noFill/>
          </a:ln>
        </p:spPr>
      </p:pic>
      <p:sp>
        <p:nvSpPr>
          <p:cNvPr id="737" name="TextBox 5"/>
          <p:cNvSpPr/>
          <p:nvPr/>
        </p:nvSpPr>
        <p:spPr>
          <a:xfrm>
            <a:off x="1600200" y="3809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5064"/>
                </a:solidFill>
                <a:latin typeface="Arial"/>
              </a:rPr>
              <a:t>Pur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Box 6"/>
          <p:cNvSpPr/>
          <p:nvPr/>
        </p:nvSpPr>
        <p:spPr>
          <a:xfrm>
            <a:off x="6934320" y="37339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73d"/>
                </a:solidFill>
                <a:latin typeface="Arial"/>
              </a:rPr>
              <a:t>Pyrimad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Straight Arrow Connector 8"/>
          <p:cNvCxnSpPr/>
          <p:nvPr/>
        </p:nvCxnSpPr>
        <p:spPr>
          <a:xfrm flipV="1">
            <a:off x="2514600" y="3504960"/>
            <a:ext cx="1296000" cy="381600"/>
          </a:xfrm>
          <a:prstGeom prst="straightConnector1">
            <a:avLst/>
          </a:prstGeom>
          <a:ln w="9360">
            <a:solidFill>
              <a:srgbClr val="d16349"/>
            </a:solidFill>
            <a:miter/>
            <a:tailEnd len="med" type="triangle" w="med"/>
          </a:ln>
        </p:spPr>
      </p:cxnSp>
      <p:cxnSp>
        <p:nvCxnSpPr>
          <p:cNvPr id="740" name="Straight Arrow Connector 10"/>
          <p:cNvCxnSpPr/>
          <p:nvPr/>
        </p:nvCxnSpPr>
        <p:spPr>
          <a:xfrm>
            <a:off x="2514600" y="4114800"/>
            <a:ext cx="1372320" cy="1448640"/>
          </a:xfrm>
          <a:prstGeom prst="straightConnector1">
            <a:avLst/>
          </a:prstGeom>
          <a:ln w="9360">
            <a:solidFill>
              <a:srgbClr val="d16349"/>
            </a:solidFill>
            <a:miter/>
            <a:tailEnd len="med" type="triangle" w="med"/>
          </a:ln>
        </p:spPr>
      </p:cxnSp>
      <p:cxnSp>
        <p:nvCxnSpPr>
          <p:cNvPr id="741" name="Straight Arrow Connector 12"/>
          <p:cNvCxnSpPr/>
          <p:nvPr/>
        </p:nvCxnSpPr>
        <p:spPr>
          <a:xfrm flipH="1" flipV="1">
            <a:off x="6171840" y="3504960"/>
            <a:ext cx="838800" cy="305280"/>
          </a:xfrm>
          <a:prstGeom prst="straightConnector1">
            <a:avLst/>
          </a:prstGeom>
          <a:ln w="9360">
            <a:solidFill>
              <a:srgbClr val="d16349"/>
            </a:solidFill>
            <a:miter/>
            <a:tailEnd len="med" type="triangle" w="med"/>
          </a:ln>
        </p:spPr>
      </p:cxnSp>
      <p:cxnSp>
        <p:nvCxnSpPr>
          <p:cNvPr id="742" name="Straight Arrow Connector 14"/>
          <p:cNvCxnSpPr/>
          <p:nvPr/>
        </p:nvCxnSpPr>
        <p:spPr>
          <a:xfrm flipH="1">
            <a:off x="6171840" y="4114800"/>
            <a:ext cx="915120" cy="1372320"/>
          </a:xfrm>
          <a:prstGeom prst="straightConnector1">
            <a:avLst/>
          </a:prstGeom>
          <a:ln w="9360">
            <a:solidFill>
              <a:srgbClr val="d1634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DNA is Antiparallel and ALWAYS </a:t>
            </a:r>
            <a:r>
              <a:rPr b="0" i="1" lang="en-US" sz="3900" spc="-1" strike="noStrike">
                <a:solidFill>
                  <a:srgbClr val="5f688b"/>
                </a:solidFill>
                <a:latin typeface="Franklin Gothic Book"/>
              </a:rPr>
              <a:t>synthesized</a:t>
            </a: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 in the 5′ to 3′ Direction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744" name="Picture 2" descr="DNa"/>
          <p:cNvPicPr/>
          <p:nvPr/>
        </p:nvPicPr>
        <p:blipFill>
          <a:blip r:embed="rId1"/>
          <a:stretch/>
        </p:blipFill>
        <p:spPr>
          <a:xfrm>
            <a:off x="3429000" y="1523880"/>
            <a:ext cx="434340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DNA Structure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746" name="16-05-DNAstructNarrAnim_S.mov" descr=""/>
          <p:cNvPicPr/>
          <p:nvPr/>
        </p:nvPicPr>
        <p:blipFill>
          <a:blip r:embed="rId1"/>
          <a:stretch/>
        </p:blipFill>
        <p:spPr>
          <a:xfrm>
            <a:off x="3660840" y="270504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9" dur="53667" fill="hold"/>
                                        <p:tgtEl>
                                          <p:spTgt spid="7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746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746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4" dur="1" fill="hold"/>
                                        <p:tgtEl>
                                          <p:spTgt spid="7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Carbon &amp; Functional Groups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6019920" y="1523520"/>
            <a:ext cx="25272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13920" indent="-243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Perpetua"/>
              </a:rPr>
              <a:t>Carbon combines readily with other abundant atoms on earth to form very stable functional groups. </a:t>
            </a:r>
            <a:endParaRPr b="0" lang="en-US" sz="25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89" name="Picture 5" descr="0027.BMP"/>
          <p:cNvPicPr/>
          <p:nvPr/>
        </p:nvPicPr>
        <p:blipFill>
          <a:blip r:embed="rId1"/>
          <a:srcRect l="31882" t="7501" r="9989" b="0"/>
          <a:stretch/>
        </p:blipFill>
        <p:spPr>
          <a:xfrm>
            <a:off x="1066680" y="1219320"/>
            <a:ext cx="4876920" cy="58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The Hydrogen Bond </a:t>
            </a:r>
            <a:br>
              <a:rPr sz="3900"/>
            </a:br>
            <a:r>
              <a:rPr b="0" lang="en-US" sz="3200" spc="-1" strike="noStrike">
                <a:solidFill>
                  <a:srgbClr val="5f688b"/>
                </a:solidFill>
                <a:latin typeface="Franklin Gothic Book"/>
              </a:rPr>
              <a:t>(which, by the way, is not actually a bond)</a:t>
            </a:r>
            <a:endParaRPr b="0" lang="en-US" sz="32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1434600" y="1447560"/>
            <a:ext cx="7099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Water makes life on this planet possible.  Therefore, biology is “all wet”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o, there are two VERY important aspects of water that you need to NEVER, EVER forget!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Water is polar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Water forms “hydrogen bonds”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7:29:05Z</dcterms:created>
  <dc:creator> René McCormick</dc:creator>
  <dc:description/>
  <dc:language>en-US</dc:language>
  <cp:lastModifiedBy>Rene McCormick</cp:lastModifiedBy>
  <dcterms:modified xsi:type="dcterms:W3CDTF">2008-10-30T16:00:32Z</dcterms:modified>
  <cp:revision>56</cp:revision>
  <dc:subject/>
  <dc:title>Slide 1</dc:title>
</cp:coreProperties>
</file>