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44.png" ContentType="image/png"/>
  <Override PartName="/ppt/media/image46.png" ContentType="image/png"/>
  <Override PartName="/ppt/media/image45.png" ContentType="image/png"/>
  <Override PartName="/ppt/media/image51.jpeg" ContentType="image/jpeg"/>
  <Override PartName="/ppt/media/image31.png" ContentType="image/png"/>
  <Override PartName="/ppt/media/image52.jpeg" ContentType="image/jpeg"/>
  <Override PartName="/ppt/media/image53.jpeg" ContentType="image/jpeg"/>
  <Override PartName="/ppt/media/image54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AAE2-7701-4AD2-B5F2-125929FB9E2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B3A-18DE-4DBB-B0EA-5AD90F73A1E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3A86-8752-4E9A-BA24-9A31F00D6C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B296-E0F2-4C9E-9AC5-59804C64F9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44F2-8B0B-490B-84A2-03D19BA984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965-B199-4A44-BE37-92E07A3C6B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484-E00B-4D21-8B34-C2447B3D94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EC8E-BBBB-4420-B09E-2AB0767B4C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6FC-B8DA-4765-B065-1F8B7C731B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832-9A08-4F60-9959-6C49E44667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5F7-9D8A-40D0-BDC1-35A98F4713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13C-8A4F-4FAE-A239-9EE669AF40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8A64-DB8B-4169-A9C0-DC036BC3F8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6570-1104-450D-B731-2CA53904D2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2CB-32CF-45A8-B350-74DAE4AE81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6ECF-4CA0-47E4-8ECE-F2CA50F049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6648-436A-4117-BF89-522E3C61E30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2CF4-C20D-480C-8D4E-71D9CD123D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935-C71B-491B-82BD-2515111324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50B-5E61-4C79-B93C-04CAC38DAA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2829-C0B3-4346-BF3C-061695BD80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4462-0B90-444B-B1BD-63B3A66F99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D0E-8626-4120-A6C6-DCCBA68663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433-4818-42F8-AEE7-EA79472979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5D5-FB33-4DFF-89DC-9604D747574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49FB-E706-4D3C-8EBF-BE38B08B4B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9449-FD05-4AF3-BC78-0027866D674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78A-04F2-49D9-A909-2AE21DF249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F8E-1110-4AEB-9487-986C2FFF683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EDD-21A2-45C7-ACB7-DFDDB2E0BF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4EE8-0668-46D1-9AC5-9CFCFD6B49A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07E-A621-49F2-A127-C8E918A810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85AF-C91E-41A3-AE4B-5EC99201D4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4B3D-694F-47CD-8E60-97F772DCC7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25A-B7AC-44F3-B8A4-CCEA8FA29C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06C-65DD-4A44-A5DA-94BA90FB49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BDB3-7351-4E1E-98D8-E872E8AB97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45BB-18DA-42B7-80A1-2BCCC50AA1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27E-EEAC-4520-BD9E-5E1493BBD0C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7792-6F3B-402A-BB27-E70090D474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32FD-C9F6-429C-8CE1-F10A33CFD3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3820-7D69-4E47-8CA6-072A84CD42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43F-E29A-46DD-AEDC-16D7F3E4A81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F9E5-CEB7-4DE6-88D3-D05A103285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17D-B672-4563-825C-A769DF46369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B20-D9B4-42E2-BD75-F647F24C48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90D-B522-4830-B172-F33B26FE86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683C-91C2-4486-B9CD-51BD55E0CE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6413-E10F-4FD3-ABC6-4AD86911DD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F19-6CAA-4064-AA91-6AC9C45CB3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7330-F71C-42F6-B701-93EFD5CBA3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BD3-5377-42D0-87FB-D936C4E5ED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D8A2-E334-46BA-9212-756F8F4843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E82-5E20-49C8-BA6A-631510E74C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48B-9BCF-4388-85ED-49C3072365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4949-4FB6-4AAA-82D6-173EC26C997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8FDB-56FC-43FC-A197-AF542F740B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1021-FD3C-4428-BCA7-4AB2A0B96A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3B33-4DD5-4D25-93C8-F72C08432B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0F5D-E95F-4EC3-A71F-722C9878ED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8494-59A1-4F21-A09E-8A2878B71F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D86F-6351-4BFF-9C38-B25CFEC915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1A10-F100-4CE3-8EEA-4EDEA478AE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C98-32D5-4A33-A099-420BB5AAC7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9FC-0D5B-4462-A71B-8AFBBA6F05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8961-3139-4A80-B5CB-4DF8FC78E94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6BE0-694E-43D0-BAB7-F9BAF579465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D313-01E7-423A-9108-69BCBD4C5D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13E-B1FA-41D3-B725-A151237B73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A25B-E97B-4D5F-9CBB-D1D6DB11EC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56C9-D471-4F17-922F-F09EB5CD7F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B278-8B91-4060-B69F-93C8DABCFD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827-9D1D-411E-8F4F-40913B307C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4B91-1079-4FBA-8A16-BE96CB8D7F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EAF-3E1B-4D73-86AF-D74838A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5B2-7096-414C-8C45-1FA01FB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06736-5ECE-49CE-9B2F-E2F37194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894A-A575-45C0-8B83-1E852858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014F5-8372-437A-92B1-A40EE47E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810F-A59D-4C71-9AB2-907B4ED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741B0-EE8B-4C80-8DED-C865363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A3D87-97BC-4C26-8751-E0442CE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79EE3-B2E9-4167-9C29-68E6846C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D51F5-C5AF-4B14-BA4D-33375CBE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A4F5C-2B01-4C6C-8AC7-D14ED343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B54BF-84E3-4896-AB91-B0BEAD3F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9B7-DD26-4CFC-92A3-C5CAD331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3DCBA-4509-4E82-A25C-BA01E84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C1012-BA42-47C9-B351-57EF2E2D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4D48E-7603-4470-807B-A2A8A455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E2546-D839-4757-9068-7E6EA9B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5E8FE-AA41-44AA-9845-A1F2B9AA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537A2-5A3F-4921-967F-BC09EE9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1A29D-76C4-4CAE-9F50-758370AF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F9BA7-70B1-4040-966F-666A1A8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184DE-564B-442E-8346-AA40E87E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D9848-B1AA-49D9-BD52-755F5E87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544-7785-490F-B184-F229FC3C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D15C2-8E98-47DB-AD04-6C9D0662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598EE-5FF8-4EA1-A32D-7CC48560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2E3E3-FABE-4238-8ADB-ACD3AF62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5ECC-6700-4CC3-863C-B676137A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8107E-FA2E-42A5-AE60-8A5304E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7CD7E-AFEB-4EC3-9A41-A8A9E6ED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DF3FA-4E7A-45E7-8DBD-34EA5B9F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DB87B-8C33-4D32-A2EA-215A2CD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73535-0CCC-4E22-801A-724D04E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81A88-6B70-4D4E-9683-3C6394C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E893-815F-477D-8858-F4478B0E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DD2BA-1E8F-4F68-B9A1-3928061C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605FB-186F-4B2E-8A24-3F6D9DD2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99D21-836B-42A5-826F-8BCE2A7A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5370F-C310-4207-B910-BB690DDD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1C1F0-B6E2-4CA3-B85E-BF84AFC8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4EB0-528C-4DFF-B993-6326625F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5EF63-F635-4D7D-9866-F588944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EFC73-049D-4852-AD67-B7A9B4F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0A5B3-E08F-4838-AE7E-1CA6552C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CA8A6-291A-4374-91EB-595AFDA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2F0E-9856-4FEF-97B1-30A8572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E1A69-2501-47F0-8556-48CB3DA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3D5D3-A169-46FF-B11D-9B4CD9F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226B1-0304-4D26-8A4E-8DF067D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2AC41-18D7-49C6-8A8A-0F0F07D2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E70AD-CEA1-4341-B17A-069C1402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1669-40A0-4305-84A3-49DE424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58B1-75C3-486F-9666-02FA4225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6E68-3D41-4633-A49D-61E2A012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1A31-CF22-4DD1-92D3-0B7CCFDF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923A-F6D2-413C-87CD-91797EF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856-2A10-4E49-9DA7-DD5F0478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AD64-B748-4D40-87B7-C7C9F53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94A3-D1D6-4C0E-B111-A9F6A67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2434-FB85-4FFE-8778-F31C03A1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23CA-19E0-4DC5-BF3E-F917AE68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6634-FC06-48D9-BFC9-FB291D1B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B1F9-D256-425D-94E4-1AC5B2A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A064-1591-4564-BC10-E1BEB67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98F7-3C1B-4DC8-8D67-C3AB5E6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EE6F-781B-4541-8728-2A2EF3E6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3C0F-F8BB-4897-A14C-772F792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D07-B17B-46FD-B28C-2DBD2AB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BEF3-0090-47C4-9A90-5FA3B5D5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1EAC-603D-40A4-B13C-0247DC8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73E5-6762-43F6-A2E7-6ECFD8B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3934-A490-4072-8367-0D4E5850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B109-224F-4464-A1FB-7C2B02D0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EBA4-95C5-4680-8B84-D79CAF65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881B-A85B-4663-9FA8-C159DA42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7290-A05E-45C7-A5D4-21B550C3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AFAF-9857-451B-8E8F-0DBC7E01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3D36-9C81-40C4-A4E3-952ADC21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4AD-ABA3-43CE-AABE-E95CDDFF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527C-E0F1-4E0C-A708-E7A0EA1E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B11B-41D4-4FD7-B886-589F3CC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C2740-1D48-43C4-8DBE-0FC50D8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51C9-0A1B-40A6-A161-27063CD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8E92-0D06-4908-995F-ADBC32B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024E-DD57-4DED-8E80-C8E604B3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E57B-4173-4286-8A3C-E2677AEF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F574-765E-41F2-BAD2-2D1E73B2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30CD-11F4-4801-B789-EBC7950B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E9351-A1BB-4021-9B24-32CBF9ED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D7D-627A-46D1-81DA-B471D44F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DC75-2EF3-4A3B-B9E0-1EB34E10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C6D2-42CF-4BEC-B474-A79DED7F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B84F-5B80-4ECD-BF19-453D7B6F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96327-223E-4B12-ABAB-D9969457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52A3-185D-47EF-836D-5B408AF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CA25-2435-4F13-8F88-69929AC1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AC5E-5DA5-4133-A1FF-9EBC063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6718-87DB-4AB0-94EB-23D3A36F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E313-0964-4909-B6CE-0CA739F4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F172-5B09-48C4-AA13-59617D51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CD2-5156-4606-A3BB-749A940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1E1C-192C-48CC-88D4-765AFC0C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E79D-C6A2-4E26-B9AD-0631D71C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D35E-107B-43CF-91C1-8B9E85A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C7FA-AA70-4DC8-97E4-0539BB6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9F5E-121B-483D-ABCC-45246B6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689DD-CCC5-47C6-B366-CC89DAD2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CAA7-B2AD-48BB-A361-7D148E9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A563-E7F9-4632-9A44-76037BC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7E53-5164-49CF-A380-D32AFCF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3180-58A9-4353-BEB8-2378068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283-EBC6-431D-BCB2-85C45AD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97C7E-4424-4B8E-983D-FE2D3970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90F67-9CBC-4271-AF1E-60361AC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43A0-43E4-4B9C-8117-E3601570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ADA7-EE6E-4250-88BE-3EA5991B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73A4-5043-4D31-A54D-D2B1E706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BB2C-4AD6-4E31-8140-56F18D46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B2A3-38AA-4AD6-953D-9B470E1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10DD-6FAB-4EF4-A9B2-7154063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6E24-1F4A-4B82-8C6D-8AE7FDF4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EF76-97BA-4FD1-A0D4-CA147955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74C-7105-432A-93F4-5B2499AD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ABED2-67FC-498F-BA09-EFCD4F1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5434-2A33-4A60-8FB4-42748F1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A0B19-82CB-400E-9832-0823A85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352B-102E-4C77-A952-52C2736D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964F-7BF9-451D-A729-4EA501BD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2BF1-5D81-4407-ACAF-43C63FAB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35163-75C4-4F1D-8A65-553F84D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5C0B-0D79-4019-AAA8-349BBDC9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74189-16EB-49FB-A530-676B198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94091-B62F-4561-85C6-2590B0C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CF5-BC80-4A37-9EE0-DEDC112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F7E79-27F6-4A63-985B-513AF2C7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D941D-6500-4917-9352-0E70A73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5EE5-4FD1-402D-923B-B7B793DD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536EC-8D1E-4CA2-BCBB-3C13901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514F8-D75D-4060-BBBC-DCD167B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3441-DE69-44EE-9AEC-201D1791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62F52-B716-4775-B79C-F280AF0D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54549-FE1F-413A-87EF-26DF9EDC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882A8-67C9-4B9F-A189-3078297B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C26D5-6C66-47F9-A17F-9D99C82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624-F20C-4081-83D4-2F6008210ACD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C7D-DA4D-481A-B485-0D6B3BFF65A0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537A-90E0-403D-8984-6191EEF9C4AF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E043-7D37-4D8A-8D11-1DFAA258157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7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09680" y="6095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0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A47-F2E1-42B7-9ADD-0DA84B426496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7192-CB3E-4269-82A4-16FAE0EBFB0C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315-DBD6-42F8-9908-8A356DC00380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529-4731-4A71-8EE8-6A797BEA8B77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9F1F-1A9C-4A67-B146-B0C473018B6F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545-3484-4CE5-87C1-371D6898170B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40A3-1670-4F25-B4D0-E7D58F419889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CD32-770F-40E8-BA5A-5B7E4E6744A8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ionalmathandscience.org/index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anine" TargetMode="External"/><Relationship Id="rId2" Type="http://schemas.openxmlformats.org/officeDocument/2006/relationships/hyperlink" Target="http://en.wikipedia.org/wiki/Arginine" TargetMode="External"/><Relationship Id="rId3" Type="http://schemas.openxmlformats.org/officeDocument/2006/relationships/hyperlink" Target="http://en.wikipedia.org/wiki/Asparagine" TargetMode="External"/><Relationship Id="rId4" Type="http://schemas.openxmlformats.org/officeDocument/2006/relationships/hyperlink" Target="http://en.wikipedia.org/wiki/Aspartate" TargetMode="External"/><Relationship Id="rId5" Type="http://schemas.openxmlformats.org/officeDocument/2006/relationships/hyperlink" Target="http://en.wikipedia.org/wiki/Cysteine" TargetMode="External"/><Relationship Id="rId6" Type="http://schemas.openxmlformats.org/officeDocument/2006/relationships/hyperlink" Target="http://en.wikipedia.org/wiki/Glutamate" TargetMode="External"/><Relationship Id="rId7" Type="http://schemas.openxmlformats.org/officeDocument/2006/relationships/hyperlink" Target="http://en.wikipedia.org/wiki/Glutamine" TargetMode="External"/><Relationship Id="rId8" Type="http://schemas.openxmlformats.org/officeDocument/2006/relationships/hyperlink" Target="http://en.wikipedia.org/wiki/Glycine" TargetMode="External"/><Relationship Id="rId9" Type="http://schemas.openxmlformats.org/officeDocument/2006/relationships/hyperlink" Target="http://en.wikipedia.org/wiki/Histidine" TargetMode="External"/><Relationship Id="rId10" Type="http://schemas.openxmlformats.org/officeDocument/2006/relationships/hyperlink" Target="http://en.wikipedia.org/wiki/Isoleucine" TargetMode="External"/><Relationship Id="rId11" Type="http://schemas.openxmlformats.org/officeDocument/2006/relationships/hyperlink" Target="http://en.wikipedia.org/wiki/Leucine" TargetMode="External"/><Relationship Id="rId12" Type="http://schemas.openxmlformats.org/officeDocument/2006/relationships/hyperlink" Target="http://en.wikipedia.org/wiki/Lysine" TargetMode="External"/><Relationship Id="rId13" Type="http://schemas.openxmlformats.org/officeDocument/2006/relationships/hyperlink" Target="http://en.wikipedia.org/wiki/Methionine" TargetMode="External"/><Relationship Id="rId14" Type="http://schemas.openxmlformats.org/officeDocument/2006/relationships/hyperlink" Target="http://en.wikipedia.org/wiki/Phenylalanine" TargetMode="External"/><Relationship Id="rId15" Type="http://schemas.openxmlformats.org/officeDocument/2006/relationships/hyperlink" Target="http://en.wikipedia.org/wiki/Proline" TargetMode="External"/><Relationship Id="rId16" Type="http://schemas.openxmlformats.org/officeDocument/2006/relationships/hyperlink" Target="http://en.wikipedia.org/wiki/Serine" TargetMode="External"/><Relationship Id="rId17" Type="http://schemas.openxmlformats.org/officeDocument/2006/relationships/hyperlink" Target="http://en.wikipedia.org/wiki/Threonine" TargetMode="External"/><Relationship Id="rId18" Type="http://schemas.openxmlformats.org/officeDocument/2006/relationships/hyperlink" Target="http://en.wikipedia.org/wiki/Tryptophan" TargetMode="External"/><Relationship Id="rId19" Type="http://schemas.openxmlformats.org/officeDocument/2006/relationships/hyperlink" Target="http://en.wikipedia.org/wiki/Tyrosine" TargetMode="External"/><Relationship Id="rId20" Type="http://schemas.openxmlformats.org/officeDocument/2006/relationships/hyperlink" Target="http://en.wikipedia.org/wiki/Valine" TargetMode="External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P</a:t>
            </a:r>
            <a:r>
              <a:rPr b="0" lang="en-US" sz="3900" spc="-1" strike="noStrike" baseline="30000">
                <a:solidFill>
                  <a:srgbClr val="5f688b"/>
                </a:solidFill>
                <a:latin typeface="Franklin Gothic Book"/>
              </a:rPr>
              <a:t>®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Biology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iochemistry Prep Sess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Proteins, Carbohydrates, Lipids &amp; Nucleic Acids. 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Oh, my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7" name="Picture 5" descr="National Math and Science Initiat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5440"/>
            <a:ext cx="404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intermolecular force (IMF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electrostatic attraction (ever heard of Coulomb’s Law?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the attractive force between a hydrogen atom on one molecule and a highly electronegative atom (F,O or N) on an adjacent molecul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T, there’s a catch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ttp://upload.wikimedia.org/wikipedia/commons/thumb/b/b5/Hydrogen-bonding-in-water-2D.png/800px-Hydrogen-bonding-in-water-2D.png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362320" y="5486400"/>
            <a:ext cx="3809880" cy="916920"/>
          </a:xfrm>
          <a:prstGeom prst="rect">
            <a:avLst/>
          </a:prstGeom>
          <a:solidFill>
            <a:srgbClr val="edc1b6"/>
          </a:solidFill>
          <a:ln w="9360">
            <a:solidFill>
              <a:srgbClr val="fff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ydrogen b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really an IMF or electrostatic at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8"/>
          <p:cNvCxnSpPr>
            <a:stCxn id="596" idx="0"/>
          </p:cNvCxnSpPr>
          <p:nvPr/>
        </p:nvCxnSpPr>
        <p:spPr>
          <a:xfrm flipV="1">
            <a:off x="4266000" y="4344120"/>
            <a:ext cx="2520" cy="11422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8" name="TextBox 14"/>
          <p:cNvSpPr/>
          <p:nvPr/>
        </p:nvSpPr>
        <p:spPr>
          <a:xfrm>
            <a:off x="3352680" y="1924200"/>
            <a:ext cx="3124440" cy="642600"/>
          </a:xfrm>
          <a:prstGeom prst="rect">
            <a:avLst/>
          </a:prstGeom>
          <a:solidFill>
            <a:srgbClr val="ff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valently bonded hydrogen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6"/>
          <p:cNvCxnSpPr/>
          <p:nvPr/>
        </p:nvCxnSpPr>
        <p:spPr>
          <a:xfrm flipH="1">
            <a:off x="2513880" y="2284920"/>
            <a:ext cx="152460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0" name="Straight Arrow Connector 18"/>
          <p:cNvCxnSpPr/>
          <p:nvPr/>
        </p:nvCxnSpPr>
        <p:spPr>
          <a:xfrm>
            <a:off x="5715000" y="2286000"/>
            <a:ext cx="381600" cy="13723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1" name="Straight Arrow Connector 20"/>
          <p:cNvCxnSpPr/>
          <p:nvPr/>
        </p:nvCxnSpPr>
        <p:spPr>
          <a:xfrm>
            <a:off x="5715000" y="2285640"/>
            <a:ext cx="144864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2" name="Straight Arrow Connector 9"/>
          <p:cNvCxnSpPr/>
          <p:nvPr/>
        </p:nvCxnSpPr>
        <p:spPr>
          <a:xfrm flipH="1">
            <a:off x="2513880" y="2286000"/>
            <a:ext cx="1524600" cy="22867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 atom must also be bound to a highly electronegative atom (and carbon doesn’t count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’s the big deal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drogen bonds are 10× stronger than other IMFs and about a 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s strong as a covalent bon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ost all of water’s unique properties are attributed to its ability to form such electrostatic attractions or “hydrogen bonds”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hat unique properties?  High FP, high MP, high heat of vaporization, high specific heat, etc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else does a “hydrogen bond”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do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general, it makes molecules stick together through electrostatic attrac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holds the DNA base pairs together and accounts for why A pairs with T (or U) and G pairs with 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causes electrostatic interactions that form various shapes in all sorts of biomolecules: the active sites of enzymes, the allosteric sites of enzymes, the alpha helix, the beta pleated sheet, etc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EX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BIO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&amp; Nucleic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371600" y="1981080"/>
          <a:ext cx="7499520" cy="3870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o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talysis &amp;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air; s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IC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codes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eded for gen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NA, tRNA, 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Macromolecules: 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71600" y="1981080"/>
          <a:ext cx="7499520" cy="4221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 &amp; 3 fatty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utter; corn oil; s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, 2 fatty acids, phosphate and polar 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c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-C rings with 2 nonpolar 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emical me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 E (P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 fused C 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mbranes;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olesterol; es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rp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ng C ch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igments; 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otene; rub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Carbohydrate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371600" y="1981080"/>
          <a:ext cx="7499520" cy="211788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738440"/>
                <a:gridCol w="187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arch, glyc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ta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u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w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per; strings of cel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difie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rab 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2700" spc="-1" strike="noStrike">
                <a:solidFill>
                  <a:srgbClr val="000000"/>
                </a:solidFill>
                <a:latin typeface="Perpetua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a covalent bond between two subunit molecule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How?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n –OH group is removed from one subunit &amp; a H atom is removed from the other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is condensation (yes, think “water”) reaction is called a dehydration synthesis since a molecule of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O is removed with each covalent bond form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ENERGY IS REQUIR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Molecules are brought into position and bonds stressed (catalysis) which is carried out by enzyme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18" name="Content Placeholder 3" descr="0028D1.BMP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FIRS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 covalent bond between two subunit molecules.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lysi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Greek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 “water” +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lys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“break or split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ow?  Simple, reverse the synthesis process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molecu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 is “added” across a covalent bond such that a H atom binds to one subunit and an –OH group binds to the other subuni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NERGY IS RELEAS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process is also carried out by enzym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23" name="Picture 3" descr="0028D2.BMP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Dehydration Synthesis &amp; Hydrolysis Reaction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25" name="05-02-Macromolecules.mov" descr=""/>
          <p:cNvPicPr/>
          <p:nvPr/>
        </p:nvPicPr>
        <p:blipFill>
          <a:blip r:embed="rId1"/>
          <a:stretch/>
        </p:blipFill>
        <p:spPr>
          <a:xfrm>
            <a:off x="1523880" y="1146240"/>
            <a:ext cx="7010640" cy="5175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1219320" y="617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nimation should start automatically if you are in Slide Show view.  If not, see “Troubleshooting” at the end of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7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PROTEIN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are composed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92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basic structure of an amino acid is shown on the next sli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re’s a central carb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hydrogen at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amine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carboxylic acid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“R” group that determines the differences between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86360" y="1066320"/>
            <a:ext cx="302904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f688b"/>
                </a:solidFill>
                <a:latin typeface="Franklin Gothic Book"/>
              </a:rPr>
              <a:t>Generic Structure of an 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Amino Acid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f688b"/>
                </a:solidFill>
                <a:latin typeface="Franklin Gothic Book"/>
              </a:rPr>
              <a:t>There are 20 naturally occurring amino acids</a:t>
            </a:r>
            <a:endParaRPr b="0" lang="en-US" sz="24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4572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Perpetua"/>
              </a:rPr>
              <a:t>Primary protein structure is simply the amino acid seque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Perpetua"/>
              </a:rPr>
              <a:t>Example:  gly-leu-ala-cys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3" name="Picture 2" descr="http://img.sparknotes.com/figures/F/f88cd44dc6a50ffa6b94cdb9d213894e/aminoacid.gif"/>
          <p:cNvPicPr/>
          <p:nvPr/>
        </p:nvPicPr>
        <p:blipFill>
          <a:blip r:embed="rId1"/>
          <a:stretch/>
        </p:blipFill>
        <p:spPr>
          <a:xfrm>
            <a:off x="963720" y="1352520"/>
            <a:ext cx="4190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295280" y="380880"/>
          <a:ext cx="7315200" cy="607068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922400"/>
              </a:tblGrid>
              <a:tr h="938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me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Resid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-lette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lativ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undanc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%) E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arged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lar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ydrophobic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utr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"/>
                        </a:rPr>
                        <a:t>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"/>
                        </a:rPr>
                        <a:t>Argi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3"/>
                        </a:rPr>
                        <a:t>Aspar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4"/>
                        </a:rPr>
                        <a:t>Aspar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5"/>
                        </a:rPr>
                        <a:t>Cyste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6"/>
                        </a:rPr>
                        <a:t>Gluta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7"/>
                        </a:rPr>
                        <a:t>Gluta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8"/>
                        </a:rPr>
                        <a:t>Gly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9"/>
                        </a:rPr>
                        <a:t>Histi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,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0"/>
                        </a:rPr>
                        <a:t>Iso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1"/>
                        </a:rPr>
                        <a:t>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2"/>
                        </a:rPr>
                        <a:t>Ly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3"/>
                        </a:rPr>
                        <a:t>Methi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4"/>
                        </a:rPr>
                        <a:t>Phenyl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5"/>
                        </a:rPr>
                        <a:t>Pr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6"/>
                        </a:rPr>
                        <a:t>Se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7"/>
                        </a:rPr>
                        <a:t>Thre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8"/>
                        </a:rPr>
                        <a:t>Tryptop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9"/>
                        </a:rPr>
                        <a:t>Tyro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0"/>
                        </a:rPr>
                        <a:t>V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eptide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mine group of one amino acid is joined to the carboxylic acid group of another amino acid to form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eptide bon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 This type of chemical reaction is often called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nce a water molecule is also produced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7" name="Picture 7" descr="http://homepages.ius.edu/GKIRCHNE/peptide.jpg"/>
          <p:cNvPicPr/>
          <p:nvPr/>
        </p:nvPicPr>
        <p:blipFill>
          <a:blip r:embed="rId1"/>
          <a:stretch/>
        </p:blipFill>
        <p:spPr>
          <a:xfrm>
            <a:off x="3505320" y="4191120"/>
            <a:ext cx="32763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rotein Structure: The Detail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4 levels of protein structur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mary (1°)—sequence of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ary (2°)—formation of motif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ertiary (3°)—folding into a conform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ternary (4°)—a combing of subun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all we examine each level more closel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im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equence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1" name="05-24a-PrimaryStructure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8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Elements Essential to Lif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. HOPKINS Ca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arbon, hydrogen, oxygen, phosphorous, potassium, iodine, nitrogen, sulfur, calcium and iron [add Mg for plants]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ose elements make up 95% of the biomass on earth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25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ary structure involves the formation of motifs.  The two most common are the alpha helix and beta pleated 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form as a result of hydrogen bon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44" name="Picture 4" descr="0040D2.BMP"/>
          <p:cNvPicPr/>
          <p:nvPr/>
        </p:nvPicPr>
        <p:blipFill>
          <a:blip r:embed="rId1"/>
          <a:srcRect l="8966" t="28309" r="0" b="22633"/>
          <a:stretch/>
        </p:blipFill>
        <p:spPr>
          <a:xfrm>
            <a:off x="1905120" y="4343400"/>
            <a:ext cx="4902120" cy="1981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0040D1.BMP"/>
          <p:cNvPicPr/>
          <p:nvPr/>
        </p:nvPicPr>
        <p:blipFill>
          <a:blip r:embed="rId2"/>
          <a:srcRect l="10618" t="25793" r="7805" b="25811"/>
          <a:stretch/>
        </p:blipFill>
        <p:spPr>
          <a:xfrm>
            <a:off x="1951200" y="3200400"/>
            <a:ext cx="467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7" name="Picture 5" descr="http://www.columbia.edu/cu/biology/courses/c2005/images/3levelpro.4.p.jpg"/>
          <p:cNvPicPr/>
          <p:nvPr/>
        </p:nvPicPr>
        <p:blipFill>
          <a:blip r:embed="rId1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lpha helix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9" name="Picture 2" descr="http://wiz2.pharm.wayne.edu/biochem/nsphelix1.jpg"/>
          <p:cNvPicPr/>
          <p:nvPr/>
        </p:nvPicPr>
        <p:blipFill>
          <a:blip r:embed="rId1"/>
          <a:stretch/>
        </p:blipFill>
        <p:spPr>
          <a:xfrm>
            <a:off x="2057400" y="2362320"/>
            <a:ext cx="5378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eta-pleated shee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1" name="Picture 2" descr="http://tainano.com/Molecular%20Biology%20Glossary.files/image025.gif"/>
          <p:cNvPicPr/>
          <p:nvPr/>
        </p:nvPicPr>
        <p:blipFill>
          <a:blip r:embed="rId1"/>
          <a:stretch/>
        </p:blipFill>
        <p:spPr>
          <a:xfrm>
            <a:off x="2189160" y="1828800"/>
            <a:ext cx="5573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olypeptide chain is not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til it has formed its motifs AND further folded upon itself to form its complete 3-D conformation (shape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roteins shape is crucial to its function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is accomplished by even more hydrogen bonding, some hydrophobic &amp; hydrophilic interactions, some polar interactions and the occasional formation of a disulfide bri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5" name="Picture 2" descr="http://kvhs.nbed.nb.ca/gallant/biology/tertiary_structure.jpg"/>
          <p:cNvPicPr/>
          <p:nvPr/>
        </p:nvPicPr>
        <p:blipFill>
          <a:blip r:embed="rId1"/>
          <a:stretch/>
        </p:blipFill>
        <p:spPr>
          <a:xfrm>
            <a:off x="3124080" y="1219320"/>
            <a:ext cx="3032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ernary structure involves the arrangement of multiple folded protein molecules in a multi-subunit comp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moglobin is the usual example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58" name="Picture 7" descr="http://www.nlm.nih.gov/medlineplus/ency/images/ency/fullsize/19510.jpg"/>
          <p:cNvPicPr/>
          <p:nvPr/>
        </p:nvPicPr>
        <p:blipFill>
          <a:blip r:embed="rId1"/>
          <a:stretch/>
        </p:blipFill>
        <p:spPr>
          <a:xfrm>
            <a:off x="2408400" y="278280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isfolded proteins are responsible for prion-related illnesses such as Creutzfeldt-Jakob disease, bovine spongiform encephalopathy (mad cow disease), amyloid-related illnesses such as Alzheimer's Disease, and a number of other forms of proteopathy such as cystic fibros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’s a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r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? short for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teinaceou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fectious partic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’s an infectious agent [made of protein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known prion diseases affect the structure of the brain or other neural tissue, and all are currently untreatable and fat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with a 3-D shape that fits snugly around the chemicals they work 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provide a surface for chemical reactions and stress particular chemical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lower the activation energy of chemical reactions and thus, speed them 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4" name="05T-01g-Enzym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250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71600" y="1752120"/>
            <a:ext cx="2984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What is an ion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 atom that has lost electrons to form a (+) cation OR an atom that has gained electrons to form a (−) an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2" descr="http://www.nearingzero.net/screen_res/nz069.jpg"/>
          <p:cNvPicPr/>
          <p:nvPr/>
        </p:nvPicPr>
        <p:blipFill>
          <a:blip r:embed="rId1"/>
          <a:stretch/>
        </p:blipFill>
        <p:spPr>
          <a:xfrm>
            <a:off x="4648320" y="1828800"/>
            <a:ext cx="4216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use their 3-D shape to recognize foreign microbes and cancer cel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serve as cell surface receptors and form the core of the body’s hormone and immune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8" name="05T-01f-Defensiv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1750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transport specific small molecules and 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emoglobin transports oxyge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yoglobin transports oxygen in musc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errin transports iro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2" name="05T-01c-Transport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75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920"/>
            <a:ext cx="7499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brous or threadlike proteins that can form a matrix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ratin in h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brin in blood clo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forms the matrix of the skin, ligaments, tendons and bones (it’s not just for lip injections!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is the most abundant protein in a vertebrate bo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5" name="Picture 2" descr="http://fig.cox.miami.edu/~cmallery/150/physiol/40x2collagen.gif"/>
          <p:cNvPicPr/>
          <p:nvPr/>
        </p:nvPicPr>
        <p:blipFill>
          <a:blip r:embed="rId1"/>
          <a:stretch/>
        </p:blipFill>
        <p:spPr>
          <a:xfrm>
            <a:off x="3048120" y="4648320"/>
            <a:ext cx="489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7" name="05T-01a-StructuralProteins.mov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6576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167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600" y="1447560"/>
            <a:ext cx="748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lamentous proteins such as actin and myosi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cles contract through the sliding motion of these two protein fila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actile proteins also play key roles in the cell’s cytoskeleton and in moving materials with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80" name="Picture 5" descr="0511.BMP"/>
          <p:cNvPicPr/>
          <p:nvPr/>
        </p:nvPicPr>
        <p:blipFill>
          <a:blip r:embed="rId1"/>
          <a:stretch/>
        </p:blipFill>
        <p:spPr>
          <a:xfrm>
            <a:off x="28702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2" name="05T-01e-Contractil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6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600" y="1447920"/>
            <a:ext cx="740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mall proteins called hormones serve as intercellular (between cells) messengers in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gulatory proteins also play many roles within a ce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urning on and shutting off genes during develop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teins that receive information, acting as cell surface recept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6" name="05T-01h-Signal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00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does the prefix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iso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”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an isomer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Molecules with the same chemical formula, but different structural formulas.  Glucose has 36 isomers: half are sweet and half are bitter!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 atoms, different arrangement, different shape, therefore </a:t>
            </a:r>
            <a:r>
              <a:rPr b="0" i="1" lang="en-US" sz="1700" spc="-1" strike="noStrike">
                <a:solidFill>
                  <a:srgbClr val="000000"/>
                </a:solidFill>
                <a:latin typeface="Perpetua"/>
              </a:rPr>
              <a:t>different function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2" descr="http://www.nearingzero.net/screen_res/nz079.jpg"/>
          <p:cNvPicPr/>
          <p:nvPr/>
        </p:nvPicPr>
        <p:blipFill>
          <a:blip r:embed="rId1"/>
          <a:stretch/>
        </p:blipFill>
        <p:spPr>
          <a:xfrm>
            <a:off x="1003320" y="3325680"/>
            <a:ext cx="2730600" cy="353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http://www.nearingzero.net/screen_res/nz081.jpg"/>
          <p:cNvPicPr/>
          <p:nvPr/>
        </p:nvPicPr>
        <p:blipFill>
          <a:blip r:embed="rId2"/>
          <a:stretch/>
        </p:blipFill>
        <p:spPr>
          <a:xfrm>
            <a:off x="3743280" y="3338640"/>
            <a:ext cx="2752920" cy="3519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www.nearingzero.net/screen_res/nz083.jpg"/>
          <p:cNvPicPr/>
          <p:nvPr/>
        </p:nvPicPr>
        <p:blipFill>
          <a:blip r:embed="rId3"/>
          <a:stretch/>
        </p:blipFill>
        <p:spPr>
          <a:xfrm>
            <a:off x="6443640" y="3352680"/>
            <a:ext cx="2725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How enzymes work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8" name="06-14-HowEnzymesWork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417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CARBOHYDRATES (CH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2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O)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n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2" name="Content Placeholder 6" descr="0031A.BMP"/>
          <p:cNvPicPr/>
          <p:nvPr/>
        </p:nvPicPr>
        <p:blipFill>
          <a:blip r:embed="rId1"/>
          <a:srcRect l="0" t="29171" r="0" b="29171"/>
          <a:stretch/>
        </p:blipFill>
        <p:spPr>
          <a:xfrm>
            <a:off x="1600200" y="449568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93" name="Content Placeholder 4"/>
          <p:cNvSpPr/>
          <p:nvPr/>
        </p:nvSpPr>
        <p:spPr>
          <a:xfrm>
            <a:off x="1434960" y="1447920"/>
            <a:ext cx="740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to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chemical reaction is als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water molecule is produc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i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5" name="05-05-Di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1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7" name="Content Placeholder 4"/>
          <p:cNvSpPr/>
          <p:nvPr/>
        </p:nvSpPr>
        <p:spPr>
          <a:xfrm>
            <a:off x="1371600" y="1905120"/>
            <a:ext cx="7404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tha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lysacchar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100+ monomer units have been joined, a starch is formed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arch, Cellulose &amp; Glycoge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9" name="Content Placeholder 4"/>
          <p:cNvSpPr/>
          <p:nvPr/>
        </p:nvSpPr>
        <p:spPr>
          <a:xfrm>
            <a:off x="1219320" y="1600200"/>
            <a:ext cx="755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, where all the sugars are oriented in the same direction. Starch is one of the primary sources of calories f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. However the orientation of the sugars is a little different. In Cellulose, every other sugar molecule is "upside-down". This small difference in structure makes a big difference in the way we use this molecule. Most animals can’t digest this well.  Term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Glucose polymer. Glycogen is a stored energy source, found in the Liver and muscles of Humans. Glycogen is different from both Starch and Cellulose in that the Glucose chain is branched or "forke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bioweb.wku.edu/courses/BIOL115/Wyatt/Biochem/Carbos/Carb_poly.gif"/>
          <p:cNvPicPr/>
          <p:nvPr/>
        </p:nvPicPr>
        <p:blipFill>
          <a:blip r:embed="rId1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oly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2" name="05-07-Poly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750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LIPIDS: FATS &amp; OIL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6" name="05-10-Fats.mo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6019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9417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4920" y="15998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56200" indent="-2055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 an isotop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7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oms of elements that have the same atomic number (#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t a different number of neutron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.  Think Carbon-12 vs. Carbon-13 vs. Carbon-14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2" name="Picture 2" descr="http://www.nearingzero.net/screen_res/nz337.jpg"/>
          <p:cNvPicPr/>
          <p:nvPr/>
        </p:nvPicPr>
        <p:blipFill>
          <a:blip r:embed="rId1"/>
          <a:stretch/>
        </p:blipFill>
        <p:spPr>
          <a:xfrm>
            <a:off x="4724280" y="3657600"/>
            <a:ext cx="3951360" cy="2981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http://www.nearingzero.net/screen_res/nz169.jpg"/>
          <p:cNvPicPr/>
          <p:nvPr/>
        </p:nvPicPr>
        <p:blipFill>
          <a:blip r:embed="rId2"/>
          <a:stretch/>
        </p:blipFill>
        <p:spPr>
          <a:xfrm>
            <a:off x="1163520" y="3430440"/>
            <a:ext cx="35816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Fat vs. Oil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434600" y="1447920"/>
            <a:ext cx="755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ts are solids at room temperature.  They are saturated [with H atoms—all single bonds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ils are liquids at room temperature. They are unsaturated and contain one or more double bonds [unsaturated vs.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saturated]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9" name="Picture 2" descr="http://fig.cox.miami.edu/~cmallery/150/chemistry/c5x11saturatedfats.jpg"/>
          <p:cNvPicPr/>
          <p:nvPr/>
        </p:nvPicPr>
        <p:blipFill>
          <a:blip r:embed="rId1"/>
          <a:stretch/>
        </p:blipFill>
        <p:spPr>
          <a:xfrm>
            <a:off x="2438280" y="3683160"/>
            <a:ext cx="5924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1" name="Picture 2" descr="http://telstar.ote.cmu.edu/biology/MembranePage/images/phospholipid.jpg"/>
          <p:cNvPicPr/>
          <p:nvPr/>
        </p:nvPicPr>
        <p:blipFill>
          <a:blip r:embed="rId1"/>
          <a:stretch/>
        </p:blipFill>
        <p:spPr>
          <a:xfrm>
            <a:off x="1981080" y="160020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3" name="Picture 4" descr="0071BLLL.BMP"/>
          <p:cNvPicPr/>
          <p:nvPr/>
        </p:nvPicPr>
        <p:blipFill>
          <a:blip r:embed="rId1"/>
          <a:stretch/>
        </p:blipFill>
        <p:spPr>
          <a:xfrm>
            <a:off x="1676520" y="121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teroids comprise a group of compounds with four interlocking carbon rings. Examples of steroids are bile acids, cholesterol, and adrenal hormones including estrogen, testosterone &amp; progestero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16" name="Picture 2" descr="http://www.wellesley.edu/Chemistry/Chem101/hormones/steroids.gif"/>
          <p:cNvPicPr/>
          <p:nvPr/>
        </p:nvPicPr>
        <p:blipFill>
          <a:blip r:embed="rId1"/>
          <a:stretch/>
        </p:blipFill>
        <p:spPr>
          <a:xfrm>
            <a:off x="3200400" y="3429000"/>
            <a:ext cx="48196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nabolic steroids you hear so much about try to capture the tissue building properties of testosterone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e that the word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ssociated with a synthesis of biomaterials while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 tearing down of biomaterial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You are more familiar with the summary term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you go on a diet, you want to in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nd de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Gene Regulatory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20" name="05T-01j-GeneRegulatoryProt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33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UCLEIC ACID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tructure of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DNA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1295280"/>
            <a:ext cx="3657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composed of nucleotides which are composed of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deoxyribose sugar molecu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phosph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nitrogen ba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ua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tos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ym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00600" y="45720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ructure of  D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18960" y="19051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carbons of deoxyribose or ribose are numbered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forming a nucleoti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trogen base bonds with the #1 carb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osphate groups bind with the #3 and #5 carbo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8" name="Picture 4" descr="http://dl.clackamas.edu/ch106-09/images/ribnum2.gif"/>
          <p:cNvPicPr/>
          <p:nvPr/>
        </p:nvPicPr>
        <p:blipFill>
          <a:blip r:embed="rId1"/>
          <a:stretch/>
        </p:blipFill>
        <p:spPr>
          <a:xfrm>
            <a:off x="6242040" y="2362320"/>
            <a:ext cx="290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ttp://www.mun.ca/biology/scarr/T_vs_U.gif"/>
          <p:cNvPicPr/>
          <p:nvPr/>
        </p:nvPicPr>
        <p:blipFill>
          <a:blip r:embed="rId1"/>
          <a:stretch/>
        </p:blipFill>
        <p:spPr>
          <a:xfrm>
            <a:off x="185256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vs. R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600" y="1447920"/>
            <a:ext cx="428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doubly stranded, RNA is singly stran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oxyribose is replaced with ribo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ymine is replaced with urac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32" name="Picture 2" descr="http://www.layevangelism.com/bastxbk/images/deoxyribose.jpg"/>
          <p:cNvPicPr/>
          <p:nvPr/>
        </p:nvPicPr>
        <p:blipFill>
          <a:blip r:embed="rId2"/>
          <a:stretch/>
        </p:blipFill>
        <p:spPr>
          <a:xfrm>
            <a:off x="6172200" y="1676520"/>
            <a:ext cx="2610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600" y="1447920"/>
            <a:ext cx="7099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Carbon has 6 valence electrons: 1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2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2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ly the 4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valen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ectrons in the second (2), principal energy level participate in chemical reaction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bon hybridizes its on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r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sublevels to form 4 hybrid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ublevels.  Why?  There is an energy payoff for carbon (see the energy diagram below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a result, carbon forms 4 equivalent bonds and is very stable, hence its abundance on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6" name="Picture 2" descr="http://tcdsbstaff.ednet.ns.ca/devillg/ib/pics/hybrid.gif"/>
          <p:cNvPicPr/>
          <p:nvPr/>
        </p:nvPicPr>
        <p:blipFill>
          <a:blip r:embed="rId1"/>
          <a:stretch/>
        </p:blipFill>
        <p:spPr>
          <a:xfrm>
            <a:off x="3048120" y="5029200"/>
            <a:ext cx="3657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hosphodiester Bond Formation: Another Dehydration Synthe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4" name="Picture 2" descr="http://fig.cox.miami.edu/~cmallery/150/chemistry/sf3x14a.jpg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gen Bonds Hold the Double Helix Together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6" name="Picture 2" descr="http: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3429000" y="1752480"/>
            <a:ext cx="2838600" cy="40482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5"/>
          <p:cNvSpPr/>
          <p:nvPr/>
        </p:nvSpPr>
        <p:spPr>
          <a:xfrm>
            <a:off x="16002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064"/>
                </a:solidFill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6934320" y="3733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73d"/>
                </a:solidFill>
                <a:latin typeface="Arial"/>
              </a:rPr>
              <a:t>Pyrima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8"/>
          <p:cNvCxnSpPr/>
          <p:nvPr/>
        </p:nvCxnSpPr>
        <p:spPr>
          <a:xfrm flipV="1">
            <a:off x="2514600" y="3504960"/>
            <a:ext cx="1296000" cy="381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0" name="Straight Arrow Connector 10"/>
          <p:cNvCxnSpPr/>
          <p:nvPr/>
        </p:nvCxnSpPr>
        <p:spPr>
          <a:xfrm>
            <a:off x="2514600" y="4114800"/>
            <a:ext cx="1372320" cy="1448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1" name="Straight Arrow Connector 12"/>
          <p:cNvCxnSpPr/>
          <p:nvPr/>
        </p:nvCxnSpPr>
        <p:spPr>
          <a:xfrm flipH="1" flipV="1">
            <a:off x="6171840" y="3504960"/>
            <a:ext cx="838800" cy="3052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2" name="Straight Arrow Connector 14"/>
          <p:cNvCxnSpPr/>
          <p:nvPr/>
        </p:nvCxnSpPr>
        <p:spPr>
          <a:xfrm flipH="1">
            <a:off x="6171840" y="4114800"/>
            <a:ext cx="915120" cy="1372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NA is Antiparallel and ALWAYS 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synthesized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in the 5′ to 3′ Direc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4" name="Picture 2" descr="DNa"/>
          <p:cNvPicPr/>
          <p:nvPr/>
        </p:nvPicPr>
        <p:blipFill>
          <a:blip r:embed="rId1"/>
          <a:stretch/>
        </p:blipFill>
        <p:spPr>
          <a:xfrm>
            <a:off x="3429000" y="1523880"/>
            <a:ext cx="434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6" name="16-05-DNAstructNarrAnim_S.mov" descr=""/>
          <p:cNvPicPr/>
          <p:nvPr/>
        </p:nvPicPr>
        <p:blipFill>
          <a:blip r:embed="rId1"/>
          <a:stretch/>
        </p:blipFill>
        <p:spPr>
          <a:xfrm>
            <a:off x="3660840" y="270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53667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 &amp; Functional Group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19920" y="1523520"/>
            <a:ext cx="2527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Carbon combines readily with other abundant atoms on earth to form very stable functional groups.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9" name="Picture 5" descr="0027.BMP"/>
          <p:cNvPicPr/>
          <p:nvPr/>
        </p:nvPicPr>
        <p:blipFill>
          <a:blip r:embed="rId1"/>
          <a:srcRect l="31882" t="7501" r="9989" b="0"/>
          <a:stretch/>
        </p:blipFill>
        <p:spPr>
          <a:xfrm>
            <a:off x="1066680" y="1219320"/>
            <a:ext cx="48769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Hydrogen Bond 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(which, by the way, is not actually a bond)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ater makes life on this planet possible.  Therefore, biology is “all wet”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o, there are two VERY important aspects of water that you need to NEVER, EVER forget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is p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forms “hydrogen bonds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7:29:05Z</dcterms:created>
  <dc:creator> René McCormick</dc:creator>
  <dc:description/>
  <dc:language>en-US</dc:language>
  <cp:lastModifiedBy>Rene McCormick</cp:lastModifiedBy>
  <dcterms:modified xsi:type="dcterms:W3CDTF">2008-10-30T16:00:32Z</dcterms:modified>
  <cp:revision>56</cp:revision>
  <dc:subject/>
  <dc:title>Slide 1</dc:title>
</cp:coreProperties>
</file>