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11.jpeg" ContentType="image/jpeg"/>
  <Override PartName="/ppt/media/image44.png" ContentType="image/png"/>
  <Override PartName="/ppt/media/image46.png" ContentType="image/png"/>
  <Override PartName="/ppt/media/image45.png" ContentType="image/png"/>
  <Override PartName="/ppt/media/image51.jpeg" ContentType="image/jpeg"/>
  <Override PartName="/ppt/media/image31.png" ContentType="image/png"/>
  <Override PartName="/ppt/media/image52.jpeg" ContentType="image/jpeg"/>
  <Override PartName="/ppt/media/image53.jpeg" ContentType="image/jpeg"/>
  <Override PartName="/ppt/media/image54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3.png" ContentType="image/png"/>
  <Override PartName="/ppt/media/image9.jpeg" ContentType="image/jpeg"/>
  <Override PartName="/ppt/media/image48.png" ContentType="image/png"/>
  <Override PartName="/ppt/media/image27.jpeg" ContentType="image/jpeg"/>
  <Override PartName="/ppt/media/image5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move the slid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4379-2C9F-4BE2-A1B9-291F6725A75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4668-FAF6-4FB8-92F7-1D3BFA1C032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A2CA-A640-4A57-BDDE-E5DFE620872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FB02-CCDF-41B7-B806-BDA57F5FC79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A0F1-58E0-45B5-8AD1-581998CE9DF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2A46-4ED2-4089-88CA-F0860B4133B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C89C-B5B0-4762-87BD-C44F0610209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CED4-0C79-4F83-86B9-A78C357E530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F29A-67E6-412A-881A-BA0868ECE81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CCEE-4AD5-427F-A358-C907910198B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30B6-8BD5-4F2B-B3F6-F21E56D11FB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9B87-EABE-404E-81B3-67EE446A9DA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9FE1-4681-47F3-B010-B8442EE977D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B523-CDBC-4896-9518-62EADA33E9A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A76F-C669-4371-92A3-55BD8CF29CD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2E12-4E8E-4C67-8CB5-BB116522FCD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CA5E-0B02-4222-815A-A1BEFEA8EF5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BFFF-0476-498D-8090-ECF8FCA0514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71AC-488B-41E4-9288-7430880ED50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FDDE-278F-4B7E-8CE5-815EDFAE13F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83D4-86B4-4160-98F5-7C9E362F491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5C64-36C4-4AC5-A7A3-20C67D9D3A8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8B0D-E116-46D2-87A7-A51543AF8D7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C490-6F7B-4416-9729-39CD720FBEF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145A-FB13-4374-8C22-CDD88855E18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EBCF-7828-4433-88EB-CE526F860E2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F29D-4E9E-4E2E-B3E6-860A6607A8D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60F9-7571-4BCF-8F15-16420D0D5DD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576B-071A-4F8B-9253-5BDF404852B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7DF6-9B68-4C86-A5FE-FAB327963D7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CBA8-1603-4F44-8D2D-EFD0F6D881A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285A-1832-49E2-9250-F59D079F5A9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B7FC-0E01-4208-B27F-B19578DE831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6CCC-634E-4169-A7AF-2E72A73C4A6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3287-370E-402B-AF75-3913FCBD16F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61A5-6A7C-430A-98FF-521CF49D270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840B-46F4-45DD-AFA9-AF9ED569CBE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B2FA-3635-4AB7-A67B-B7C37A08C43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F773-4C8F-4B11-A793-B05CA82F363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4ECC-E97E-4A30-93CB-4E3404801D4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56CB-A749-4F5F-A1EA-A7501CAD7D6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E4A8-598A-4780-868D-9A96B2A8D0C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025C-35B9-4A6F-9C36-47FA069DD4D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46DB-8BFC-46C2-8231-A650636FB03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3492-55A0-4558-B694-5346633C09B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E572-38BD-4EBB-B404-FD04AFA5E71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1850-A0CD-4765-AC1D-DA66D214DB2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17D4-27CE-4BCE-8C57-7FB3654F18D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6AC1-C832-4D32-BB23-5AC037B9653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95B5-DD13-41FD-BEDB-E2DA1CB2E2C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E2F9-7ECF-4D6A-BE95-51B2218C524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0B00-9F17-41F8-B45D-B5736F7E7AF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02C7-FA20-402A-926A-AFA429E72EE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1056-0FE1-4F4B-A85C-BC1DDB968B6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4F3A-C6D4-4D0B-82A1-8BE4343F181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FB04-DB50-43C9-836B-1BF4D837A52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08F6-1750-4FEC-B4ED-3355B4AAD33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4891-AE96-4FDD-B38F-DE2CE32444C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6D4A-7175-45AC-8AFD-D8A0CC8F6F6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9442-C1DE-40B7-97D4-D0BE6088AFA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DBEB-8292-4021-9267-AF62DDD885E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1591-4439-401D-B503-1CCF0D1AFA5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2CC1-10AF-4F67-8F70-AD529BB726B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128B-CF6E-4D26-989D-72BAB7F3DFF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7649-5065-49D2-B2A6-AF20BE71DA3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A860-5EBF-4B48-9A42-75F3BA81710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B4D8-6B25-41A7-B7B6-4D217A8165A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ADB8-111B-4DE0-932F-004F3A8B7A4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808D-890E-4561-BDB3-7DDE275A20B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0AA2-C337-4397-B3DF-A4E098E19F9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3C1F-A7BF-4687-AFB2-F15D1DBD18E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8B41-7B4D-49AC-B8B7-84A209F0DC0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222B-0C70-478B-A80A-7BED00101EE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863D-A126-4149-B083-9D57794A95F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801-E0D1-4543-9D2E-5C041DE3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75BF-BBD8-4A3F-9045-43642147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21AED-045B-49B7-A481-279012D7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8E4E2-D067-44CE-8816-811042CB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E4D34-43CC-4629-A380-12E9E8D8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E1EAF-CE7E-42B6-927F-579C4F1F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18151-0DE0-4F70-8B09-B8CA8EFE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1CA7D-DBFD-4220-B3D3-760E6212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A9641-B4C1-4521-B97D-BC2B6356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F6CE3-55AB-4197-AF10-09FFF8F1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C4E8B-C33E-4CFC-A23C-13D2FA1D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5C026-1DE6-4F58-9C59-832A2043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02B-394A-47C6-AB23-97007650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41585-91B9-4673-BC77-80391CA2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F15C5-FF24-452B-A809-376706E8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DE05C-0A98-484B-BD20-FFB661B2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5ED3F-AF71-4E07-AE7E-3E892A49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3B1FF-D44F-4059-B761-D29F1C25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E7C80-266E-4886-81AD-28029F73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D1B5C-F352-426D-AD92-6B6248AB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1DA04-4798-4339-B8A0-F4D1E86C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78B9B-FC57-4F69-A84D-6017733A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48F12-F38C-4AA7-B4B6-66E5F876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117-E2EF-48FB-A59A-FE4DC826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74E13-3132-4441-A28F-BE37B898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8A624-84D0-4E28-B23B-1A6A3B10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4CE11-F2EC-4A93-B52E-6101F6D1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D635E-D825-4512-960D-4CE0C172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60688-95F7-448A-B899-4043D52B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A7E9B-8B12-4DD1-826F-FA324B14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017F2-816F-4393-A206-2AE24880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FA7B7-7839-49CC-8F36-9E54D50A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2C5BB-E201-4008-BC20-9EB08AF7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02FB1-394F-4AB3-8899-2C003B31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8BCD-5B83-45C7-8552-5E98D800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D1018-AFBF-4BB9-B8AA-BCF10BA2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FF78D-D715-4806-AAFF-5ACCDF52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6E832-FD48-4167-8261-5984D9BE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92078-6AC9-44E8-B35F-E8593655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88C56-A0A0-48C8-B15D-B67D30A6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02096-B961-414F-A88D-13389146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825E0-7498-4153-958A-FDE21BFA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FF404-8E89-44E4-9764-15DA1957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4995E-870D-48E9-8DF1-2400EB27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9B418-3A7B-4A49-9A9E-827B387D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A10B-3948-4A0C-BBFB-80290E00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7B60F-D6B1-43D4-829D-CA025173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DE55E-C9B4-422B-88D1-45FAEDC2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16D25-4EA5-4B78-8105-A6FCAC79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634A8-9A97-49F8-A48B-0BA33D03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01226-6E41-4FC2-B678-40DAA452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29C5-40E5-4441-B3BC-FF1D1E85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89D7-5E1C-4FF4-BAB6-75E346C4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609A-CAD4-4182-B2C3-496FDC28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C7BC-1AA7-44A6-910B-4BD1A050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C4A7-114D-4133-A383-116D261B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2B1F-506B-4C3C-A35D-8094D4C0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C590-B539-4D8A-BE59-66BDE143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4AE8-8F68-4CA9-A70F-A15E07B3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1C2B-DC93-4025-BACB-979C754E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29B7-9B2D-420B-8036-0251A8FA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4801-5BF8-48BD-AE6C-2AFCDCB9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A7DDC-0F92-4F94-AB01-219272A1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C9B3E-A464-42A0-A76F-6158ACFD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284B0-CF77-402D-93D7-77E0F0E6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4C427-282B-415F-BB4E-F580ACC4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96BE6-2891-460C-9049-72AED300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D225-6054-477C-A465-89AC66B4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E9507-A9D8-4B6B-842B-88E435CC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A1BB6-04C6-47A2-97F1-4B481713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E5429-5D2F-4B0B-845B-58BF5BD9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FF3EC-EE0B-430D-A1B3-F9EC8E87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32F5E-83C4-4110-9F2F-95AB956C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66AC5-ED98-4128-A4AB-F78C6632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E4D86-5B15-4A30-8655-61F643D0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3585E-A38D-40D2-80A2-A707C6B7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77280-ACFA-489C-9EC9-FDC62722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D230E-0465-491C-B88B-4DDAE524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092-EE1C-44DA-877E-25645965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47758-103B-4392-926D-1F096F13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87775-FF0D-4D55-9749-08AF9B26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0DC16-96B8-430A-ABF6-06B4294E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4DB4A-EFC2-4DA5-8D6C-2DA4AA22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B39E9-B53F-49C8-85F1-31A1D7DB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91548-3866-4E64-81B7-5F4496ED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360BE-D8AE-4E98-A56B-34ADC336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9C8F4-A2CE-451E-9A80-4BD92C24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1104B-AE3E-4AFB-B69F-CDA0957F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D6143-1486-4C22-99DF-6AF499D6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19EB-BF37-4568-BCAD-32226AB0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19548-0436-43F0-9167-C2F70EE2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8BC1D-FD22-4418-BF4D-FEE32073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BA9A1-4AFF-4553-9509-0BF2080E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DA16A-FC70-4B52-9A93-943BCAAD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AECF4-83BD-4B18-AF7F-93F1AE16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E0B51-DCE3-4148-8F83-36684B22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491EC-DA1E-4860-9989-2C3BC92B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59F27-A062-40B1-826A-60849511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A7EAA-50DA-47DC-BDEC-84D54A77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54F35-C388-42D8-89AA-3E0C807A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BEA-8DC6-4258-8339-BF796745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2957C-078C-4AAC-89FC-EAF1CF36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91607-EDB4-4DD8-9C5F-0F459BD0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3C187-0707-4F6F-B4C4-8947E578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0727D-2A51-40F2-9C61-895AFFA6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2C068-E937-4627-9EEE-366B3AF1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6D744-1EF4-4CF5-ADCA-D3D39867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A48D8-34CE-4EA0-A4D8-DF8CBB57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66E59-B451-4C75-8E5E-D7B5DC9F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9513B-52E8-43C9-945A-2EC5DA13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792A5-2B34-4037-A147-CB10612A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012E-8DE2-431A-84B8-09EDA7BC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88D8D-C681-48CA-BB6F-0C503CB0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E5B77-3942-4422-9F0F-6E2007A6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DF814-9916-4C0F-BE8E-B388E698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18E1B-A888-477F-ADB5-0E02AB4F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8CAAC-5FBA-4C66-B870-31E6799D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E8DB8-4CD5-4A47-8266-06C849EA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180B1-2C67-4E5C-ABFC-64BF09A3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A3B9D-E950-4A52-BD2D-60BE30C0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DA4B9-84DF-45DF-9077-ED1484E3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56BE4-2B2C-4A4E-BB71-F0C9AB25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556-5254-4C66-86A6-49C2BFC9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A0619-EC5C-40A5-A62A-730CA021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54504-23F5-433A-9542-567B69A9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45DCF-8CA3-42AC-A019-17D95003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3BC05-1927-482F-BE33-D57C4271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28719-25A9-4F4A-A82D-08E3D468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B7193-6391-46A6-B174-4310B20D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C7D7C-CF2C-4F56-9666-2D2B97EE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6A8E5-BFDC-453F-8548-ADB5E8BA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B3B8E-736C-4B95-A617-6EA44619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513E8-0FFD-41F1-A402-52B7B9CA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47C4-67F9-43E6-860C-0AEBFDEB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ACF95-E4C9-40D6-840D-BA48528B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98E6C-5812-4DB3-BB9F-58A57733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FD3D9-B29D-4F47-94C1-D1A9E072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FA744-394C-4BD8-887A-414B56BC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26FFC-4683-4BC5-BF07-DB7DA900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1EAFB-029E-409F-AFDF-02CCD631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74C7F-68BB-42E6-BD7D-ED9991C2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215EF-EDAE-4B57-8363-B99FF6D4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449CF-40ED-4050-B030-EE53826E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E7D36-44E6-413E-B4D3-CBE95C9A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2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B205-72A4-4339-944E-3978B32E16C2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3cad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5d1d7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B6C2-9DF3-4BD9-B77C-FE5B65902087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A0D7-BDBF-46C1-8D6A-AFC687A91E52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7C1E-2F73-43F9-98FA-F8698EF812BA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720" y="6552720"/>
            <a:ext cx="838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209680" y="6095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0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AB37-FF3D-4D11-AED6-38D26CB06C2B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1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EAB5-71CE-4402-8954-75090B7BD6E5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2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</a:t>
            </a: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C25A-77BB-4B70-B38D-4C8A8D39B24B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C53B-2E5A-4FC0-9A26-D31F5D863FC3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498A-B97D-42DC-9AF8-53FA71A2B6D1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1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5BD9-FC30-4946-82AF-7EE5F65E210C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3F15-94A8-4EE2-A841-05B77A758E8D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F63D-CC9C-4A5B-B28A-F12836BB1442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ationalmathandscience.org/index.php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lanine" TargetMode="External"/><Relationship Id="rId2" Type="http://schemas.openxmlformats.org/officeDocument/2006/relationships/hyperlink" Target="http://en.wikipedia.org/wiki/Arginine" TargetMode="External"/><Relationship Id="rId3" Type="http://schemas.openxmlformats.org/officeDocument/2006/relationships/hyperlink" Target="http://en.wikipedia.org/wiki/Asparagine" TargetMode="External"/><Relationship Id="rId4" Type="http://schemas.openxmlformats.org/officeDocument/2006/relationships/hyperlink" Target="http://en.wikipedia.org/wiki/Aspartate" TargetMode="External"/><Relationship Id="rId5" Type="http://schemas.openxmlformats.org/officeDocument/2006/relationships/hyperlink" Target="http://en.wikipedia.org/wiki/Cysteine" TargetMode="External"/><Relationship Id="rId6" Type="http://schemas.openxmlformats.org/officeDocument/2006/relationships/hyperlink" Target="http://en.wikipedia.org/wiki/Glutamate" TargetMode="External"/><Relationship Id="rId7" Type="http://schemas.openxmlformats.org/officeDocument/2006/relationships/hyperlink" Target="http://en.wikipedia.org/wiki/Glutamine" TargetMode="External"/><Relationship Id="rId8" Type="http://schemas.openxmlformats.org/officeDocument/2006/relationships/hyperlink" Target="http://en.wikipedia.org/wiki/Glycine" TargetMode="External"/><Relationship Id="rId9" Type="http://schemas.openxmlformats.org/officeDocument/2006/relationships/hyperlink" Target="http://en.wikipedia.org/wiki/Histidine" TargetMode="External"/><Relationship Id="rId10" Type="http://schemas.openxmlformats.org/officeDocument/2006/relationships/hyperlink" Target="http://en.wikipedia.org/wiki/Isoleucine" TargetMode="External"/><Relationship Id="rId11" Type="http://schemas.openxmlformats.org/officeDocument/2006/relationships/hyperlink" Target="http://en.wikipedia.org/wiki/Leucine" TargetMode="External"/><Relationship Id="rId12" Type="http://schemas.openxmlformats.org/officeDocument/2006/relationships/hyperlink" Target="http://en.wikipedia.org/wiki/Lysine" TargetMode="External"/><Relationship Id="rId13" Type="http://schemas.openxmlformats.org/officeDocument/2006/relationships/hyperlink" Target="http://en.wikipedia.org/wiki/Methionine" TargetMode="External"/><Relationship Id="rId14" Type="http://schemas.openxmlformats.org/officeDocument/2006/relationships/hyperlink" Target="http://en.wikipedia.org/wiki/Phenylalanine" TargetMode="External"/><Relationship Id="rId15" Type="http://schemas.openxmlformats.org/officeDocument/2006/relationships/hyperlink" Target="http://en.wikipedia.org/wiki/Proline" TargetMode="External"/><Relationship Id="rId16" Type="http://schemas.openxmlformats.org/officeDocument/2006/relationships/hyperlink" Target="http://en.wikipedia.org/wiki/Serine" TargetMode="External"/><Relationship Id="rId17" Type="http://schemas.openxmlformats.org/officeDocument/2006/relationships/hyperlink" Target="http://en.wikipedia.org/wiki/Threonine" TargetMode="External"/><Relationship Id="rId18" Type="http://schemas.openxmlformats.org/officeDocument/2006/relationships/hyperlink" Target="http://en.wikipedia.org/wiki/Tryptophan" TargetMode="External"/><Relationship Id="rId19" Type="http://schemas.openxmlformats.org/officeDocument/2006/relationships/hyperlink" Target="http://en.wikipedia.org/wiki/Tyrosine" TargetMode="External"/><Relationship Id="rId20" Type="http://schemas.openxmlformats.org/officeDocument/2006/relationships/hyperlink" Target="http://en.wikipedia.org/wiki/Valine" TargetMode="External"/><Relationship Id="rId21" Type="http://schemas.openxmlformats.org/officeDocument/2006/relationships/slideLayout" Target="../slideLayouts/slideLayout85.xml"/><Relationship Id="rId2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47560" y="106668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AP</a:t>
            </a:r>
            <a:r>
              <a:rPr b="0" lang="en-US" sz="3900" spc="-1" strike="noStrike" baseline="30000">
                <a:solidFill>
                  <a:srgbClr val="5f688b"/>
                </a:solidFill>
                <a:latin typeface="Franklin Gothic Book"/>
              </a:rPr>
              <a:t>®</a:t>
            </a: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 Biology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Biochemistry Prep Sess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b5064"/>
                </a:solidFill>
                <a:latin typeface="Perpetua"/>
              </a:rPr>
              <a:t>Proteins, Carbohydrates, Lipids &amp; Nucleic Acids. 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b5064"/>
                </a:solidFill>
                <a:latin typeface="Perpetua"/>
              </a:rPr>
              <a:t>Oh, my!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67" name="Picture 5" descr="National Math and Science Initiativ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5440"/>
            <a:ext cx="40482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is a “hydrogen bond” if it’s not a chemical bond?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’s an intermolecular force (IMF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’s an electrostatic attraction (ever heard of Coulomb’s Law?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’s the attractive force between a hydrogen atom on one molecule and a highly electronegative atom (F,O or N) on an adjacent molecule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UT, there’s a catch!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6" descr="http://upload.wikimedia.org/wikipedia/commons/thumb/b/b5/Hydrogen-bonding-in-water-2D.png/800px-Hydrogen-bonding-in-water-2D.png"/>
          <p:cNvPicPr/>
          <p:nvPr/>
        </p:nvPicPr>
        <p:blipFill>
          <a:blip r:embed="rId1"/>
          <a:stretch/>
        </p:blipFill>
        <p:spPr>
          <a:xfrm>
            <a:off x="1219320" y="1676520"/>
            <a:ext cx="7619760" cy="464796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is a “hydrogen bond” if it’s not a chemical bond?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96" name="TextBox 4"/>
          <p:cNvSpPr/>
          <p:nvPr/>
        </p:nvSpPr>
        <p:spPr>
          <a:xfrm>
            <a:off x="2362320" y="5486400"/>
            <a:ext cx="3809880" cy="916920"/>
          </a:xfrm>
          <a:prstGeom prst="rect">
            <a:avLst/>
          </a:prstGeom>
          <a:solidFill>
            <a:srgbClr val="edc1b6"/>
          </a:solidFill>
          <a:ln w="9360">
            <a:solidFill>
              <a:srgbClr val="fff8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ydrogen bo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(really an IMF or electrostatic attr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7" name="Straight Arrow Connector 8"/>
          <p:cNvCxnSpPr>
            <a:stCxn id="596" idx="0"/>
          </p:cNvCxnSpPr>
          <p:nvPr/>
        </p:nvCxnSpPr>
        <p:spPr>
          <a:xfrm flipV="1">
            <a:off x="4266000" y="4344120"/>
            <a:ext cx="2520" cy="114228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98" name="TextBox 14"/>
          <p:cNvSpPr/>
          <p:nvPr/>
        </p:nvSpPr>
        <p:spPr>
          <a:xfrm>
            <a:off x="3352680" y="1924200"/>
            <a:ext cx="3124440" cy="642600"/>
          </a:xfrm>
          <a:prstGeom prst="rect">
            <a:avLst/>
          </a:prstGeom>
          <a:solidFill>
            <a:srgbClr val="fff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valently bonded hydrogen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Straight Arrow Connector 16"/>
          <p:cNvCxnSpPr/>
          <p:nvPr/>
        </p:nvCxnSpPr>
        <p:spPr>
          <a:xfrm flipH="1">
            <a:off x="2513880" y="2284920"/>
            <a:ext cx="1524600" cy="76284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triangle" w="med"/>
          </a:ln>
        </p:spPr>
      </p:cxnSp>
      <p:cxnSp>
        <p:nvCxnSpPr>
          <p:cNvPr id="600" name="Straight Arrow Connector 18"/>
          <p:cNvCxnSpPr/>
          <p:nvPr/>
        </p:nvCxnSpPr>
        <p:spPr>
          <a:xfrm>
            <a:off x="5715000" y="2286000"/>
            <a:ext cx="381600" cy="137232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triangle" w="med"/>
          </a:ln>
        </p:spPr>
      </p:cxnSp>
      <p:cxnSp>
        <p:nvCxnSpPr>
          <p:cNvPr id="601" name="Straight Arrow Connector 20"/>
          <p:cNvCxnSpPr/>
          <p:nvPr/>
        </p:nvCxnSpPr>
        <p:spPr>
          <a:xfrm>
            <a:off x="5715000" y="2285640"/>
            <a:ext cx="1448640" cy="76284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triangle" w="med"/>
          </a:ln>
        </p:spPr>
      </p:cxnSp>
      <p:cxnSp>
        <p:nvCxnSpPr>
          <p:cNvPr id="602" name="Straight Arrow Connector 9"/>
          <p:cNvCxnSpPr/>
          <p:nvPr/>
        </p:nvCxnSpPr>
        <p:spPr>
          <a:xfrm flipH="1">
            <a:off x="2513880" y="2286000"/>
            <a:ext cx="1524600" cy="228672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is a “hydrogen bond” if it’s not a chemical bond?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H atom must also be bound to a highly electronegative atom (and carbon doesn’t count)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’s the big deal?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580680" indent="-2682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Hydrogen bonds are 10× stronger than other IMFs and about a 1/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Perpetu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as strong as a covalent bond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?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580680" indent="-2682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ost all of water’s unique properties are attributed to its ability to form such electrostatic attractions or “hydrogen bonds”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580680" indent="-2682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What unique properties?  High FP, high MP, high heat of vaporization, high specific heat, etc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else does a “hydrogen bond”</a:t>
            </a:r>
            <a:r>
              <a:rPr b="0" i="1" lang="en-US" sz="3900" spc="-1" strike="noStrike">
                <a:solidFill>
                  <a:srgbClr val="5f688b"/>
                </a:solidFill>
                <a:latin typeface="Franklin Gothic Book"/>
              </a:rPr>
              <a:t>do</a:t>
            </a: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 general, it makes molecules stick together through electrostatic attraction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t holds the DNA base pairs together and accounts for why A pairs with T (or U) and G pairs with C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t causes electrostatic interactions that form various shapes in all sorts of biomolecules: the active sites of enzymes, the allosteric sites of enzymes, the alpha helix, the beta pleated sheet, etc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NEXT, </a:t>
            </a:r>
            <a:br>
              <a:rPr sz="4000"/>
            </a:b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SOME BASIC BIOCHEMISTRY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roteins &amp; Nucleic Acid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371600" y="1981080"/>
          <a:ext cx="7499520" cy="387036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Macro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Sub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TE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ob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mino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atalysis &amp; 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emoglob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ruct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mino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air; si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UCLEIC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ucleot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Encodes g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romos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ucleot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eeded for gen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RNA, tRNA, r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Macromolecules: Lip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1371600" y="1981080"/>
          <a:ext cx="7499520" cy="422136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Macro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Sub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IP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ycerol &amp; 3 fatty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Energy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utter; corn oil; so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hospholip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ycerol, 2 fatty acids, phosphate and polar R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ell membra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ec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stagland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-C rings with 2 nonpolar t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emical messen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staglandin E (P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er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 fused C r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embranes; horm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olesterol; es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rp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ong C ch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igments; struct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arotene; rub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Carbohydrate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1371600" y="1981080"/>
          <a:ext cx="7499520" cy="2117880"/>
        </p:xfrm>
        <a:graphic>
          <a:graphicData uri="http://schemas.openxmlformats.org/drawingml/2006/table">
            <a:tbl>
              <a:tblPr/>
              <a:tblGrid>
                <a:gridCol w="2057400"/>
                <a:gridCol w="1828800"/>
                <a:gridCol w="1738440"/>
                <a:gridCol w="1874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Macro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Sub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ARBOHYD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arch, glyc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Energy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otato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ellu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ell wa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aper; strings of cel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i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odified 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ructural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rab sh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Dehydration Synthesis 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Goal:  </a:t>
            </a:r>
            <a:r>
              <a:rPr b="0" i="1" lang="en-US" sz="2700" spc="-1" strike="noStrike">
                <a:solidFill>
                  <a:srgbClr val="000000"/>
                </a:solidFill>
                <a:latin typeface="Perpetua"/>
              </a:rPr>
              <a:t>Form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 a covalent bond between two subunit molecules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How?  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An –OH group is removed from one subunit &amp; a H atom is removed from the other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This condensation (yes, think “water”) reaction is called a dehydration synthesis since a molecule of 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O is removed with each covalent bond formed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ENERGY IS REQUIRED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Molecules are brought into position and bonds stressed (catalysis) which is carried out by enzymes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Dehydration Synthesis 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18" name="Content Placeholder 3" descr="0028D1.BMP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FIRST, </a:t>
            </a:r>
            <a:br>
              <a:rPr sz="4000"/>
            </a:b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SOME BASIC CHEMISTRY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Hydro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oal: 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a covalent bond between two subunit molecules.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Hydrolysis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(Greek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hydro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, “water” +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lyse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“break or split”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ow?  Simple, reverse the synthesis process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 molecule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O is “added” across a covalent bond such that a H atom binds to one subunit and an –OH group binds to the other subuni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NERGY IS RELEAS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s process is also carried out by enzymes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Hydro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23" name="Picture 3" descr="0028D2.BMP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Dehydration Synthesis &amp; Hydrolysis Reaction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25" name="05-02-Macromolecules.mov" descr=""/>
          <p:cNvPicPr/>
          <p:nvPr/>
        </p:nvPicPr>
        <p:blipFill>
          <a:blip r:embed="rId1"/>
          <a:stretch/>
        </p:blipFill>
        <p:spPr>
          <a:xfrm>
            <a:off x="1523880" y="1146240"/>
            <a:ext cx="7010640" cy="5175360"/>
          </a:xfrm>
          <a:prstGeom prst="rect">
            <a:avLst/>
          </a:prstGeom>
          <a:ln w="0">
            <a:noFill/>
          </a:ln>
        </p:spPr>
      </p:pic>
      <p:sp>
        <p:nvSpPr>
          <p:cNvPr id="626" name="TextBox 5"/>
          <p:cNvSpPr/>
          <p:nvPr/>
        </p:nvSpPr>
        <p:spPr>
          <a:xfrm>
            <a:off x="1219320" y="6172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animation should start automatically if you are in Slide Show view.  If not, see “Troubleshooting” at the end of this pres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3417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PROTEINS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roteins are composed of amino acid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434960" y="1447920"/>
            <a:ext cx="725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basic structure of an amino acid is shown on the next slid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re’s a central carb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hydrogen atom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 amine group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carboxylic acid group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 “R” group that determines the differences between amino acid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886360" y="1066320"/>
            <a:ext cx="302904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f688b"/>
                </a:solidFill>
                <a:latin typeface="Franklin Gothic Book"/>
              </a:rPr>
              <a:t>Generic Structure of an </a:t>
            </a: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Amino Acid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5f688b"/>
                </a:solidFill>
                <a:latin typeface="Franklin Gothic Book"/>
              </a:rPr>
              <a:t>There are 20 naturally occurring amino acids</a:t>
            </a:r>
            <a:endParaRPr b="0" lang="en-US" sz="24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7720" y="457200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Perpetua"/>
              </a:rPr>
              <a:t>Primary protein structure is simply the amino acid sequenc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Perpetua"/>
              </a:rPr>
              <a:t>Example:  gly-leu-ala-cys…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33" name="Picture 2" descr="http://img.sparknotes.com/figures/F/f88cd44dc6a50ffa6b94cdb9d213894e/aminoacid.gif"/>
          <p:cNvPicPr/>
          <p:nvPr/>
        </p:nvPicPr>
        <p:blipFill>
          <a:blip r:embed="rId1"/>
          <a:stretch/>
        </p:blipFill>
        <p:spPr>
          <a:xfrm>
            <a:off x="963720" y="1352520"/>
            <a:ext cx="41907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1295280" y="380880"/>
          <a:ext cx="7315200" cy="6070680"/>
        </p:xfrm>
        <a:graphic>
          <a:graphicData uri="http://schemas.openxmlformats.org/drawingml/2006/table">
            <a:tbl>
              <a:tblPr/>
              <a:tblGrid>
                <a:gridCol w="1347840"/>
                <a:gridCol w="1349280"/>
                <a:gridCol w="1347840"/>
                <a:gridCol w="1347840"/>
                <a:gridCol w="1922400"/>
              </a:tblGrid>
              <a:tr h="9388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me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(Resid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-letter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elativ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bundanc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(%) E.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o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arged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olar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ydrophobic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eutral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"/>
                        </a:rPr>
                        <a:t>Ala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2"/>
                        </a:rPr>
                        <a:t>Argi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3"/>
                        </a:rPr>
                        <a:t>Asparag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4"/>
                        </a:rPr>
                        <a:t>Aspar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5"/>
                        </a:rPr>
                        <a:t>Cyste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6"/>
                        </a:rPr>
                        <a:t>Gluta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7"/>
                        </a:rPr>
                        <a:t>Gluta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8"/>
                        </a:rPr>
                        <a:t>Gly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9"/>
                        </a:rPr>
                        <a:t>Histi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,C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0"/>
                        </a:rPr>
                        <a:t>Isoleu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48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1"/>
                        </a:rPr>
                        <a:t>Leu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364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2"/>
                        </a:rPr>
                        <a:t>Lys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3"/>
                        </a:rPr>
                        <a:t>Methio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4"/>
                        </a:rPr>
                        <a:t>Phenylala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5"/>
                        </a:rPr>
                        <a:t>Pro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364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6"/>
                        </a:rPr>
                        <a:t>Ser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7"/>
                        </a:rPr>
                        <a:t>Threo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8"/>
                        </a:rPr>
                        <a:t>Tryptoph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9"/>
                        </a:rPr>
                        <a:t>Tyros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Y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364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20"/>
                        </a:rPr>
                        <a:t>Va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eptide Bond Formation: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A specific type of </a:t>
            </a:r>
            <a:r>
              <a:rPr b="0" i="1" lang="en-US" sz="3200" spc="-1" strike="noStrike">
                <a:solidFill>
                  <a:srgbClr val="5f688b"/>
                </a:solidFill>
                <a:latin typeface="Franklin Gothic Book"/>
              </a:rPr>
              <a:t>dehydration synthesis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34960" y="1447920"/>
            <a:ext cx="74995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amine group of one amino acid is joined to the carboxylic acid group of another amino acid to form a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peptide bond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 This type of chemical reaction is often called a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condensation reaction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nce a water molecule is also produced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37" name="Picture 7" descr="http://homepages.ius.edu/GKIRCHNE/peptide.jpg"/>
          <p:cNvPicPr/>
          <p:nvPr/>
        </p:nvPicPr>
        <p:blipFill>
          <a:blip r:embed="rId1"/>
          <a:stretch/>
        </p:blipFill>
        <p:spPr>
          <a:xfrm>
            <a:off x="3505320" y="4191120"/>
            <a:ext cx="327636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rotein Structure: The Detail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re are 4 levels of protein structure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imary (1°)—sequence of amino acid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econdary (2°)—formation of motif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ertiary (3°)—folding into a conform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Quaternary (4°)—a combing of subuni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53880" indent="-2739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hall we examine each level more closely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rimary Protein Structure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equence of amino acid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41" name="05-24a-PrimaryStructure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60834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Elements Essential to Lif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. HOPKINS CaF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arbon, hydrogen, oxygen, phosphorous, potassium, iodine, nitrogen, sulfur, calcium and iron [add Mg for plants]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ose elements make up 95% of the biomass on earth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econd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434960" y="1447560"/>
            <a:ext cx="72518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condary structure involves the formation of motifs.  The two most common are the alpha helix and beta pleated shee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oth form as a result of hydrogen bond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44" name="Picture 4" descr="0040D2.BMP"/>
          <p:cNvPicPr/>
          <p:nvPr/>
        </p:nvPicPr>
        <p:blipFill>
          <a:blip r:embed="rId1"/>
          <a:srcRect l="8966" t="28309" r="0" b="22633"/>
          <a:stretch/>
        </p:blipFill>
        <p:spPr>
          <a:xfrm>
            <a:off x="1905120" y="4343400"/>
            <a:ext cx="4902120" cy="19810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" descr="0040D1.BMP"/>
          <p:cNvPicPr/>
          <p:nvPr/>
        </p:nvPicPr>
        <p:blipFill>
          <a:blip r:embed="rId2"/>
          <a:srcRect l="10618" t="25793" r="7805" b="25811"/>
          <a:stretch/>
        </p:blipFill>
        <p:spPr>
          <a:xfrm>
            <a:off x="1951200" y="3200400"/>
            <a:ext cx="4678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econd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47" name="Picture 5" descr="http://www.columbia.edu/cu/biology/courses/c2005/images/3levelpro.4.p.jpg"/>
          <p:cNvPicPr/>
          <p:nvPr/>
        </p:nvPicPr>
        <p:blipFill>
          <a:blip r:embed="rId1"/>
          <a:stretch/>
        </p:blipFill>
        <p:spPr>
          <a:xfrm>
            <a:off x="1676520" y="16002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Secondary Protein Structure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Alpha helix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49" name="Picture 2" descr="http://wiz2.pharm.wayne.edu/biochem/nsphelix1.jpg"/>
          <p:cNvPicPr/>
          <p:nvPr/>
        </p:nvPicPr>
        <p:blipFill>
          <a:blip r:embed="rId1"/>
          <a:stretch/>
        </p:blipFill>
        <p:spPr>
          <a:xfrm>
            <a:off x="2057400" y="2362320"/>
            <a:ext cx="53784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Secondary Protein Structure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Beta-pleated shee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51" name="Picture 2" descr="http://tainano.com/Molecular%20Biology%20Glossary.files/image025.gif"/>
          <p:cNvPicPr/>
          <p:nvPr/>
        </p:nvPicPr>
        <p:blipFill>
          <a:blip r:embed="rId1"/>
          <a:stretch/>
        </p:blipFill>
        <p:spPr>
          <a:xfrm>
            <a:off x="2189160" y="1828800"/>
            <a:ext cx="5573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Terti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 polypeptide chain is not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referred to as a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until it has formed its motifs AND further folded upon itself to form its complete 3-D conformation (shape)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 proteins shape is crucial to its function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s is accomplished by even more hydrogen bonding, some hydrophobic &amp; hydrophilic interactions, some polar interactions and the occasional formation of a disulfide bridg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Terti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55" name="Picture 2" descr="http://kvhs.nbed.nb.ca/gallant/biology/tertiary_structure.jpg"/>
          <p:cNvPicPr/>
          <p:nvPr/>
        </p:nvPicPr>
        <p:blipFill>
          <a:blip r:embed="rId1"/>
          <a:stretch/>
        </p:blipFill>
        <p:spPr>
          <a:xfrm>
            <a:off x="3124080" y="1219320"/>
            <a:ext cx="3032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Quatern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434960" y="1447560"/>
            <a:ext cx="7499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Quaternary structure involves the arrangement of multiple folded protein molecules in a multi-subunit complex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39480" indent="-2628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emoglobin is the usual example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58" name="Picture 7" descr="http://www.nlm.nih.gov/medlineplus/ency/images/ency/fullsize/19510.jpg"/>
          <p:cNvPicPr/>
          <p:nvPr/>
        </p:nvPicPr>
        <p:blipFill>
          <a:blip r:embed="rId1"/>
          <a:stretch/>
        </p:blipFill>
        <p:spPr>
          <a:xfrm>
            <a:off x="2408400" y="2782800"/>
            <a:ext cx="4876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Quatern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isfolded proteins are responsible for prion-related illnesses such as Creutzfeldt-Jakob disease, bovine spongiform encephalopathy (mad cow disease), amyloid-related illnesses such as Alzheimer's Disease, and a number of other forms of proteopathy such as cystic fibrosis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at’s a </a:t>
            </a:r>
            <a:r>
              <a:rPr b="0" i="1" lang="en-US" sz="2800" spc="-1" strike="noStrike">
                <a:solidFill>
                  <a:srgbClr val="000000"/>
                </a:solidFill>
                <a:latin typeface="Perpetua"/>
              </a:rPr>
              <a:t>prion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? short for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r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teinaceous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nfectious partic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3600" indent="-20088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’s an infectious agent [made of protein]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3600" indent="-20088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 known prion diseases affect the structure of the brain or other neural tissue, and all are currently untreatable and fata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1.  Enzyme Cata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lobular proteins with a 3-D shape that fits snugly around the chemicals they work 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y provide a surface for chemical reactions and stress particular chemical bond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y lower the activation energy of chemical reactions and thus, speed them up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1.  Enzyme Cata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64" name="05T-01g-Enzyme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5250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“i” word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ion, isomer &amp; isotop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371600" y="1752120"/>
            <a:ext cx="2984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What is an ion?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37120" indent="-1983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 atom that has lost electrons to form a (+) cation OR an atom that has gained electrons to form a (−) an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744120" indent="-191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744120" indent="-191880">
              <a:spcBef>
                <a:spcPts val="55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74" name="Picture 2" descr="http://www.nearingzero.net/screen_res/nz069.jpg"/>
          <p:cNvPicPr/>
          <p:nvPr/>
        </p:nvPicPr>
        <p:blipFill>
          <a:blip r:embed="rId1"/>
          <a:stretch/>
        </p:blipFill>
        <p:spPr>
          <a:xfrm>
            <a:off x="4648320" y="1828800"/>
            <a:ext cx="42163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2. Defens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lobular proteins that use their 3-D shape to recognize foreign microbes and cancer cell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y serve as cell surface receptors and form the core of the body’s hormone and immune syste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2. Defens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68" name="05T-01f-Defensive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1750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3. Trans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lobular proteins that transport specific small molecules and ion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Hemoglobin transports oxygen in bloo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yoglobin transports oxygen in muscl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ransferrin transports iron in bloo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3. Trans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72" name="05T-01c-Transport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4750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4. Structure &amp; Sup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1434960" y="1447920"/>
            <a:ext cx="74995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Fibrous or threadlike proteins that can form a matrix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Keratin in ha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brin in blood clo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llagen forms the matrix of the skin, ligaments, tendons and bones (it’s not just for lip injections!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llagen is the most abundant protein in a vertebrate bod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75" name="Picture 2" descr="http://fig.cox.miami.edu/~cmallery/150/physiol/40x2collagen.gif"/>
          <p:cNvPicPr/>
          <p:nvPr/>
        </p:nvPicPr>
        <p:blipFill>
          <a:blip r:embed="rId1"/>
          <a:stretch/>
        </p:blipFill>
        <p:spPr>
          <a:xfrm>
            <a:off x="3048120" y="4648320"/>
            <a:ext cx="48956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4. Structure &amp; Sup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77" name="05T-01a-StructuralProteins.mov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46576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7167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5. Mo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434600" y="1447560"/>
            <a:ext cx="74804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Filamentous proteins such as actin and myosin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37120" indent="-1983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scles contract through the sliding motion of these two protein filam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7120" indent="-1983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tractile proteins also play key roles in the cell’s cytoskeleton and in moving materials within cell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80" name="Picture 5" descr="0511.BMP"/>
          <p:cNvPicPr/>
          <p:nvPr/>
        </p:nvPicPr>
        <p:blipFill>
          <a:blip r:embed="rId1"/>
          <a:stretch/>
        </p:blipFill>
        <p:spPr>
          <a:xfrm>
            <a:off x="2870280" y="335268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5. Mo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82" name="05T-01e-Contractile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2667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6. Regula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434600" y="1447920"/>
            <a:ext cx="7404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mall proteins called hormones serve as intercellular (between cells) messengers in animal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Regulatory proteins also play many roles within a cel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urning on and shutting off genes during developme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oteins that receive information, acting as cell surface receptor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6. Regula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86" name="05T-01h-Signal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1000" fill="hold"/>
                                        <p:tgtEl>
                                          <p:spTgt spid="6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6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“i” word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ion, isomer &amp; isotop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1434960" y="1447920"/>
            <a:ext cx="7499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582120" indent="-2149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at does the prefix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iso-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mean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06040" indent="-207720">
              <a:lnSpc>
                <a:spcPct val="80000"/>
              </a:lnSpc>
              <a:spcBef>
                <a:spcPts val="425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same”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lvl="1" marL="582120" indent="-2149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at is an isomer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06040" indent="-207720">
              <a:lnSpc>
                <a:spcPct val="80000"/>
              </a:lnSpc>
              <a:spcBef>
                <a:spcPts val="425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Molecules with the same chemical formula, but different structural formulas.  Glucose has 36 isomers: half are sweet and half are bitter!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lvl="2" marL="806040" indent="-207720">
              <a:lnSpc>
                <a:spcPct val="80000"/>
              </a:lnSpc>
              <a:spcBef>
                <a:spcPts val="425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Same atoms, different arrangement, different shape, therefore </a:t>
            </a:r>
            <a:r>
              <a:rPr b="0" i="1" lang="en-US" sz="1700" spc="-1" strike="noStrike">
                <a:solidFill>
                  <a:srgbClr val="000000"/>
                </a:solidFill>
                <a:latin typeface="Perpetua"/>
              </a:rPr>
              <a:t>different function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77" name="Picture 2" descr="http://www.nearingzero.net/screen_res/nz079.jpg"/>
          <p:cNvPicPr/>
          <p:nvPr/>
        </p:nvPicPr>
        <p:blipFill>
          <a:blip r:embed="rId1"/>
          <a:stretch/>
        </p:blipFill>
        <p:spPr>
          <a:xfrm>
            <a:off x="1003320" y="3325680"/>
            <a:ext cx="2730600" cy="35323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http://www.nearingzero.net/screen_res/nz081.jpg"/>
          <p:cNvPicPr/>
          <p:nvPr/>
        </p:nvPicPr>
        <p:blipFill>
          <a:blip r:embed="rId2"/>
          <a:stretch/>
        </p:blipFill>
        <p:spPr>
          <a:xfrm>
            <a:off x="3743280" y="3338640"/>
            <a:ext cx="2752920" cy="35193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6" descr="http://www.nearingzero.net/screen_res/nz083.jpg"/>
          <p:cNvPicPr/>
          <p:nvPr/>
        </p:nvPicPr>
        <p:blipFill>
          <a:blip r:embed="rId3"/>
          <a:stretch/>
        </p:blipFill>
        <p:spPr>
          <a:xfrm>
            <a:off x="6443640" y="3352680"/>
            <a:ext cx="27259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How enzymes work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88" name="06-14-HowEnzymesWork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95417" fill="hold"/>
                                        <p:tgtEl>
                                          <p:spTgt spid="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CARBOHYDRATES (CH</a:t>
            </a:r>
            <a:r>
              <a:rPr b="1" lang="en-US" sz="4000" spc="-1" strike="noStrike" baseline="-25000">
                <a:solidFill>
                  <a:srgbClr val="5f688b"/>
                </a:solidFill>
                <a:latin typeface="Franklin Gothic Book"/>
              </a:rPr>
              <a:t>2</a:t>
            </a: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O)</a:t>
            </a:r>
            <a:r>
              <a:rPr b="1" lang="en-US" sz="4000" spc="-1" strike="noStrike" baseline="-25000">
                <a:solidFill>
                  <a:srgbClr val="5f688b"/>
                </a:solidFill>
                <a:latin typeface="Franklin Gothic Book"/>
              </a:rPr>
              <a:t>n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Glycosidic Bond Formation: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A specific type of </a:t>
            </a:r>
            <a:r>
              <a:rPr b="0" i="1" lang="en-US" sz="3200" spc="-1" strike="noStrike">
                <a:solidFill>
                  <a:srgbClr val="5f688b"/>
                </a:solidFill>
                <a:latin typeface="Franklin Gothic Book"/>
              </a:rPr>
              <a:t>dehydration synthesis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92" name="Content Placeholder 6" descr="0031A.BMP"/>
          <p:cNvPicPr/>
          <p:nvPr/>
        </p:nvPicPr>
        <p:blipFill>
          <a:blip r:embed="rId1"/>
          <a:srcRect l="0" t="29171" r="0" b="29171"/>
          <a:stretch/>
        </p:blipFill>
        <p:spPr>
          <a:xfrm>
            <a:off x="1600200" y="4495680"/>
            <a:ext cx="6858000" cy="2143080"/>
          </a:xfrm>
          <a:prstGeom prst="rect">
            <a:avLst/>
          </a:prstGeom>
          <a:ln w="0">
            <a:noFill/>
          </a:ln>
        </p:spPr>
      </p:pic>
      <p:sp>
        <p:nvSpPr>
          <p:cNvPr id="693" name="Content Placeholder 4"/>
          <p:cNvSpPr/>
          <p:nvPr/>
        </p:nvSpPr>
        <p:spPr>
          <a:xfrm>
            <a:off x="1434960" y="1447920"/>
            <a:ext cx="7404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osacchar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joined together to form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acchar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lycosidic bo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form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ype of chemical reaction is also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densation reac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a water molecule is produc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Disaccharide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95" name="05-05-Disaccharide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2167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Glycosidic Bond Formation: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A specific type of </a:t>
            </a:r>
            <a:r>
              <a:rPr b="0" i="1" lang="en-US" sz="3200" spc="-1" strike="noStrike">
                <a:solidFill>
                  <a:srgbClr val="5f688b"/>
                </a:solidFill>
                <a:latin typeface="Franklin Gothic Book"/>
              </a:rPr>
              <a:t>dehydration synthesis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7" name="Content Placeholder 4"/>
          <p:cNvSpPr/>
          <p:nvPr/>
        </p:nvSpPr>
        <p:spPr>
          <a:xfrm>
            <a:off x="1371600" y="1905120"/>
            <a:ext cx="7404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ore than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osacchar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joined together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lycosidic bonds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polysacchari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100+ monomer units have been joined, a starch is formed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arch, Cellulose &amp; Glycogen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9" name="Content Placeholder 4"/>
          <p:cNvSpPr/>
          <p:nvPr/>
        </p:nvSpPr>
        <p:spPr>
          <a:xfrm>
            <a:off x="1219320" y="1600200"/>
            <a:ext cx="7556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long (100's) polymer of Glucose molecules, where all the sugars are oriented in the same direction. Starch is one of the primary sources of calories for hum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long (100's) polymer of Glucose molecules. However the orientation of the sugars is a little different. In Cellulose, every other sugar molecule is "upside-down". This small difference in structure makes a big difference in the way we use this molecule. Most animals can’t digest this well.  Termi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Glucose polymer. Glycogen is a stored energy source, found in the Liver and muscles of Humans. Glycogen is different from both Starch and Cellulose in that the Glucose chain is branched or "forked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http://bioweb.wku.edu/courses/BIOL115/Wyatt/Biochem/Carbos/Carb_poly.gif"/>
          <p:cNvPicPr/>
          <p:nvPr/>
        </p:nvPicPr>
        <p:blipFill>
          <a:blip r:embed="rId1"/>
          <a:stretch/>
        </p:blipFill>
        <p:spPr>
          <a:xfrm>
            <a:off x="1676520" y="304920"/>
            <a:ext cx="60195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olysaccharide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02" name="05-07-Polysaccharide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9750" fill="hold"/>
                                        <p:tgtEl>
                                          <p:spTgt spid="7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02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02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7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LIPIDS: FATS &amp; OILS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Lipid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06" name="05-10-Fats.mov" descr=""/>
          <p:cNvPicPr/>
          <p:nvPr/>
        </p:nvPicPr>
        <p:blipFill>
          <a:blip r:embed="rId1"/>
          <a:stretch/>
        </p:blipFill>
        <p:spPr>
          <a:xfrm>
            <a:off x="1905120" y="1576440"/>
            <a:ext cx="60195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29417" fill="hold"/>
                                        <p:tgtEl>
                                          <p:spTgt spid="7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2" dur="1" fill="hold"/>
                                        <p:tgtEl>
                                          <p:spTgt spid="7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“i” word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ion, isomer &amp; isotop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294920" y="1599840"/>
            <a:ext cx="7239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556200" indent="-2055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at is an isotope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0760" indent="-198720">
              <a:spcBef>
                <a:spcPts val="7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toms of elements that have the same atomic number (# of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ut a different number of neutrons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Perpetua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.  Think Carbon-12 vs. Carbon-13 vs. Carbon-14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0760" indent="-19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70760" indent="-19872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82" name="Picture 2" descr="http://www.nearingzero.net/screen_res/nz337.jpg"/>
          <p:cNvPicPr/>
          <p:nvPr/>
        </p:nvPicPr>
        <p:blipFill>
          <a:blip r:embed="rId1"/>
          <a:stretch/>
        </p:blipFill>
        <p:spPr>
          <a:xfrm>
            <a:off x="4724280" y="3657600"/>
            <a:ext cx="3951360" cy="29811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http://www.nearingzero.net/screen_res/nz169.jpg"/>
          <p:cNvPicPr/>
          <p:nvPr/>
        </p:nvPicPr>
        <p:blipFill>
          <a:blip r:embed="rId2"/>
          <a:stretch/>
        </p:blipFill>
        <p:spPr>
          <a:xfrm>
            <a:off x="1163520" y="3430440"/>
            <a:ext cx="358164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Fat vs. Oil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1434600" y="1447920"/>
            <a:ext cx="7556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Fats are solids at room temperature.  They are saturated [with H atoms—all single bonds]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31920" indent="-25704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ils are liquids at room temperature. They are unsaturated and contain one or more double bonds [unsaturated vs. </a:t>
            </a:r>
            <a:r>
              <a:rPr b="0" i="1" lang="en-US" sz="2800" spc="-1" strike="noStrike">
                <a:solidFill>
                  <a:srgbClr val="000000"/>
                </a:solidFill>
                <a:latin typeface="Perpetua"/>
              </a:rPr>
              <a:t>poly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unsaturated]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09" name="Picture 2" descr="http://fig.cox.miami.edu/~cmallery/150/chemistry/c5x11saturatedfats.jpg"/>
          <p:cNvPicPr/>
          <p:nvPr/>
        </p:nvPicPr>
        <p:blipFill>
          <a:blip r:embed="rId1"/>
          <a:stretch/>
        </p:blipFill>
        <p:spPr>
          <a:xfrm>
            <a:off x="2438280" y="3683160"/>
            <a:ext cx="59245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hospholip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11" name="Picture 2" descr="http://telstar.ote.cmu.edu/biology/MembranePage/images/phospholipid.jpg"/>
          <p:cNvPicPr/>
          <p:nvPr/>
        </p:nvPicPr>
        <p:blipFill>
          <a:blip r:embed="rId1"/>
          <a:stretch/>
        </p:blipFill>
        <p:spPr>
          <a:xfrm>
            <a:off x="1981080" y="1600200"/>
            <a:ext cx="6286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hospholipid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13" name="Picture 4" descr="0071BLLL.BMP"/>
          <p:cNvPicPr/>
          <p:nvPr/>
        </p:nvPicPr>
        <p:blipFill>
          <a:blip r:embed="rId1"/>
          <a:stretch/>
        </p:blipFill>
        <p:spPr>
          <a:xfrm>
            <a:off x="1676520" y="121932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ero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1434960" y="1447920"/>
            <a:ext cx="74995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teroids comprise a group of compounds with four interlocking carbon rings. Examples of steroids are bile acids, cholesterol, and adrenal hormones including estrogen, testosterone &amp; progesteron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16" name="Picture 2" descr="http://www.wellesley.edu/Chemistry/Chem101/hormones/steroids.gif"/>
          <p:cNvPicPr/>
          <p:nvPr/>
        </p:nvPicPr>
        <p:blipFill>
          <a:blip r:embed="rId1"/>
          <a:stretch/>
        </p:blipFill>
        <p:spPr>
          <a:xfrm>
            <a:off x="3200400" y="3429000"/>
            <a:ext cx="48196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ero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434960" y="1447560"/>
            <a:ext cx="7499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anabolic steroids you hear so much about try to capture the tissue building properties of testosterone. 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Note that the word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an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is associated with a synthesis of biomaterials while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cat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is a tearing down of biomaterials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You are more familiar with the summary term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met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f you go on a diet, you want to increase your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cat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and decrease your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an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Gene Regulatory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20" name="05T-01j-GeneRegulatoryProt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5334" fill="hold"/>
                                        <p:tgtEl>
                                          <p:spTgt spid="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2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NUCLEIC ACIDS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Structure of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 DNA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219320" y="1295280"/>
            <a:ext cx="3657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NA is composed of nucleotides which are composed of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75640" indent="-2127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deoxyribose sugar molecu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75640" indent="-2127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phospha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75640" indent="-2127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nitrogen bas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den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uan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ytos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ym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25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00600" y="457200"/>
            <a:ext cx="4343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ructure of  DNA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1218960" y="19051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carbons of deoxyribose or ribose are numbered. 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 forming a nucleotide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nitrogen base bonds with the #1 carb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hosphate groups bind with the #3 and #5 carbons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28" name="Picture 4" descr="http://dl.clackamas.edu/ch106-09/images/ribnum2.gif"/>
          <p:cNvPicPr/>
          <p:nvPr/>
        </p:nvPicPr>
        <p:blipFill>
          <a:blip r:embed="rId1"/>
          <a:stretch/>
        </p:blipFill>
        <p:spPr>
          <a:xfrm>
            <a:off x="6242040" y="2362320"/>
            <a:ext cx="2901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2" descr="http://www.mun.ca/biology/scarr/T_vs_U.gif"/>
          <p:cNvPicPr/>
          <p:nvPr/>
        </p:nvPicPr>
        <p:blipFill>
          <a:blip r:embed="rId1"/>
          <a:stretch/>
        </p:blipFill>
        <p:spPr>
          <a:xfrm>
            <a:off x="1852560" y="40006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DNA vs. RNA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1434600" y="1447920"/>
            <a:ext cx="42800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NA is doubly stranded, RNA is singly strand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17520" indent="-2455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eoxyribose is replaced with ribos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17520" indent="-2455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ymine is replaced with uraci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32" name="Picture 2" descr="http://www.layevangelism.com/bastxbk/images/deoxyribose.jpg"/>
          <p:cNvPicPr/>
          <p:nvPr/>
        </p:nvPicPr>
        <p:blipFill>
          <a:blip r:embed="rId2"/>
          <a:stretch/>
        </p:blipFill>
        <p:spPr>
          <a:xfrm>
            <a:off x="6172200" y="1676520"/>
            <a:ext cx="261000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arbon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434600" y="1447920"/>
            <a:ext cx="7099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Carbon has 6 valence electrons: 1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s</a:t>
            </a:r>
            <a:r>
              <a:rPr b="0" lang="en-US" sz="3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 2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s</a:t>
            </a:r>
            <a:r>
              <a:rPr b="0" lang="en-US" sz="3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2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56200" indent="-2055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nly the 4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valenc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lectrons in the second (2), principal energy level participate in chemical reaction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56200" indent="-2055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rbon hybridizes its one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nd three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sublevels to form 4 hybrid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sublevels.  Why?  There is an energy payoff for carbon (see the energy diagram below)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56200" indent="-2055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a result, carbon forms 4 equivalent bonds and is very stable, hence its abundance on ea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86" name="Picture 2" descr="http://tcdsbstaff.ednet.ns.ca/devillg/ib/pics/hybrid.gif"/>
          <p:cNvPicPr/>
          <p:nvPr/>
        </p:nvPicPr>
        <p:blipFill>
          <a:blip r:embed="rId1"/>
          <a:stretch/>
        </p:blipFill>
        <p:spPr>
          <a:xfrm>
            <a:off x="3048120" y="5029200"/>
            <a:ext cx="36576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hosphodiester Bond Formation: Another Dehydration Synthe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34" name="Picture 2" descr="http://fig.cox.miami.edu/~cmallery/150/chemistry/sf3x14a.jpg"/>
          <p:cNvPicPr/>
          <p:nvPr/>
        </p:nvPicPr>
        <p:blipFill>
          <a:blip r:embed="rId1"/>
          <a:stretch/>
        </p:blipFill>
        <p:spPr>
          <a:xfrm>
            <a:off x="1905120" y="1752480"/>
            <a:ext cx="609588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Hydrogen Bonds Hold the Double Helix Together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36" name="Picture 2" descr="http://fig.cox.miami.edu/~cmallery/150/gene/c16x6base-pairs.jpg"/>
          <p:cNvPicPr/>
          <p:nvPr/>
        </p:nvPicPr>
        <p:blipFill>
          <a:blip r:embed="rId1"/>
          <a:stretch/>
        </p:blipFill>
        <p:spPr>
          <a:xfrm>
            <a:off x="3429000" y="1752480"/>
            <a:ext cx="2838600" cy="4048200"/>
          </a:xfrm>
          <a:prstGeom prst="rect">
            <a:avLst/>
          </a:prstGeom>
          <a:ln w="0">
            <a:noFill/>
          </a:ln>
        </p:spPr>
      </p:pic>
      <p:sp>
        <p:nvSpPr>
          <p:cNvPr id="737" name="TextBox 5"/>
          <p:cNvSpPr/>
          <p:nvPr/>
        </p:nvSpPr>
        <p:spPr>
          <a:xfrm>
            <a:off x="16002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5064"/>
                </a:solidFill>
                <a:latin typeface="Arial"/>
              </a:rPr>
              <a:t>Pur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6"/>
          <p:cNvSpPr/>
          <p:nvPr/>
        </p:nvSpPr>
        <p:spPr>
          <a:xfrm>
            <a:off x="6934320" y="3733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73d"/>
                </a:solidFill>
                <a:latin typeface="Arial"/>
              </a:rPr>
              <a:t>Pyrimad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Straight Arrow Connector 8"/>
          <p:cNvCxnSpPr/>
          <p:nvPr/>
        </p:nvCxnSpPr>
        <p:spPr>
          <a:xfrm flipV="1">
            <a:off x="2514600" y="3504960"/>
            <a:ext cx="1296000" cy="38160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  <p:cxnSp>
        <p:nvCxnSpPr>
          <p:cNvPr id="740" name="Straight Arrow Connector 10"/>
          <p:cNvCxnSpPr/>
          <p:nvPr/>
        </p:nvCxnSpPr>
        <p:spPr>
          <a:xfrm>
            <a:off x="2514600" y="4114800"/>
            <a:ext cx="1372320" cy="14486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  <p:cxnSp>
        <p:nvCxnSpPr>
          <p:cNvPr id="741" name="Straight Arrow Connector 12"/>
          <p:cNvCxnSpPr/>
          <p:nvPr/>
        </p:nvCxnSpPr>
        <p:spPr>
          <a:xfrm flipH="1" flipV="1">
            <a:off x="6171840" y="3504960"/>
            <a:ext cx="838800" cy="30528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  <p:cxnSp>
        <p:nvCxnSpPr>
          <p:cNvPr id="742" name="Straight Arrow Connector 14"/>
          <p:cNvCxnSpPr/>
          <p:nvPr/>
        </p:nvCxnSpPr>
        <p:spPr>
          <a:xfrm flipH="1">
            <a:off x="6171840" y="4114800"/>
            <a:ext cx="915120" cy="137232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DNA is Antiparallel and ALWAYS </a:t>
            </a:r>
            <a:r>
              <a:rPr b="0" i="1" lang="en-US" sz="3900" spc="-1" strike="noStrike">
                <a:solidFill>
                  <a:srgbClr val="5f688b"/>
                </a:solidFill>
                <a:latin typeface="Franklin Gothic Book"/>
              </a:rPr>
              <a:t>synthesized</a:t>
            </a: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 in the 5′ to 3′ Direc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44" name="Picture 2" descr="DNa"/>
          <p:cNvPicPr/>
          <p:nvPr/>
        </p:nvPicPr>
        <p:blipFill>
          <a:blip r:embed="rId1"/>
          <a:stretch/>
        </p:blipFill>
        <p:spPr>
          <a:xfrm>
            <a:off x="3429000" y="1523880"/>
            <a:ext cx="43434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DNA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46" name="16-05-DNAstructNarrAnim_S.mov" descr=""/>
          <p:cNvPicPr/>
          <p:nvPr/>
        </p:nvPicPr>
        <p:blipFill>
          <a:blip r:embed="rId1"/>
          <a:stretch/>
        </p:blipFill>
        <p:spPr>
          <a:xfrm>
            <a:off x="3660840" y="27050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53667" fill="hold"/>
                                        <p:tgtEl>
                                          <p:spTgt spid="7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4" dur="1" fill="hold"/>
                                        <p:tgtEl>
                                          <p:spTgt spid="7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arbon &amp; Functional Group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019920" y="1523520"/>
            <a:ext cx="2527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erpetua"/>
              </a:rPr>
              <a:t>Carbon combines readily with other abundant atoms on earth to form very stable functional groups. 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89" name="Picture 5" descr="0027.BMP"/>
          <p:cNvPicPr/>
          <p:nvPr/>
        </p:nvPicPr>
        <p:blipFill>
          <a:blip r:embed="rId1"/>
          <a:srcRect l="31882" t="7501" r="9989" b="0"/>
          <a:stretch/>
        </p:blipFill>
        <p:spPr>
          <a:xfrm>
            <a:off x="1066680" y="1219320"/>
            <a:ext cx="487692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Hydrogen Bond 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(which, by the way, is not actually a bond)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Water makes life on this planet possible.  Therefore, biology is “all wet”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o, there are two VERY important aspects of water that you need to NEVER, EVER forget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ater is pola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ater forms “hydrogen bonds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7:29:05Z</dcterms:created>
  <dc:creator> René McCormick</dc:creator>
  <dc:description/>
  <dc:language>en-US</dc:language>
  <cp:lastModifiedBy>Rene McCormick</cp:lastModifiedBy>
  <dcterms:modified xsi:type="dcterms:W3CDTF">2008-10-30T16:00:32Z</dcterms:modified>
  <cp:revision>56</cp:revision>
  <dc:subject/>
  <dc:title>Slide 1</dc:title>
</cp:coreProperties>
</file>