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11.jpeg" ContentType="image/jpeg"/>
  <Override PartName="/ppt/media/image44.png" ContentType="image/png"/>
  <Override PartName="/ppt/media/image46.png" ContentType="image/png"/>
  <Override PartName="/ppt/media/image45.png" ContentType="image/png"/>
  <Override PartName="/ppt/media/image51.jpeg" ContentType="image/jpeg"/>
  <Override PartName="/ppt/media/image31.png" ContentType="image/png"/>
  <Override PartName="/ppt/media/image52.jpeg" ContentType="image/jpeg"/>
  <Override PartName="/ppt/media/image53.jpeg" ContentType="image/jpeg"/>
  <Override PartName="/ppt/media/image54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40C0-75AD-4B96-BCCE-38193F9C084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C714-68FC-49D9-8B55-EFC7BEC1A3D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B30F-EC4F-45FC-B0C6-F9EC1503889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6424-EB19-413B-B56B-BDBB55750F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223-58FE-4675-8B11-71F4D5DDB8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E23-E761-4B87-802A-BB69CD6A53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55AC-5A14-4F13-A999-308CF611744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1390-2A31-4F66-995C-944DD522F92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34EA-5301-4EFD-BDB2-8F4F64EFF6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511D-722A-4B17-B54A-99C10DB5E7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24E2-44FD-46DD-AE73-9D56EDD0B4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F2F7-655F-4378-8275-8740F01F9A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0453-B52E-4C1A-A93A-0B9471C765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55D3-6E4A-4B73-B229-CCBB3058D1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9205-004B-4DDF-8CA4-69EF2AE0828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C54E-0A18-4BDB-AB96-C4468215E8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E512-7B5F-4274-B4FE-44E46458D53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E2DD-B0F1-4413-93E5-0325369272E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167B-14F6-46A9-B862-D36156B40AC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A7C5-FEEB-4C83-9DC7-9ACED9FA41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B8AD-B422-423A-9CB4-471F8BFCFB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897B-D87D-4955-A4F4-0BE88424531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5B69-0F37-43F6-877F-8B06DD447EF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A2CD-0833-41CB-8D23-352189F6107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B155-6E37-429D-9A16-4D62893AB5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22E-5DF6-4AA0-84B7-A738B819EC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891F-4132-4DAA-9F3C-0D7DE7FACA4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66A6-423D-403C-AE64-0EEC1931127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8886-331A-4CE3-9DC0-5538E59BD2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51B0-3518-44DA-84AD-6627D1AC98B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DB5F-D274-4C64-A4D1-AE09D7C0BAB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0B32-9E04-4186-9B0C-461A2BDE74A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CE84-28FA-4F5A-B823-E563EB52083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CF5A-BAA4-47AC-B7FB-D7001E74A09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AE59-76E2-4123-8F98-F7433F1A8B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4142-5D24-4A8C-B8EB-E8FE71B02BF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3157-76D6-4E82-BCC7-0E3DE566F8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391B-9313-4072-9C99-5F8A3218A49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3AF3-97EA-4F5E-8862-DD84B3750A8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392F-196B-42B1-9590-A9896C0A98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3E80-A6EF-444A-A490-890ED374F3A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6C93-9ACC-4A1D-AAB3-E0A3C49A3A8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BBFD-A1A0-4499-A781-8E34D15A09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F2D1-1F60-4A1A-A297-1AD856046BA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E2E0-145A-46DB-8209-ADBFD5EDF2D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40E4-4297-4327-A994-632D25158F7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9E16-D10A-49B4-A1AE-3C6AAB1060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EA10-F79F-4483-8EA5-10935A6A1A6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9A74-458B-48D5-9B77-D5316D14B43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3FDE-8C3F-4947-9089-8E72E830DB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375F-56E1-427F-96A6-18671B9A477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EE15-8039-411B-A877-32DDA5EB74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2ABF-1FD8-4BDA-9E7E-029170095F6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817D-5FD9-4D97-95DE-BE5C20E6DF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CF2-348C-4F35-BE84-0297FFE276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95D9-5888-403E-983C-ABE1F7EC5A8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C8BB-313A-44F3-BB65-24AEEE8511A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C384-D840-4358-B05D-068A9314B82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E935-F3B6-4D35-A932-256F7BADC21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4164-EA2F-4F18-89C7-BEA8D1274E6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7C93-11B5-49EF-A7FF-D5FCE6952A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D416-9E42-4D95-A4D3-0545A7358E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9870-F6A4-44EE-9DC1-B1D0DAD6066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E90F-31F6-4A95-9524-065A1F2E06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A51B-1071-48BD-AF49-D0DADB09E95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E641-CCA5-4D95-B127-DCFDA2D35F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C42-582D-44F7-A02F-343A9C88ABE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3856-4D48-4C23-9C1B-CD7C81CAB65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F033-DA3B-4DBA-A929-9245F78739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35FB-37ED-41E5-84EE-4320399BC3B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29DC-587F-43AF-A5DF-13C32607880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23BE-CB28-457A-9CEB-BD1D60F9776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8179-EDFC-45B0-ACB4-9B60C62E7C3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A0EA-68C5-4CE7-B7FE-E6543355D89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FF3-D4D4-42CA-9135-74F0DF5D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94C-78DC-4D0F-84D0-1DD282DC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CB6F4-5651-4B2D-A230-77B175C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DFD62-88EE-416D-8A82-7CCFA914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A1DD3-CFF4-427A-9D69-65D0D4C8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9BF23-9D1B-49CE-8077-C098B624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F1119-C5AC-49EE-A572-14E2B18D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0036B-4EB5-44F2-91B9-F8CFC096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51C1D-7343-4CA6-B3A1-253A94BC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9DD2E-A9EE-449D-9079-8A7FAB54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32544-9986-4E30-9F42-35699C5C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4F751-4D6C-439D-BF91-9FBD0D26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A84-1EB9-4AF2-A95A-ADADE496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0DCD0-E28D-4EF9-873D-E249AF5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72D27-75FF-450A-B0E7-34551B8C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C11A2-2D62-4B97-866F-548D2679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C4DE2-6C79-4F51-9EA2-FEB779E8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0D7C1-869A-4565-9041-6A419D17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EFCCF-A5CA-4365-940B-A430845C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35117-906A-49E3-ABFD-450C585C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93BB4-1D70-4DA3-A141-CF87E58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81264-FBB2-4509-B6B0-A8F82774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51AD1-47EF-4C69-A28C-07076150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ED8-D699-44B0-A7E5-209FF6AC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8EE49-1BDF-4279-A343-81DEF4B6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CCA27-9E5A-494E-A165-7AB4F87C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381BE-2660-4BDB-A1AB-69BE114F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9FF05-3E8C-4135-8D26-CCCB63F5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8F007-8C64-4B20-B4CB-0E7E89EC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02445-4C99-4468-BA93-8632AC53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B0C3F-CCD3-4FA1-A0EF-5F75BD4B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E238E-CFFB-4193-8592-9464EE48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A997C-C52D-435D-B6DE-C56F7510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CC60F-F36E-4FDE-9468-A4D3AB7F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3D62-ABF3-42D6-8CFA-FF4A6DDE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96BD9-31BC-4E7B-BD7E-D9CEFC1C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A35B1-6FFF-4CC8-B506-27301654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23CBE-A8BC-4408-8C0E-2ABED0A7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F24B0-5164-46FE-83B7-F7C45B7B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28C60-3DA1-47AE-A017-6534C11B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55271-EC55-435C-AD88-15370207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D1FEA-BDD2-451E-976B-892E08C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9C5A5-D4C1-42BE-AC32-2CF1751E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9AA93-6044-4386-B868-F12CA1C8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62120-9E63-4462-AD39-B94D3353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C509-8650-4042-B1FD-B855AD02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E3639-F8ED-4D96-A25A-0EDD99CB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2FDF2-1A0F-4E0C-AF94-0EFEDB3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EA3E8-EBF6-4101-9A0C-800DDB86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5F290-6256-4D25-97D4-08434ACD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9D750-17C5-4839-9E85-02BF9B53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DEDB-2856-4C1A-85C3-D46BEA29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49EA-FEBD-4344-B62B-02F530DA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3E18-0920-4EBD-BB5D-BD05816E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EAD6-BBE5-4A39-B9BA-EDA71E89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E582-4CB2-4F83-9B1F-11E7E14B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963-28AC-40F4-B0E5-809EA8AD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ABB1-4261-4C40-9A34-80AEC8EB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3057-9DC5-40CD-B933-86B824B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A295-1E61-46D1-93EA-42289813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CEAC-9ECF-493E-9415-C3AAB66E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96C0-5960-48C1-9442-D5F72C90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86BD-8ECF-47C9-8A75-1B7DDCFB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8313-0BFA-4682-870B-DE716BEE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E537-5CC4-409F-917D-E477A834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5D19-7533-413F-8697-083F7520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0ACDD-D108-46A6-BB43-1AF20905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03B-D849-4D1F-BE6F-9B9667CF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922D5-89AB-4229-A70A-6213D87D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478A-5EFC-484C-9729-1155161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8525-2543-4969-BEBB-A035DEA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E87F-8AB8-4AF2-AFFA-63AEB8BE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9375-E7A6-4AF1-A381-714B545F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BA75-5A8F-4825-82B7-698EE6FB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AE61-2665-4288-87C7-07712973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853A8-D573-44F4-8050-518411F6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EF9D-A02C-485A-BB86-BF2E0D79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D2D6E-86E8-44BB-BFE8-78E1E4ED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3EC-C2EC-43E6-A7DE-42F3D2CD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04FB4-372F-44C6-BFDF-03449763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8662-6632-49A9-965F-F32FC857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7269-8C2F-4178-B38C-90234813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B94D-6463-48DE-9B27-8E6DA7F6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D34B-C4A2-4788-9E55-6EC9421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CB4A-ACE8-4A60-94B3-3AC1B73F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8FDFC-C4C2-4ECD-849A-3FECAB0E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DD03-27CA-42A1-AB00-1A9FDA64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4646-2C61-42B4-8F1A-E5A125EA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C9896-9272-4E05-92A5-99CFC3F5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2D0-755F-4661-B8A3-CAD5643C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23B52-D7A9-4B48-BBA0-8883CFDE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D596-CF0E-4EEA-BD1C-975C040F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93D1-5AB6-4CA1-8561-9616CA61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FB488-7714-4AD3-8619-664B9FAD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9D7D9-8B9B-4BFF-8F55-B78C7E89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DC07-69AF-4C6F-8A85-6EFF252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0C094-28CE-44B0-A166-FBC8A181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CFBF4-1A2F-4584-97DA-7B9336E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1316C-2BDF-4F7B-AF09-2C778C67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14DE-F51B-4FF0-ABC2-E76A499A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8C4-2F66-4968-9576-489DFD8F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8DCBA-65FD-49D1-B0FA-4CD7FD91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1603B-8EA2-4B78-A2C4-64C4CC7F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5AE49-CCAC-4CFD-AB7F-E80CFCEF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C63D4-3B94-40E4-A41A-F18DBCEB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8B560-C909-468C-933C-0573897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52769-0573-4F28-9D5C-CECA6D66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212CB-E108-4441-9380-1BB47865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24892-F539-4CBB-A02A-FF54AC2A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829E-A288-410F-88AD-1CEAAE2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4BB2F-C7A2-491C-9B39-11CACC31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422-EBBB-4F47-8B07-37D8C968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83B20-C4E2-4BD4-8E69-6A251FE7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3A54A-28F3-4718-9C98-EF443F1F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4CA8-FF06-4511-ACDF-4996FF59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3AB11-728C-4768-B5E6-03F56C86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764D0-78F6-4997-8D99-27200913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12B4E-FA95-4DFB-94FC-2453083F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9101-5428-4A04-B8E7-CD536296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61B1-A2A0-4A4B-9784-C59A049A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E377F-9E75-425D-9A6C-433E0574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4B6FE-128A-4B65-B0ED-A8A5A3D8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524-A7EC-4DE9-AB8B-F70ED94B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DA764-B648-4BB3-A394-E81766C1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43B68-221C-4CEE-8BBF-3AEBF99C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92F52-1745-4017-A990-3FB41F0D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AC5D5-4662-46F9-8B25-375FE12D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1A3A7-DDB2-4EA3-8605-A88AC1B2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6EE92-0059-4A02-A716-0957F69E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64A51-2B57-4310-A5CD-96B76B0A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EEC03-4EA4-4E2E-8B60-D40D4890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FA3AC-35D8-4315-B265-6F1B2344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62CD5-9B50-424E-B765-A6AE0BB2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601-1C51-404B-902C-12D751DE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66394-5ABD-40B8-833A-C38B68BE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1153D-DDD2-4EF4-B95D-0F331BE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5ED5-BDE2-4580-BA6D-778FB81A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78842-9F28-4FE8-93F7-E53F20C0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09EA2-1397-4CF6-94BE-8851A16B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ECD4-31ED-4F3E-A44C-7EFB1D3F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A6F8C-EDA0-46BA-9D63-D2B20D61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B3F53-ADCF-419B-ACDC-8FCF88E1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919D5-BBCF-4CA7-BB18-4582B4F7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AC592-D40A-424A-AF78-4F4BF3FB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377E-A93C-42F3-A8C1-732651FF052A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F45A-DAB8-4815-8A6B-6E78C9FA8719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B3BE-354B-41EA-8F0A-0E16A4F15FE5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1CC2-D019-439B-A718-EF6648EE5A64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720" y="655272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209680" y="6095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0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5062-25C8-43A4-8725-92CED2297E12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24F7-3ADB-44DC-A588-646A5A603396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2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</a:t>
            </a:r>
            <a:r>
              <a:rPr b="0" lang="en-US" sz="1000" spc="-1" strike="noStrike">
                <a:solidFill>
                  <a:srgbClr val="899ba4"/>
                </a:solidFill>
                <a:latin typeface="Perpetu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2CCD-4CDE-46FD-958E-002CAEEBE283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5CE9-64AC-4B88-A879-022A1CF413C0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7EFE-8C00-4037-AB41-7D03413F04B1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Copyright 2008 by René McCormick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National Math and Science Initiative, Inc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AP</a:t>
            </a:r>
            <a:r>
              <a:rPr b="0" lang="en-US" sz="1100" spc="-1" strike="noStrike" baseline="30000">
                <a:solidFill>
                  <a:srgbClr val="899ba4"/>
                </a:solidFill>
                <a:latin typeface="Perpetua"/>
              </a:rPr>
              <a:t>®</a:t>
            </a:r>
            <a:r>
              <a:rPr b="0" lang="en-US" sz="1100" spc="-1" strike="noStrike">
                <a:solidFill>
                  <a:srgbClr val="899ba4"/>
                </a:solidFill>
                <a:latin typeface="Perpetua"/>
              </a:rPr>
              <a:t> is a registered trademark of the College Board. The College Board was not involved in the production of this product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495E-A161-4795-A1C5-122402AE98B2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86E9-35D7-486F-80EC-F405C646082A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990360" y="6381360"/>
            <a:ext cx="106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Perpet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2743200" y="6171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Perpet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BFC3-79D4-45E9-87D4-A033BBA268CA}" type="slidenum">
              <a:rPr b="0" lang="en-US" sz="1200" spc="-1" strike="noStrike">
                <a:solidFill>
                  <a:srgbClr val="899ba4"/>
                </a:solidFill>
                <a:latin typeface="Perpet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tionalmathandscience.org/index.php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anine" TargetMode="External"/><Relationship Id="rId2" Type="http://schemas.openxmlformats.org/officeDocument/2006/relationships/hyperlink" Target="http://en.wikipedia.org/wiki/Arginine" TargetMode="External"/><Relationship Id="rId3" Type="http://schemas.openxmlformats.org/officeDocument/2006/relationships/hyperlink" Target="http://en.wikipedia.org/wiki/Asparagine" TargetMode="External"/><Relationship Id="rId4" Type="http://schemas.openxmlformats.org/officeDocument/2006/relationships/hyperlink" Target="http://en.wikipedia.org/wiki/Aspartate" TargetMode="External"/><Relationship Id="rId5" Type="http://schemas.openxmlformats.org/officeDocument/2006/relationships/hyperlink" Target="http://en.wikipedia.org/wiki/Cysteine" TargetMode="External"/><Relationship Id="rId6" Type="http://schemas.openxmlformats.org/officeDocument/2006/relationships/hyperlink" Target="http://en.wikipedia.org/wiki/Glutamate" TargetMode="External"/><Relationship Id="rId7" Type="http://schemas.openxmlformats.org/officeDocument/2006/relationships/hyperlink" Target="http://en.wikipedia.org/wiki/Glutamine" TargetMode="External"/><Relationship Id="rId8" Type="http://schemas.openxmlformats.org/officeDocument/2006/relationships/hyperlink" Target="http://en.wikipedia.org/wiki/Glycine" TargetMode="External"/><Relationship Id="rId9" Type="http://schemas.openxmlformats.org/officeDocument/2006/relationships/hyperlink" Target="http://en.wikipedia.org/wiki/Histidine" TargetMode="External"/><Relationship Id="rId10" Type="http://schemas.openxmlformats.org/officeDocument/2006/relationships/hyperlink" Target="http://en.wikipedia.org/wiki/Isoleucine" TargetMode="External"/><Relationship Id="rId11" Type="http://schemas.openxmlformats.org/officeDocument/2006/relationships/hyperlink" Target="http://en.wikipedia.org/wiki/Leucine" TargetMode="External"/><Relationship Id="rId12" Type="http://schemas.openxmlformats.org/officeDocument/2006/relationships/hyperlink" Target="http://en.wikipedia.org/wiki/Lysine" TargetMode="External"/><Relationship Id="rId13" Type="http://schemas.openxmlformats.org/officeDocument/2006/relationships/hyperlink" Target="http://en.wikipedia.org/wiki/Methionine" TargetMode="External"/><Relationship Id="rId14" Type="http://schemas.openxmlformats.org/officeDocument/2006/relationships/hyperlink" Target="http://en.wikipedia.org/wiki/Phenylalanine" TargetMode="External"/><Relationship Id="rId15" Type="http://schemas.openxmlformats.org/officeDocument/2006/relationships/hyperlink" Target="http://en.wikipedia.org/wiki/Proline" TargetMode="External"/><Relationship Id="rId16" Type="http://schemas.openxmlformats.org/officeDocument/2006/relationships/hyperlink" Target="http://en.wikipedia.org/wiki/Serine" TargetMode="External"/><Relationship Id="rId17" Type="http://schemas.openxmlformats.org/officeDocument/2006/relationships/hyperlink" Target="http://en.wikipedia.org/wiki/Threonine" TargetMode="External"/><Relationship Id="rId18" Type="http://schemas.openxmlformats.org/officeDocument/2006/relationships/hyperlink" Target="http://en.wikipedia.org/wiki/Tryptophan" TargetMode="External"/><Relationship Id="rId19" Type="http://schemas.openxmlformats.org/officeDocument/2006/relationships/hyperlink" Target="http://en.wikipedia.org/wiki/Tyrosine" TargetMode="External"/><Relationship Id="rId20" Type="http://schemas.openxmlformats.org/officeDocument/2006/relationships/hyperlink" Target="http://en.wikipedia.org/wiki/Valine" TargetMode="External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P</a:t>
            </a:r>
            <a:r>
              <a:rPr b="0" lang="en-US" sz="3900" spc="-1" strike="noStrike" baseline="30000">
                <a:solidFill>
                  <a:srgbClr val="5f688b"/>
                </a:solidFill>
                <a:latin typeface="Franklin Gothic Book"/>
              </a:rPr>
              <a:t>®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Biology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iochemistry Prep Sess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Proteins, Carbohydrates, Lipids &amp; Nucleic Acids. 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b5064"/>
                </a:solidFill>
                <a:latin typeface="Perpetua"/>
              </a:rPr>
              <a:t>Oh, my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67" name="Picture 5" descr="National Math and Science Initiati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5440"/>
            <a:ext cx="40482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intermolecular force (IMF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an electrostatic attraction (ever heard of Coulomb’s Law?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the attractive force between a hydrogen atom on one molecule and a highly electronegative atom (F,O or N) on an adjacent molecul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39480" indent="-2628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UT, there’s a catch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ttp://upload.wikimedia.org/wikipedia/commons/thumb/b/b5/Hydrogen-bonding-in-water-2D.png/800px-Hydrogen-bonding-in-water-2D.png"/>
          <p:cNvPicPr/>
          <p:nvPr/>
        </p:nvPicPr>
        <p:blipFill>
          <a:blip r:embed="rId1"/>
          <a:stretch/>
        </p:blipFill>
        <p:spPr>
          <a:xfrm>
            <a:off x="1219320" y="1676520"/>
            <a:ext cx="7619760" cy="46479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362320" y="5486400"/>
            <a:ext cx="3809880" cy="916920"/>
          </a:xfrm>
          <a:prstGeom prst="rect">
            <a:avLst/>
          </a:prstGeom>
          <a:solidFill>
            <a:srgbClr val="edc1b6"/>
          </a:solidFill>
          <a:ln w="9360">
            <a:solidFill>
              <a:srgbClr val="fff8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ydrogen bo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(really an IMF or electrostatic att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Arrow Connector 8"/>
          <p:cNvCxnSpPr>
            <a:stCxn id="596" idx="0"/>
          </p:cNvCxnSpPr>
          <p:nvPr/>
        </p:nvCxnSpPr>
        <p:spPr>
          <a:xfrm flipV="1">
            <a:off x="4266000" y="4344120"/>
            <a:ext cx="2520" cy="11422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98" name="TextBox 14"/>
          <p:cNvSpPr/>
          <p:nvPr/>
        </p:nvSpPr>
        <p:spPr>
          <a:xfrm>
            <a:off x="3352680" y="1924200"/>
            <a:ext cx="3124440" cy="642600"/>
          </a:xfrm>
          <a:prstGeom prst="rect">
            <a:avLst/>
          </a:prstGeom>
          <a:solidFill>
            <a:srgbClr val="fff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valently bonded hydrogen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Straight Arrow Connector 16"/>
          <p:cNvCxnSpPr/>
          <p:nvPr/>
        </p:nvCxnSpPr>
        <p:spPr>
          <a:xfrm flipH="1">
            <a:off x="2513880" y="2284920"/>
            <a:ext cx="152460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  <p:cxnSp>
        <p:nvCxnSpPr>
          <p:cNvPr id="600" name="Straight Arrow Connector 18"/>
          <p:cNvCxnSpPr/>
          <p:nvPr/>
        </p:nvCxnSpPr>
        <p:spPr>
          <a:xfrm>
            <a:off x="5715000" y="2286000"/>
            <a:ext cx="381600" cy="13723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  <p:cxnSp>
        <p:nvCxnSpPr>
          <p:cNvPr id="601" name="Straight Arrow Connector 20"/>
          <p:cNvCxnSpPr/>
          <p:nvPr/>
        </p:nvCxnSpPr>
        <p:spPr>
          <a:xfrm>
            <a:off x="5715000" y="2285640"/>
            <a:ext cx="1448640" cy="76284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  <p:cxnSp>
        <p:nvCxnSpPr>
          <p:cNvPr id="602" name="Straight Arrow Connector 9"/>
          <p:cNvCxnSpPr/>
          <p:nvPr/>
        </p:nvCxnSpPr>
        <p:spPr>
          <a:xfrm flipH="1">
            <a:off x="2513880" y="2286000"/>
            <a:ext cx="1524600" cy="2286720"/>
          </a:xfrm>
          <a:prstGeom prst="straightConnector1">
            <a:avLst/>
          </a:prstGeom>
          <a:ln w="28440">
            <a:solidFill>
              <a:srgbClr val="546d7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is a “hydrogen bond” if it’s not a chemical bond?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 atom must also be bound to a highly electronegative atom (and carbon doesn’t count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’s the big deal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drogen bonds are 10× stronger than other IMFs and about a 1/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s strong as a covalent bond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346680" indent="-26820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?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ost all of water’s unique properties are attributed to its ability to form such electrostatic attractions or “hydrogen bonds”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580680" indent="-26820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What unique properties?  High FP, high MP, high heat of vaporization, high specific heat, etc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What else does a “hydrogen bond”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do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?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general, it makes molecules stick together through electrostatic attrac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holds the DNA base pairs together and accounts for why A pairs with T (or U) and G pairs with 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335520" indent="-25992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causes electrostatic interactions that form various shapes in all sorts of biomolecules: the active sites of enzymes, the allosteric sites of enzymes, the alpha helix, the beta pleated sheet, etc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EX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BIO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&amp; Nucleic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371600" y="1981080"/>
          <a:ext cx="7499520" cy="3870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ob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talysis &amp; 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em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mino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air; si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IC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codes g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oti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eded for gen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RNA, tRNA, r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Macromolecules: 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371600" y="1981080"/>
          <a:ext cx="7499520" cy="4221360"/>
        </p:xfrm>
        <a:graphic>
          <a:graphicData uri="http://schemas.openxmlformats.org/drawingml/2006/table">
            <a:tbl>
              <a:tblPr/>
              <a:tblGrid>
                <a:gridCol w="1874880"/>
                <a:gridCol w="1874880"/>
                <a:gridCol w="1874880"/>
                <a:gridCol w="1874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 &amp; 3 fatty ac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utter; corn oil; so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ospholip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erol, 2 fatty acids, phosphate and polar 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c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-C rings with 2 nonpolar t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emical messe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staglandin E (P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ero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 fused C r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mbranes; 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olesterol; es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erp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ng C ch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igments; 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otene; rub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Carbohydrate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371600" y="1981080"/>
          <a:ext cx="7499520" cy="2117880"/>
        </p:xfrm>
        <a:graphic>
          <a:graphicData uri="http://schemas.openxmlformats.org/drawingml/2006/table">
            <a:tbl>
              <a:tblPr/>
              <a:tblGrid>
                <a:gridCol w="2057400"/>
                <a:gridCol w="1828800"/>
                <a:gridCol w="1738440"/>
                <a:gridCol w="187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Macro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Sub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ARBOHYD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arch, glyc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tat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u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ell wa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per; strings of cel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i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difie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ructural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rab sh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2700" spc="-1" strike="noStrike">
                <a:solidFill>
                  <a:srgbClr val="000000"/>
                </a:solidFill>
                <a:latin typeface="Perpetua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 a covalent bond between two subunit molecules.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How?  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An –OH group is removed from one subunit &amp; a H atom is removed from the other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This condensation (yes, think “water”) reaction is called a dehydration synthesis since a molecule of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O is removed with each covalent bond form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ENERGY IS REQUIRED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Perpetua"/>
              </a:rPr>
              <a:t>Molecules are brought into position and bonds stressed (catalysis) which is carried out by enzymes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ehydration Synthesis 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18" name="Content Placeholder 3" descr="0028D1.BMP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FIRST, </a:t>
            </a:r>
            <a:br>
              <a:rPr sz="4000"/>
            </a:b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SOME BASIC CHEMISTRY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oal: 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 covalent bond between two subunit molecules.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lysi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(Greek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hydro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, “water” +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lys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“break or split”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ow?  Simple, reverse the synthesis process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molecul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O is “added” across a covalent bond such that a H atom binds to one subunit and an –OH group binds to the other subuni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ENERGY IS RELEAS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process is also carried out by enzyme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99160" indent="-2314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23" name="Picture 3" descr="0028D2.BMP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Macromolecules: Dehydration Synthesis &amp; Hydrolysis Reaction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25" name="05-02-Macromolecules.mov" descr=""/>
          <p:cNvPicPr/>
          <p:nvPr/>
        </p:nvPicPr>
        <p:blipFill>
          <a:blip r:embed="rId1"/>
          <a:stretch/>
        </p:blipFill>
        <p:spPr>
          <a:xfrm>
            <a:off x="1523880" y="1146240"/>
            <a:ext cx="7010640" cy="517536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/>
          <p:cNvSpPr/>
          <p:nvPr/>
        </p:nvSpPr>
        <p:spPr>
          <a:xfrm>
            <a:off x="1219320" y="6172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animation should start automatically if you are in Slide Show view.  If not, see “Troubleshooting” at the end of this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417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PROTEIN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oteins are composed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434960" y="144792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basic structure of an amino acid is shown on the next slid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re’s a central carb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hydrogen at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amine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carboxylic acid grou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 “R” group that determines the differences between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886360" y="1066320"/>
            <a:ext cx="302904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f688b"/>
                </a:solidFill>
                <a:latin typeface="Franklin Gothic Book"/>
              </a:rPr>
              <a:t>Generic Structure of an 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Amino Acid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5f688b"/>
                </a:solidFill>
                <a:latin typeface="Franklin Gothic Book"/>
              </a:rPr>
              <a:t>There are 20 naturally occurring amino acids</a:t>
            </a:r>
            <a:endParaRPr b="0" lang="en-US" sz="24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4572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Perpetua"/>
              </a:rPr>
              <a:t>Primary protein structure is simply the amino acid sequenc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Perpetua"/>
              </a:rPr>
              <a:t>Example:  gly-leu-ala-cys…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3" name="Picture 2" descr="http://img.sparknotes.com/figures/F/f88cd44dc6a50ffa6b94cdb9d213894e/aminoacid.gif"/>
          <p:cNvPicPr/>
          <p:nvPr/>
        </p:nvPicPr>
        <p:blipFill>
          <a:blip r:embed="rId1"/>
          <a:stretch/>
        </p:blipFill>
        <p:spPr>
          <a:xfrm>
            <a:off x="963720" y="1352520"/>
            <a:ext cx="41907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1295280" y="380880"/>
          <a:ext cx="7315200" cy="6070680"/>
        </p:xfrm>
        <a:graphic>
          <a:graphicData uri="http://schemas.openxmlformats.org/drawingml/2006/table">
            <a:tbl>
              <a:tblPr/>
              <a:tblGrid>
                <a:gridCol w="1347840"/>
                <a:gridCol w="1349280"/>
                <a:gridCol w="1347840"/>
                <a:gridCol w="1347840"/>
                <a:gridCol w="1922400"/>
              </a:tblGrid>
              <a:tr h="938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me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Resid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-letter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elativ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bundanc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%) E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arged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olar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ydrophobic,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eutral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"/>
                        </a:rPr>
                        <a:t>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"/>
                        </a:rPr>
                        <a:t>Argi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3"/>
                        </a:rPr>
                        <a:t>Asparag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4"/>
                        </a:rPr>
                        <a:t>Aspar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5"/>
                        </a:rPr>
                        <a:t>Cyste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6"/>
                        </a:rPr>
                        <a:t>Gluta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7"/>
                        </a:rPr>
                        <a:t>Gluta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8"/>
                        </a:rPr>
                        <a:t>Gly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9"/>
                        </a:rPr>
                        <a:t>Histi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,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0"/>
                        </a:rPr>
                        <a:t>Iso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48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1"/>
                        </a:rPr>
                        <a:t>Leu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2"/>
                        </a:rPr>
                        <a:t>Ly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3"/>
                        </a:rPr>
                        <a:t>Methi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4"/>
                        </a:rPr>
                        <a:t>Phenylala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5"/>
                        </a:rPr>
                        <a:t>Pro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6"/>
                        </a:rPr>
                        <a:t>Ser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68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7"/>
                        </a:rPr>
                        <a:t>Threon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8"/>
                        </a:rPr>
                        <a:t>Tryptop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632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19"/>
                        </a:rPr>
                        <a:t>Tyros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33640"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a3d6"/>
                          </a:solidFill>
                          <a:uFillTx/>
                          <a:latin typeface="Perpetua"/>
                          <a:hlinkClick r:id="rId20"/>
                        </a:rPr>
                        <a:t>Va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4320">
                      <a:solidFill>
                        <a:srgbClr val="aaaaaa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25560" rIns="25560" tIns="12960" bIns="12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4320">
                      <a:solidFill>
                        <a:srgbClr val="aaaaaa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aaaaaa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eptide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mine group of one amino acid is joined to the carboxylic acid group of another amino acid to form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eptide bond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 This type of chemical reaction is often called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ince a water molecule is also produced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37" name="Picture 7" descr="http://homepages.ius.edu/GKIRCHNE/peptide.jpg"/>
          <p:cNvPicPr/>
          <p:nvPr/>
        </p:nvPicPr>
        <p:blipFill>
          <a:blip r:embed="rId1"/>
          <a:stretch/>
        </p:blipFill>
        <p:spPr>
          <a:xfrm>
            <a:off x="3505320" y="4191120"/>
            <a:ext cx="32763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rotein Structure: The Detail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re are 4 levels of protein structure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imary (1°)—sequence of amino aci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condary (2°)—formation of motif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ertiary (3°)—folding into a conform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Quaternary (4°)—a combing of subuni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20280" indent="-2293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3880" indent="-2739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hall we examine each level more closely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rim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equence of amino acid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1" name="05-24a-PrimaryStructure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834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Elements Essential to Lif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. HOPKINS CaF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arbon, hydrogen, oxygen, phosphorous, potassium, iodine, nitrogen, sulfur, calcium and iron [add Mg for plants]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ose elements make up 95% of the biomass on earth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251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ary structure involves the formation of motifs.  The two most common are the alpha helix and beta pleated shee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th form as a result of hydrogen bond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44" name="Picture 4" descr="0040D2.BMP"/>
          <p:cNvPicPr/>
          <p:nvPr/>
        </p:nvPicPr>
        <p:blipFill>
          <a:blip r:embed="rId1"/>
          <a:srcRect l="8966" t="28309" r="0" b="22633"/>
          <a:stretch/>
        </p:blipFill>
        <p:spPr>
          <a:xfrm>
            <a:off x="1905120" y="4343400"/>
            <a:ext cx="4902120" cy="1981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0040D1.BMP"/>
          <p:cNvPicPr/>
          <p:nvPr/>
        </p:nvPicPr>
        <p:blipFill>
          <a:blip r:embed="rId2"/>
          <a:srcRect l="10618" t="25793" r="7805" b="25811"/>
          <a:stretch/>
        </p:blipFill>
        <p:spPr>
          <a:xfrm>
            <a:off x="1951200" y="3200400"/>
            <a:ext cx="467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econd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7" name="Picture 5" descr="http://www.columbia.edu/cu/biology/courses/c2005/images/3levelpro.4.p.jpg"/>
          <p:cNvPicPr/>
          <p:nvPr/>
        </p:nvPicPr>
        <p:blipFill>
          <a:blip r:embed="rId1"/>
          <a:stretch/>
        </p:blipFill>
        <p:spPr>
          <a:xfrm>
            <a:off x="167652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Alpha helix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49" name="Picture 2" descr="http://wiz2.pharm.wayne.edu/biochem/nsphelix1.jpg"/>
          <p:cNvPicPr/>
          <p:nvPr/>
        </p:nvPicPr>
        <p:blipFill>
          <a:blip r:embed="rId1"/>
          <a:stretch/>
        </p:blipFill>
        <p:spPr>
          <a:xfrm>
            <a:off x="2057400" y="2362320"/>
            <a:ext cx="5378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econdary Protein Structure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Beta-pleated shee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1" name="Picture 2" descr="http://tainano.com/Molecular%20Biology%20Glossary.files/image025.gif"/>
          <p:cNvPicPr/>
          <p:nvPr/>
        </p:nvPicPr>
        <p:blipFill>
          <a:blip r:embed="rId1"/>
          <a:stretch/>
        </p:blipFill>
        <p:spPr>
          <a:xfrm>
            <a:off x="2189160" y="1828800"/>
            <a:ext cx="5573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olypeptide chain is not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until it has formed its motifs AND further folded upon itself to form its complete 3-D conformation (shape)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 proteins shape is crucial to its function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is is accomplished by even more hydrogen bonding, some hydrophobic &amp; hydrophilic interactions, some polar interactions and the occasional formation of a disulfide bridg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Terti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55" name="Picture 2" descr="http://kvhs.nbed.nb.ca/gallant/biology/tertiary_structure.jpg"/>
          <p:cNvPicPr/>
          <p:nvPr/>
        </p:nvPicPr>
        <p:blipFill>
          <a:blip r:embed="rId1"/>
          <a:stretch/>
        </p:blipFill>
        <p:spPr>
          <a:xfrm>
            <a:off x="3124080" y="1219320"/>
            <a:ext cx="3032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ternary structure involves the arrangement of multiple folded protein molecules in a multi-subunit comple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9480" indent="-2628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moglobin is the usual example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58" name="Picture 7" descr="http://www.nlm.nih.gov/medlineplus/ency/images/ency/fullsize/19510.jpg"/>
          <p:cNvPicPr/>
          <p:nvPr/>
        </p:nvPicPr>
        <p:blipFill>
          <a:blip r:embed="rId1"/>
          <a:stretch/>
        </p:blipFill>
        <p:spPr>
          <a:xfrm>
            <a:off x="2408400" y="2782800"/>
            <a:ext cx="4876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Quaternary Protein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isfolded proteins are responsible for prion-related illnesses such as Creutzfeldt-Jakob disease, bovine spongiform encephalopathy (mad cow disease), amyloid-related illnesses such as Alzheimer's Disease, and a number of other forms of proteopathy such as cystic fibrosis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’s a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rion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? short for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pr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teinaceous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fectious partic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’s an infectious agent [made of protein]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3600" indent="-20088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known prion diseases affect the structure of the brain or other neural tissue, and all are currently untreatable and fata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with a 3-D shape that fits snugly around the chemicals they work 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provide a surface for chemical reactions and stress particular chemical bon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lower the activation energy of chemical reactions and thus, speed them up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: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1.  Enzyme Cataly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4" name="05T-01g-Enzym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250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71600" y="1752120"/>
            <a:ext cx="2984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What is an ion?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 atom that has lost electrons to form a (+) cation OR an atom that has gained electrons to form a (−) an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4120" indent="-191880">
              <a:spcBef>
                <a:spcPts val="55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4" name="Picture 2" descr="http://www.nearingzero.net/screen_res/nz069.jpg"/>
          <p:cNvPicPr/>
          <p:nvPr/>
        </p:nvPicPr>
        <p:blipFill>
          <a:blip r:embed="rId1"/>
          <a:stretch/>
        </p:blipFill>
        <p:spPr>
          <a:xfrm>
            <a:off x="4648320" y="1828800"/>
            <a:ext cx="42163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use their 3-D shape to recognize foreign microbes and cancer cel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y serve as cell surface receptors and form the core of the body’s hormone and immune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2. Defens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68" name="05T-01f-Defensiv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1750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obular proteins that transport specific small molecules and io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emoglobin transports oxyge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yoglobin transports oxygen in muscl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ansferrin transports iron in blo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3. Trans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2" name="05T-01c-Transport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75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920"/>
            <a:ext cx="7499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brous or threadlike proteins that can form a matrix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eratin in ha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brin in blood clo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forms the matrix of the skin, ligaments, tendons and bones (it’s not just for lip injections!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88240" indent="-21744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llagen is the most abundant protein in a vertebrate bod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75" name="Picture 2" descr="http://fig.cox.miami.edu/~cmallery/150/physiol/40x2collagen.gif"/>
          <p:cNvPicPr/>
          <p:nvPr/>
        </p:nvPicPr>
        <p:blipFill>
          <a:blip r:embed="rId1"/>
          <a:stretch/>
        </p:blipFill>
        <p:spPr>
          <a:xfrm>
            <a:off x="3048120" y="4648320"/>
            <a:ext cx="4895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4. Structure &amp; Support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77" name="05T-01a-StructuralProteins.mov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46576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7167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600" y="1447560"/>
            <a:ext cx="7480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Filamentous proteins such as actin and myosi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cles contract through the sliding motion of these two protein fila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7120" indent="-1983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ractile proteins also play key roles in the cell’s cytoskeleton and in moving materials within cell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80" name="Picture 5" descr="0511.BMP"/>
          <p:cNvPicPr/>
          <p:nvPr/>
        </p:nvPicPr>
        <p:blipFill>
          <a:blip r:embed="rId1"/>
          <a:stretch/>
        </p:blipFill>
        <p:spPr>
          <a:xfrm>
            <a:off x="2870280" y="33526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5. Mo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2" name="05T-01e-Contractile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667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434600" y="1447920"/>
            <a:ext cx="7404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mall proteins called hormones serve as intercellular (between cells) messengers in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Regulatory proteins also play many roles within a cel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urning on and shutting off genes during develop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teins that receive information, acting as cell surface recepto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Six Functions of Proteins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6. Regula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6" name="05T-01h-SignalProtein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1000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434960" y="1447920"/>
            <a:ext cx="749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does the prefix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iso-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ean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”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at is an isomer?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Molecules with the same chemical formula, but different structural formulas.  Glucose has 36 isomers: half are sweet and half are bitter!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lvl="2" marL="806040" indent="-207720">
              <a:lnSpc>
                <a:spcPct val="80000"/>
              </a:lnSpc>
              <a:spcBef>
                <a:spcPts val="425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Perpetua"/>
              </a:rPr>
              <a:t>Same atoms, different arrangement, different shape, therefore </a:t>
            </a:r>
            <a:r>
              <a:rPr b="0" i="1" lang="en-US" sz="1700" spc="-1" strike="noStrike">
                <a:solidFill>
                  <a:srgbClr val="000000"/>
                </a:solidFill>
                <a:latin typeface="Perpetua"/>
              </a:rPr>
              <a:t>different function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77" name="Picture 2" descr="http://www.nearingzero.net/screen_res/nz079.jpg"/>
          <p:cNvPicPr/>
          <p:nvPr/>
        </p:nvPicPr>
        <p:blipFill>
          <a:blip r:embed="rId1"/>
          <a:stretch/>
        </p:blipFill>
        <p:spPr>
          <a:xfrm>
            <a:off x="1003320" y="3325680"/>
            <a:ext cx="2730600" cy="3532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http://www.nearingzero.net/screen_res/nz081.jpg"/>
          <p:cNvPicPr/>
          <p:nvPr/>
        </p:nvPicPr>
        <p:blipFill>
          <a:blip r:embed="rId2"/>
          <a:stretch/>
        </p:blipFill>
        <p:spPr>
          <a:xfrm>
            <a:off x="3743280" y="3338640"/>
            <a:ext cx="2752920" cy="3519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http://www.nearingzero.net/screen_res/nz083.jpg"/>
          <p:cNvPicPr/>
          <p:nvPr/>
        </p:nvPicPr>
        <p:blipFill>
          <a:blip r:embed="rId3"/>
          <a:stretch/>
        </p:blipFill>
        <p:spPr>
          <a:xfrm>
            <a:off x="6443640" y="3352680"/>
            <a:ext cx="2725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How enzymes work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88" name="06-14-HowEnzymesWork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417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CARBOHYDRATES (CH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2</a:t>
            </a: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O)</a:t>
            </a:r>
            <a:r>
              <a:rPr b="1" lang="en-US" sz="4000" spc="-1" strike="noStrike" baseline="-25000">
                <a:solidFill>
                  <a:srgbClr val="5f688b"/>
                </a:solidFill>
                <a:latin typeface="Franklin Gothic Book"/>
              </a:rPr>
              <a:t>n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2" name="Content Placeholder 6" descr="0031A.BMP"/>
          <p:cNvPicPr/>
          <p:nvPr/>
        </p:nvPicPr>
        <p:blipFill>
          <a:blip r:embed="rId1"/>
          <a:srcRect l="0" t="29171" r="0" b="29171"/>
          <a:stretch/>
        </p:blipFill>
        <p:spPr>
          <a:xfrm>
            <a:off x="1600200" y="449568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93" name="Content Placeholder 4"/>
          <p:cNvSpPr/>
          <p:nvPr/>
        </p:nvSpPr>
        <p:spPr>
          <a:xfrm>
            <a:off x="1434960" y="1447920"/>
            <a:ext cx="7404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to form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acchar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ype of chemical reaction is als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ensation rea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water molecule is produc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i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695" name="05-05-Di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21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Glycosidic Bond Formation: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A specific type of </a:t>
            </a:r>
            <a:r>
              <a:rPr b="0" i="1" lang="en-US" sz="3200" spc="-1" strike="noStrike">
                <a:solidFill>
                  <a:srgbClr val="5f688b"/>
                </a:solidFill>
                <a:latin typeface="Franklin Gothic Book"/>
              </a:rPr>
              <a:t>dehydration synthesis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7" name="Content Placeholder 4"/>
          <p:cNvSpPr/>
          <p:nvPr/>
        </p:nvSpPr>
        <p:spPr>
          <a:xfrm>
            <a:off x="1371600" y="1905120"/>
            <a:ext cx="7404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re than 2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osacchar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joined together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ycosidic bond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olysacchar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100+ monomer units have been joined, a starch is formed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arch, Cellulose &amp; Glycoge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699" name="Content Placeholder 4"/>
          <p:cNvSpPr/>
          <p:nvPr/>
        </p:nvSpPr>
        <p:spPr>
          <a:xfrm>
            <a:off x="1219320" y="1600200"/>
            <a:ext cx="755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, where all the sugars are oriented in the same direction. Starch is one of the primary sources of calories for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ong (100's) polymer of Glucose molecules. However the orientation of the sugars is a little different. In Cellulose, every other sugar molecule is "upside-down". This small difference in structure makes a big difference in the way we use this molecule. Most animals can’t digest this well.  Termi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other Glucose polymer. Glycogen is a stored energy source, found in the Liver and muscles of Humans. Glycogen is different from both Starch and Cellulose in that the Glucose chain is branched or "forke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http://bioweb.wku.edu/courses/BIOL115/Wyatt/Biochem/Carbos/Carb_poly.gif"/>
          <p:cNvPicPr/>
          <p:nvPr/>
        </p:nvPicPr>
        <p:blipFill>
          <a:blip r:embed="rId1"/>
          <a:stretch/>
        </p:blipFill>
        <p:spPr>
          <a:xfrm>
            <a:off x="1676520" y="304920"/>
            <a:ext cx="6019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olysaccharide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2" name="05-07-Polysaccharides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9750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LIPIDS: FATS &amp; OIL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06" name="05-10-Fats.mov" descr=""/>
          <p:cNvPicPr/>
          <p:nvPr/>
        </p:nvPicPr>
        <p:blipFill>
          <a:blip r:embed="rId1"/>
          <a:stretch/>
        </p:blipFill>
        <p:spPr>
          <a:xfrm>
            <a:off x="1905120" y="1576440"/>
            <a:ext cx="60195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9417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“i” words: 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ion, isomer &amp; isotope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294920" y="159984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556200" indent="-2055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is an isotop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700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toms of elements that have the same atomic number (# of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t a different number of neutrons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erpetu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).  Think Carbon-12 vs. Carbon-13 vs. Carbon-14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70760" indent="-19872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2" name="Picture 2" descr="http://www.nearingzero.net/screen_res/nz337.jpg"/>
          <p:cNvPicPr/>
          <p:nvPr/>
        </p:nvPicPr>
        <p:blipFill>
          <a:blip r:embed="rId1"/>
          <a:stretch/>
        </p:blipFill>
        <p:spPr>
          <a:xfrm>
            <a:off x="4724280" y="3657600"/>
            <a:ext cx="3951360" cy="2981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http://www.nearingzero.net/screen_res/nz169.jpg"/>
          <p:cNvPicPr/>
          <p:nvPr/>
        </p:nvPicPr>
        <p:blipFill>
          <a:blip r:embed="rId2"/>
          <a:stretch/>
        </p:blipFill>
        <p:spPr>
          <a:xfrm>
            <a:off x="1163520" y="3430440"/>
            <a:ext cx="35816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Fat vs. Oil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434600" y="1447920"/>
            <a:ext cx="755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ats are solids at room temperature.  They are saturated [with H atoms—all single bonds]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31920" indent="-25704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ils are liquids at room temperature. They are unsaturated and contain one or more double bonds [unsaturated vs.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</a:rPr>
              <a:t>poly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saturated]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9" name="Picture 2" descr="http://fig.cox.miami.edu/~cmallery/150/chemistry/c5x11saturatedfats.jpg"/>
          <p:cNvPicPr/>
          <p:nvPr/>
        </p:nvPicPr>
        <p:blipFill>
          <a:blip r:embed="rId1"/>
          <a:stretch/>
        </p:blipFill>
        <p:spPr>
          <a:xfrm>
            <a:off x="2438280" y="3683160"/>
            <a:ext cx="5924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1" name="Picture 2" descr="http://telstar.ote.cmu.edu/biology/MembranePage/images/phospholipid.jpg"/>
          <p:cNvPicPr/>
          <p:nvPr/>
        </p:nvPicPr>
        <p:blipFill>
          <a:blip r:embed="rId1"/>
          <a:stretch/>
        </p:blipFill>
        <p:spPr>
          <a:xfrm>
            <a:off x="1981080" y="1600200"/>
            <a:ext cx="6286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Phospholipid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13" name="Picture 4" descr="0071BLLL.BMP"/>
          <p:cNvPicPr/>
          <p:nvPr/>
        </p:nvPicPr>
        <p:blipFill>
          <a:blip r:embed="rId1"/>
          <a:stretch/>
        </p:blipFill>
        <p:spPr>
          <a:xfrm>
            <a:off x="1676520" y="12193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434960" y="1447920"/>
            <a:ext cx="7499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teroids comprise a group of compounds with four interlocking carbon rings. Examples of steroids are bile acids, cholesterol, and adrenal hormones including estrogen, testosterone &amp; progesteron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16" name="Picture 2" descr="http://www.wellesley.edu/Chemistry/Chem101/hormones/steroids.gif"/>
          <p:cNvPicPr/>
          <p:nvPr/>
        </p:nvPicPr>
        <p:blipFill>
          <a:blip r:embed="rId1"/>
          <a:stretch/>
        </p:blipFill>
        <p:spPr>
          <a:xfrm>
            <a:off x="3200400" y="3429000"/>
            <a:ext cx="48196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eroid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anabolic steroids you hear so much about try to capture the tissue building properties of testosterone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Note that the word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ssociated with a synthesis of biomaterials while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is a tearing down of biomaterial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You are more familiar with the summary term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me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02760" indent="-2343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f you go on a diet, you want to in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cat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and decrease your </a:t>
            </a:r>
            <a:r>
              <a:rPr b="0" i="1" lang="en-US" sz="3200" spc="-1" strike="noStrike">
                <a:solidFill>
                  <a:srgbClr val="000000"/>
                </a:solidFill>
                <a:latin typeface="Perpetua"/>
              </a:rPr>
              <a:t>anabolism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Gene Regulatory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20" name="05T-01j-GeneRegulatoryProt.mov" descr=""/>
          <p:cNvPicPr/>
          <p:nvPr/>
        </p:nvPicPr>
        <p:blipFill>
          <a:blip r:embed="rId1"/>
          <a:stretch/>
        </p:blipFill>
        <p:spPr>
          <a:xfrm>
            <a:off x="2855880" y="21286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334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688b"/>
                </a:solidFill>
                <a:latin typeface="Franklin Gothic Book"/>
              </a:rPr>
              <a:t>NUCLEIC ACIDS</a:t>
            </a:r>
            <a:endParaRPr b="0" lang="en-US" sz="40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851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Structure of</a:t>
            </a:r>
            <a:br>
              <a:rPr sz="3900"/>
            </a:b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DNA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219320" y="1295280"/>
            <a:ext cx="3657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composed of nucleotides which are composed of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deoxyribose sugar molecu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phosph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75640" indent="-21276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nitrogen ba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uan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ytos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040" indent="-20556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ym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00600" y="45720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Structure of  D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1218960" y="19051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 carbons of deoxyribose or ribose are numbered. 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 forming a nucleotide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itrogen base bonds with the #1 carb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hosphate groups bind with the #3 and #5 carbon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28" name="Picture 4" descr="http://dl.clackamas.edu/ch106-09/images/ribnum2.gif"/>
          <p:cNvPicPr/>
          <p:nvPr/>
        </p:nvPicPr>
        <p:blipFill>
          <a:blip r:embed="rId1"/>
          <a:stretch/>
        </p:blipFill>
        <p:spPr>
          <a:xfrm>
            <a:off x="6242040" y="2362320"/>
            <a:ext cx="2901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2" descr="http://www.mun.ca/biology/scarr/T_vs_U.gif"/>
          <p:cNvPicPr/>
          <p:nvPr/>
        </p:nvPicPr>
        <p:blipFill>
          <a:blip r:embed="rId1"/>
          <a:stretch/>
        </p:blipFill>
        <p:spPr>
          <a:xfrm>
            <a:off x="185256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vs. RNA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600" y="1447920"/>
            <a:ext cx="4280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NA is doubly stranded, RNA is singly strand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oxyribose is replaced with ribo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17520" indent="-24552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ymine is replaced with uraci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32" name="Picture 2" descr="http://www.layevangelism.com/bastxbk/images/deoxyribose.jpg"/>
          <p:cNvPicPr/>
          <p:nvPr/>
        </p:nvPicPr>
        <p:blipFill>
          <a:blip r:embed="rId2"/>
          <a:stretch/>
        </p:blipFill>
        <p:spPr>
          <a:xfrm>
            <a:off x="6172200" y="1676520"/>
            <a:ext cx="26100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600" y="1447920"/>
            <a:ext cx="7099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Carbon has 6 valence electrons: 1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2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2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ly the 4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valen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lectrons in the second (2), principal energy level participate in chemical reaction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bon hybridizes its on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three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sublevels to form 4 hybrid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s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sublevels.  Why?  There is an energy payoff for carbon (see the energy diagram below)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56200" indent="-20556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a result, carbon forms 4 equivalent bonds and is very stable, hence its abundance on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6" name="Picture 2" descr="http://tcdsbstaff.ednet.ns.ca/devillg/ib/pics/hybrid.gif"/>
          <p:cNvPicPr/>
          <p:nvPr/>
        </p:nvPicPr>
        <p:blipFill>
          <a:blip r:embed="rId1"/>
          <a:stretch/>
        </p:blipFill>
        <p:spPr>
          <a:xfrm>
            <a:off x="3048120" y="5029200"/>
            <a:ext cx="36576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Phosphodiester Bond Formation: Another Dehydration Synthesis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4" name="Picture 2" descr="http://fig.cox.miami.edu/~cmallery/150/chemistry/sf3x14a.jpg"/>
          <p:cNvPicPr/>
          <p:nvPr/>
        </p:nvPicPr>
        <p:blipFill>
          <a:blip r:embed="rId1"/>
          <a:stretch/>
        </p:blipFill>
        <p:spPr>
          <a:xfrm>
            <a:off x="1905120" y="1752480"/>
            <a:ext cx="60958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Hydrogen Bonds Hold the Double Helix Together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36" name="Picture 2" descr="http://fig.cox.miami.edu/~cmallery/150/gene/c16x6base-pairs.jpg"/>
          <p:cNvPicPr/>
          <p:nvPr/>
        </p:nvPicPr>
        <p:blipFill>
          <a:blip r:embed="rId1"/>
          <a:stretch/>
        </p:blipFill>
        <p:spPr>
          <a:xfrm>
            <a:off x="3429000" y="1752480"/>
            <a:ext cx="2838600" cy="4048200"/>
          </a:xfrm>
          <a:prstGeom prst="rect">
            <a:avLst/>
          </a:prstGeom>
          <a:ln w="0">
            <a:noFill/>
          </a:ln>
        </p:spPr>
      </p:pic>
      <p:sp>
        <p:nvSpPr>
          <p:cNvPr id="737" name="TextBox 5"/>
          <p:cNvSpPr/>
          <p:nvPr/>
        </p:nvSpPr>
        <p:spPr>
          <a:xfrm>
            <a:off x="16002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5064"/>
                </a:solidFill>
                <a:latin typeface="Arial"/>
              </a:rPr>
              <a:t>Pur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6"/>
          <p:cNvSpPr/>
          <p:nvPr/>
        </p:nvSpPr>
        <p:spPr>
          <a:xfrm>
            <a:off x="6934320" y="3733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373d"/>
                </a:solidFill>
                <a:latin typeface="Arial"/>
              </a:rPr>
              <a:t>Pyrimad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Straight Arrow Connector 8"/>
          <p:cNvCxnSpPr/>
          <p:nvPr/>
        </p:nvCxnSpPr>
        <p:spPr>
          <a:xfrm flipV="1">
            <a:off x="2514600" y="3504960"/>
            <a:ext cx="1296000" cy="3816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0" name="Straight Arrow Connector 10"/>
          <p:cNvCxnSpPr/>
          <p:nvPr/>
        </p:nvCxnSpPr>
        <p:spPr>
          <a:xfrm>
            <a:off x="2514600" y="4114800"/>
            <a:ext cx="1372320" cy="14486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1" name="Straight Arrow Connector 12"/>
          <p:cNvCxnSpPr/>
          <p:nvPr/>
        </p:nvCxnSpPr>
        <p:spPr>
          <a:xfrm flipH="1" flipV="1">
            <a:off x="6171840" y="3504960"/>
            <a:ext cx="838800" cy="30528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  <p:cxnSp>
        <p:nvCxnSpPr>
          <p:cNvPr id="742" name="Straight Arrow Connector 14"/>
          <p:cNvCxnSpPr/>
          <p:nvPr/>
        </p:nvCxnSpPr>
        <p:spPr>
          <a:xfrm flipH="1">
            <a:off x="6171840" y="4114800"/>
            <a:ext cx="915120" cy="13723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DNA is Antiparallel and ALWAYS </a:t>
            </a:r>
            <a:r>
              <a:rPr b="0" i="1" lang="en-US" sz="3900" spc="-1" strike="noStrike">
                <a:solidFill>
                  <a:srgbClr val="5f688b"/>
                </a:solidFill>
                <a:latin typeface="Franklin Gothic Book"/>
              </a:rPr>
              <a:t>synthesized</a:t>
            </a: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 in the 5′ to 3′ Direction</a:t>
            </a:r>
            <a:endParaRPr b="0" lang="en-US" sz="39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4" name="Picture 2" descr="DNa"/>
          <p:cNvPicPr/>
          <p:nvPr/>
        </p:nvPicPr>
        <p:blipFill>
          <a:blip r:embed="rId1"/>
          <a:stretch/>
        </p:blipFill>
        <p:spPr>
          <a:xfrm>
            <a:off x="3429000" y="1523880"/>
            <a:ext cx="4343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DNA Structure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pic>
        <p:nvPicPr>
          <p:cNvPr id="746" name="16-05-DNAstructNarrAnim_S.mov" descr=""/>
          <p:cNvPicPr/>
          <p:nvPr/>
        </p:nvPicPr>
        <p:blipFill>
          <a:blip r:embed="rId1"/>
          <a:stretch/>
        </p:blipFill>
        <p:spPr>
          <a:xfrm>
            <a:off x="3660840" y="2705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53667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Franklin Gothic Book"/>
              </a:rPr>
              <a:t>Carbon &amp; Functional Groups</a:t>
            </a:r>
            <a:endParaRPr b="0" lang="en-US" sz="43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019920" y="1523520"/>
            <a:ext cx="2527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erpetua"/>
              </a:rPr>
              <a:t>Carbon combines readily with other abundant atoms on earth to form very stable functional groups. </a:t>
            </a:r>
            <a:endParaRPr b="0" lang="en-US" sz="2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89" name="Picture 5" descr="0027.BMP"/>
          <p:cNvPicPr/>
          <p:nvPr/>
        </p:nvPicPr>
        <p:blipFill>
          <a:blip r:embed="rId1"/>
          <a:srcRect l="31882" t="7501" r="9989" b="0"/>
          <a:stretch/>
        </p:blipFill>
        <p:spPr>
          <a:xfrm>
            <a:off x="1066680" y="1219320"/>
            <a:ext cx="48769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f688b"/>
                </a:solidFill>
                <a:latin typeface="Franklin Gothic Book"/>
              </a:rPr>
              <a:t>The Hydrogen Bond </a:t>
            </a:r>
            <a:br>
              <a:rPr sz="3900"/>
            </a:br>
            <a:r>
              <a:rPr b="0" lang="en-US" sz="3200" spc="-1" strike="noStrike">
                <a:solidFill>
                  <a:srgbClr val="5f688b"/>
                </a:solidFill>
                <a:latin typeface="Franklin Gothic Book"/>
              </a:rPr>
              <a:t>(which, by the way, is not actually a bond)</a:t>
            </a:r>
            <a:endParaRPr b="0" lang="en-US" sz="3200" spc="-1" strike="noStrike">
              <a:solidFill>
                <a:srgbClr val="5f688b"/>
              </a:solidFill>
              <a:latin typeface="Franklin Gothic Book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600" y="1447560"/>
            <a:ext cx="709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Water makes life on this planet possible.  Therefore, biology is “all wet”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o, there are two VERY important aspects of water that you need to NEVER, EVER forget!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is p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639720" indent="-236520">
              <a:spcBef>
                <a:spcPts val="550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ater forms “hydrogen bonds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7:29:05Z</dcterms:created>
  <dc:creator> René McCormick</dc:creator>
  <dc:description/>
  <dc:language>en-US</dc:language>
  <cp:lastModifiedBy>Rene McCormick</cp:lastModifiedBy>
  <dcterms:modified xsi:type="dcterms:W3CDTF">2008-10-30T16:00:32Z</dcterms:modified>
  <cp:revision>56</cp:revision>
  <dc:subject/>
  <dc:title>Slide 1</dc:title>
</cp:coreProperties>
</file>