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6.jpeg" ContentType="image/jpeg"/>
  <Override PartName="/ppt/media/image23.jpeg" ContentType="image/jpeg"/>
  <Override PartName="/ppt/media/image12.png" ContentType="image/png"/>
  <Override PartName="/ppt/media/image49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jpeg" ContentType="image/jpeg"/>
  <Override PartName="/ppt/media/image25.png" ContentType="image/png"/>
  <Override PartName="/ppt/media/image42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1.jpeg" ContentType="image/jpeg"/>
  <Override PartName="/ppt/media/image47.png" ContentType="image/png"/>
  <Override PartName="/ppt/media/image2.png" ContentType="image/png"/>
  <Override PartName="/ppt/media/image32.png" ContentType="image/png"/>
  <Override PartName="/ppt/media/image3.png" ContentType="image/png"/>
  <Override PartName="/ppt/media/image33.png" ContentType="image/png"/>
  <Override PartName="/ppt/media/image4.png" ContentType="image/png"/>
  <Override PartName="/ppt/media/image34.png" ContentType="image/png"/>
  <Override PartName="/ppt/media/image36.png" ContentType="image/png"/>
  <Override PartName="/ppt/media/image37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11.jpeg" ContentType="image/jpeg"/>
  <Override PartName="/ppt/media/image44.png" ContentType="image/png"/>
  <Override PartName="/ppt/media/image46.png" ContentType="image/png"/>
  <Override PartName="/ppt/media/image45.png" ContentType="image/png"/>
  <Override PartName="/ppt/media/image51.jpeg" ContentType="image/jpeg"/>
  <Override PartName="/ppt/media/image31.png" ContentType="image/png"/>
  <Override PartName="/ppt/media/image52.jpeg" ContentType="image/jpeg"/>
  <Override PartName="/ppt/media/image53.jpeg" ContentType="image/jpeg"/>
  <Override PartName="/ppt/media/image54.png" ContentType="image/png"/>
  <Override PartName="/ppt/media/image30.png" ContentType="image/png"/>
  <Override PartName="/ppt/media/image38.png" ContentType="image/png"/>
  <Override PartName="/ppt/media/image8.jpeg" ContentType="image/jpeg"/>
  <Override PartName="/ppt/media/image5.png" ContentType="image/png"/>
  <Override PartName="/ppt/media/image43.jpeg" ContentType="image/jpeg"/>
  <Override PartName="/ppt/media/image35.png" ContentType="image/png"/>
  <Override PartName="/ppt/media/image28.png" ContentType="image/png"/>
  <Override PartName="/ppt/media/image7.jpeg" ContentType="image/jpeg"/>
  <Override PartName="/ppt/media/image20.png" ContentType="image/png"/>
  <Override PartName="/ppt/media/image6.jpeg" ContentType="image/jpeg"/>
  <Override PartName="/ppt/media/image18.png" ContentType="image/png"/>
  <Override PartName="/ppt/media/image13.png" ContentType="image/png"/>
  <Override PartName="/ppt/media/image9.jpeg" ContentType="image/jpeg"/>
  <Override PartName="/ppt/media/image48.png" ContentType="image/png"/>
  <Override PartName="/ppt/media/image27.jpeg" ContentType="image/jpeg"/>
  <Override PartName="/ppt/media/image50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  <p:sldId id="310" r:id="rId69"/>
    <p:sldId id="311" r:id="rId70"/>
    <p:sldId id="312" r:id="rId71"/>
    <p:sldId id="313" r:id="rId72"/>
    <p:sldId id="314" r:id="rId73"/>
    <p:sldId id="315" r:id="rId74"/>
    <p:sldId id="316" r:id="rId75"/>
    <p:sldId id="317" r:id="rId76"/>
    <p:sldId id="318" r:id="rId77"/>
    <p:sldId id="319" r:id="rId78"/>
    <p:sldId id="320" r:id="rId79"/>
    <p:sldId id="321" r:id="rId80"/>
    <p:sldId id="322" r:id="rId81"/>
    <p:sldId id="323" r:id="rId82"/>
    <p:sldId id="324" r:id="rId83"/>
    <p:sldId id="325" r:id="rId84"/>
    <p:sldId id="326" r:id="rId85"/>
    <p:sldId id="327" r:id="rId86"/>
    <p:sldId id="328" r:id="rId8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slide" Target="slides/slide55.xml"/><Relationship Id="rId70" Type="http://schemas.openxmlformats.org/officeDocument/2006/relationships/slide" Target="slides/slide56.xml"/><Relationship Id="rId71" Type="http://schemas.openxmlformats.org/officeDocument/2006/relationships/slide" Target="slides/slide57.xml"/><Relationship Id="rId72" Type="http://schemas.openxmlformats.org/officeDocument/2006/relationships/slide" Target="slides/slide58.xml"/><Relationship Id="rId73" Type="http://schemas.openxmlformats.org/officeDocument/2006/relationships/slide" Target="slides/slide59.xml"/><Relationship Id="rId74" Type="http://schemas.openxmlformats.org/officeDocument/2006/relationships/slide" Target="slides/slide60.xml"/><Relationship Id="rId75" Type="http://schemas.openxmlformats.org/officeDocument/2006/relationships/slide" Target="slides/slide61.xml"/><Relationship Id="rId76" Type="http://schemas.openxmlformats.org/officeDocument/2006/relationships/slide" Target="slides/slide62.xml"/><Relationship Id="rId77" Type="http://schemas.openxmlformats.org/officeDocument/2006/relationships/slide" Target="slides/slide63.xml"/><Relationship Id="rId78" Type="http://schemas.openxmlformats.org/officeDocument/2006/relationships/slide" Target="slides/slide64.xml"/><Relationship Id="rId79" Type="http://schemas.openxmlformats.org/officeDocument/2006/relationships/slide" Target="slides/slide65.xml"/><Relationship Id="rId80" Type="http://schemas.openxmlformats.org/officeDocument/2006/relationships/slide" Target="slides/slide66.xml"/><Relationship Id="rId81" Type="http://schemas.openxmlformats.org/officeDocument/2006/relationships/slide" Target="slides/slide67.xml"/><Relationship Id="rId82" Type="http://schemas.openxmlformats.org/officeDocument/2006/relationships/slide" Target="slides/slide68.xml"/><Relationship Id="rId83" Type="http://schemas.openxmlformats.org/officeDocument/2006/relationships/slide" Target="slides/slide69.xml"/><Relationship Id="rId84" Type="http://schemas.openxmlformats.org/officeDocument/2006/relationships/slide" Target="slides/slide70.xml"/><Relationship Id="rId85" Type="http://schemas.openxmlformats.org/officeDocument/2006/relationships/slide" Target="slides/slide71.xml"/><Relationship Id="rId86" Type="http://schemas.openxmlformats.org/officeDocument/2006/relationships/slide" Target="slides/slide72.xml"/><Relationship Id="rId87" Type="http://schemas.openxmlformats.org/officeDocument/2006/relationships/slide" Target="slides/slide73.xml"/><Relationship Id="rId8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dt" idx="3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Click to move the slide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ftr" idx="3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 type="sldNum" idx="3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5D336-ADB0-4E25-9D1D-82FA0C7518B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67A0D-CA43-44EB-B7C5-59E50F8893F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43291-E233-410E-91A1-B6FD61B864A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7F15B-B4C4-4CFB-BE82-024671C5951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B8C54-AB50-44CD-A86F-958DEBDF371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BFF11-F263-4DC3-B36A-D734E39D7E4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BD2AC-8FC4-4129-A5AA-34A1B6296AE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BFED2-3963-4178-A3F9-C90A09B32CB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13E2B-07CD-40D0-A803-7F473146EA4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8A2A0-25C6-4F79-9FCB-13D82613A91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5792F-37EF-4377-963D-E709CBCDD99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F571D-FCEA-4B54-AC6C-8720F6F07BE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107C7-5E91-424B-87B8-89D436B0C79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72BD8-D606-4DF2-8C2C-F8C4132BF18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4E7F5-DC59-4560-AE62-9571A84EA38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A2199-C963-4736-AC06-24E6ECDA567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747A1-B1EC-4EBC-877D-D96A21909F6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C0446-6BD4-475D-B2C1-270EEBBD240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1363F-C35E-440D-9F63-0A7B38E63D4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5A4D8-9D6B-4EC8-A5AA-0CF93C67628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B2B39-62AD-4EF2-A8B1-9A429B7BFC5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A4800-C3B1-4232-86E9-11021AB688A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C6B98-E6CF-4C1B-A5A3-40AA416CEFA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927F1-4053-4947-BDD6-952A0BF3AAE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145D7-203B-419C-86E4-E7D35DAECE7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41ACB-DE1F-43D3-9BF2-C1EF26BDF20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E43D9-B6FD-4FAD-8EC7-50D004021DB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D7D39-DC22-49C6-899A-B330C19076B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511B5-2615-46DE-A35B-D85E56C9FC0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B322B-C209-456B-AE0B-629628E1F66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153D3-7EC0-4E33-B47A-3E70C64D864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F781A-F6E8-44F0-B992-1DD18F67841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3468A-2144-4716-A87D-879C416E957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0A399-F0A9-47BC-AB26-6AB0D4C937C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E7AEC-A9BC-4D9B-86AD-3D42454FDEA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C4CD9-34B7-4AA9-BE64-8F33EEBBB6F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C9745-C77E-47A1-A6DE-B23348E617C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0B6CD-D4F8-479A-A719-C09CA3B9580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044E2-23AA-4889-9B8E-555C63B4487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022FE-E566-4232-A6A3-E658427EB7B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06444-2B64-4426-9F2B-CFED13C977D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0C5D2-AE77-4F54-A25B-639363A4B42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61278-5F35-4048-8CAB-CAB234D112B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804F7-0232-4849-8771-15D9E21105F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3E0F9-7725-469A-9917-2C30A08F76E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E530-2AEF-4FFC-BF5F-336A48783B2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90AD7-F1BD-430B-9F4A-7C6EBBF125F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3D17B-3518-40B6-845A-E715687578D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4AF2F-F0DF-42A5-AAB5-4AE8F243D6F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52056-BB34-41A7-AE94-2501EF8D06D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09286-324E-4F03-8F8E-AE811014A92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DCB4D-F309-4EA3-844D-69AB074F617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B8102-034B-44B3-B0C4-47B8BAC50F4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3DE4-B60C-4F15-97E4-75BCDB97004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51CE4-8A62-439E-903E-5C3F2EB1837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3221E-B5EF-4552-99CF-3A04B9D7EFC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8890E-5BDB-4DAA-B9DE-D6D931138D7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66A57-2771-42D8-BCE1-820DEBCB743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64B65-41CF-4AFC-9890-A4862AE9581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9B7E7-B463-4380-9324-716ABAD5E18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47D36-D632-4667-A296-E2BB6A19F7F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E60CD-BF02-4571-92BD-91E0AEF3C58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03E7D-D6A0-49D3-B3C3-8714E868E01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B7EBC-AE7A-4832-A387-4A992A9DF40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312A5-B18A-4ED9-BF15-F3DDC9A07A3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94889-899A-462B-8E23-FFFF4707A09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0A2C7-5D2C-4CB5-90FD-583300D55D8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91343-8E08-436E-82C7-1CA177B34A6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FC65C-28FC-4C25-BB97-201E4329E8C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E1F16-A67D-45F8-BA50-DB20191B6ED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B655A-7AC2-4D82-90B7-A90A21A81DA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736E5-F157-494B-AA57-016625C734A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403A9-A17A-4B27-9FE9-F1BF5D1B36A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2C23F-3C41-437B-95BB-C0A4BCC6BA2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BCB0-FE6C-4F42-99C9-535A29A72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22C3-AD65-43FA-9783-7BEC26366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ACF1F7-3A10-49DB-A768-3FF55A74D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0194E5-AB67-4559-9AD6-1E214D56B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7DAC3B-71FA-455F-8226-B8A9A5BA3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4CAC1A-2608-42AA-AD14-6D79A245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264B49-402B-41FC-B78A-BA84583E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833C34-051F-4BE6-BEE9-457AD472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6BE6FD-D1E2-419F-BFBD-E88780FC1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79FFFB-0314-41F7-B3DE-54757E537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5A05F7-232B-459F-BB6D-67B711F26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ACB448-6EBA-45AE-9ECA-25B42C166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B052-86BB-4DCB-BC77-9772FA070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C46196-5EDB-406C-ACA2-D0B570241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808DF3-A904-45E0-A5BD-65838FF00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AA623A-2889-4D56-8A33-0312B3C63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76985A-9381-4E53-BC39-FDA6F5882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1CD03D-0B6D-411C-A899-F7C3F3DC3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50C17E-69B7-4773-A840-93679D55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50A58E-9C45-4E7D-9EA1-BC75BFAE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87B105-B677-481B-8A01-056478D6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9CC149-DD34-4424-9E6C-094E33289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60DBBB-BB47-42A3-97FA-DDB2FB7F5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7905-5E80-408F-B787-ECE9CA558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CDF585-6C9F-4C79-B8B4-605D018EB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12597C-D466-4650-A529-30BB71133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19769F-09FE-4585-BB92-53A9961CE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CC52A4-996B-46CF-B68E-2316B7A27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555964-9A34-4F74-9672-9BE1484A8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F27C31-79CD-4B4E-A7C1-60EBBBDE9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A69E01-8D52-4195-ADB7-F7229B2D5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6ECC26-B77D-49BC-B17C-328E3587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DE0618-129C-43DA-AE32-75F99BCD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5139E2-D456-4287-8FD4-B67004F3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21AC4-E251-4BF9-8378-C9BB82F65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2AD8A7-3AE1-4631-8FB9-A7A12842A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4E3E04-3807-4146-BA39-89FA1A0D0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65CA6A-3B89-4838-84E4-AB82D9363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E9B8DE-161A-4784-86BD-7A41A60EF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5E6E9F-9A47-4082-997A-E8AED88B5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979514-EBB7-4EF7-8837-2251A1EEA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49F6E6-D6FE-44EA-AACE-F0C2E8E45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D9DDCE-3DE1-4FB7-B9D1-7214B521D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A3754C-D4C2-43EC-B052-038893877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6C35E8-DA24-4A32-86DD-05C6839E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F3DF7-CF47-40C5-8F88-40C10817E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2E0BE7-1540-45CC-ADA2-B2E631AE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EB297D-7C06-46B9-8B6B-098AD079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E84AD3-31AB-442D-B7CD-DE28648A1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81D0A9-2869-4F74-81BC-B98BE51FB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2955DE-6111-41A5-9004-738A5B351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40FBA-8B38-4F32-8484-1AA80B4C5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436C1-E6FB-4743-8F7D-0C54155F6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3D6B4-12FA-4E01-8034-7730AC7B2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B1CD9-5134-4FAC-A1B7-583D45B70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81897-037D-4C63-812E-B1F56E58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7B34-3AAE-4523-AE91-13B3C9C15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DDCD4-34C7-4128-81CD-ECAE238E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69C68-6814-4B01-8DC6-13F797A3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B5358-C1C8-4964-A3DC-192FB9146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3273B-CA26-475A-9B66-AB2E11B4E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02292-3CBA-49CF-B111-D805764D7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E9541-0051-42DC-8627-D78BE72FB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389E9-2AF8-4D9D-A08D-40282AE7E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F65B3-61F3-40D1-B95B-1F1C38183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36067-56BF-4D94-B8CC-47733549C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DBF93-CEE0-4201-BC64-15AA6D159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F2E3-7E61-439B-A91B-2DDA1C1F8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46A07-831B-4F35-A46F-5D7666075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6383C-1207-4452-9F51-00370503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E559B-8A39-4674-AF1E-37168E42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C381E-F0FE-42A6-874A-CBA9BF4F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AC637-5A7E-4F42-9813-465DB9DF0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19DF7-7846-423A-971D-B3D3DFF88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7ABE0-868A-4B0B-BDAF-6D0172ADC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3CC37-75A5-4555-B8E6-F387AABF6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714AD-6690-4350-A9BC-4DC32CD7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AD789-B908-400E-9A07-387F4A846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C3AC-B768-4FE4-9D8C-54C381975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A906C-2793-4A5D-9E3D-AAAE3C7ED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82F02-8F1F-4243-B492-67B6FF448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E71F9-6EE4-4A11-8A28-D44BE7FE8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782F0-85EC-4DE6-ADC0-7D8DBFF0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D973D-0530-473F-9770-8D3CCB9F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3200D-802F-4C3B-8438-D071F1FD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1818B-F8F6-494A-8E22-CEE7EED88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21439-B54A-460B-BE12-332C6EDDB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8177F-8CB6-4A07-A400-AA6AD7B61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6A8D2-CBB9-413B-AE62-4E1E8FFF1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49D3-D2DC-4F28-8A43-7507BFAFE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27366-D57F-401B-8254-C44DD7612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06142-F30C-479E-B110-C06198972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12650-C671-4D33-8B84-29B7D7158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8C15D-2B24-42FC-B94D-8A7C5948F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4CE5E-3294-433A-BECE-FBAA638EE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7589F-5194-4919-9AE2-AA8663D9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2FE4A-C9D5-4469-9EA6-21B5C4BD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DEC31-DB93-4FA4-8B52-F9030244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775BA-A794-4834-8558-EB2DBB276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3249C-1E25-4648-8C0A-18C29DB60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BB24-1F24-4F81-9190-534B3088C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7B8BF-66ED-425D-B232-74C91A8C5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60AF11-261E-471F-9AF5-8CFB513C8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2AFA3-8008-4316-AD15-E63AF477D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60B50-34E6-4432-97BA-BDA0CC42D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A7FE1-EA77-4529-81E5-72586A555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8D17C-6D62-48B5-8A01-6934E2005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9798CC-3EBB-4CB6-992D-DCD846877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9C75E-E333-4E7A-BD3B-C3C00F94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B0C5F-CF92-4F6C-9108-4C225F20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425D9-CC52-490D-8017-EE9905D0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FAC9-95B5-4FE9-9F6F-9AFB53CC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6F2D41-2EAD-4DB9-89E1-71B3292FF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05555-EACB-4B46-9D32-270240B67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EE1ACF-4C14-4D3C-B4FC-ADA99ABA3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32DF98-6367-4440-800C-FDCBC5AD5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7E013-D254-447C-B135-4D9344FE6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19DCE3-443F-42ED-83D2-72D77021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2A0EC8-5EF7-444B-97F9-25268EA24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826D1-6BE1-479F-8F71-B57537611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9F411-C76A-4512-B012-85E12F47D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40A60-5155-4CBD-ADB8-D1728D4F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C55C-57B0-4550-BDE5-9782BEC5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E9356-C7E6-411F-BC1B-257B8F4C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F97FAF-BCC8-4E8F-8297-3E31D5B1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53669E-B2A5-43C6-8395-6BCE5943A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C796E3-3EE6-4F4B-87AF-BF9D111B9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448B9-FAF9-48C6-9BC7-A7A713868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7F7056-E58B-4362-A5F4-D51CBB2D4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B91335-F2F1-4E58-AC88-A420AEA6A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2CE8DD-3D7B-450E-9FFC-3E60A8233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08A249-F65C-4442-817D-C67B3CF59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C26BEF-C5F4-44A7-B72C-6BF1B433D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2A49-2453-41AF-B19B-AED8019D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FEF0C8-BCE0-4870-B929-30DC994D2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95E3BC-BDF6-4127-BBBD-AEE31058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BB80B-0B5A-4C29-80CF-0FD3DE61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F1DFE4-FBD6-48F2-AB03-E7FC1C08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D2A4B0-E221-4C57-9D29-F414376D5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24453E-DB7C-46E4-B2A9-4E80CAA27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EE1A7A-09E9-44D7-B220-19E15C9F5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EC35B4-CB97-435C-BD54-5BF0BA237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CE1CA9-9B44-42E7-87BD-BA67106B5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7628D8-75F1-4688-8F84-9326094CC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4f8fa">
              <a:alpha val="33000"/>
            </a:srgbClr>
          </a:solidFill>
          <a:ln cap="rnd" w="3240">
            <a:solidFill>
              <a:srgbClr val="a0b5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0eef6"/>
            </a:solidFill>
            <a:miter/>
          </a:ln>
          <a:effectLst>
            <a:outerShdw dist="12600" dir="5400000" blurRad="0" rotWithShape="0">
              <a:srgbClr val="8d9aa1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990360" y="6381360"/>
            <a:ext cx="106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2743200" y="617184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Copyright 2008 by René McCormick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National Math and Science Initiative, In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AP</a:t>
            </a:r>
            <a:r>
              <a:rPr b="0" lang="en-US" sz="1200" spc="-1" strike="noStrike" baseline="30000">
                <a:solidFill>
                  <a:srgbClr val="899ba4"/>
                </a:solidFill>
                <a:latin typeface="Perpetua"/>
              </a:rPr>
              <a:t>®</a:t>
            </a: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 is a registered trademark of the College Board. The College Board was not involved in the production of this produc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FFBF2-32CA-40E0-B681-2E5E40B70F6F}" type="slidenum">
              <a:rPr b="0" lang="en-US" sz="1200" spc="-1" strike="noStrike">
                <a:solidFill>
                  <a:srgbClr val="899ba4"/>
                </a:solidFill>
                <a:latin typeface="Perpet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417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b3cad6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5d1d7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>
            <a:off x="990360" y="6381360"/>
            <a:ext cx="106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9"/>
          </p:nvPr>
        </p:nvSpPr>
        <p:spPr>
          <a:xfrm>
            <a:off x="2743200" y="617184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B0247-3A6B-473A-AC50-D2AB519B24CF}" type="slidenum">
              <a:rPr b="0" lang="en-US" sz="1200" spc="-1" strike="noStrike">
                <a:solidFill>
                  <a:srgbClr val="899ba4"/>
                </a:solidFill>
                <a:latin typeface="Perpet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4f8fa">
              <a:alpha val="33000"/>
            </a:srgbClr>
          </a:solidFill>
          <a:ln cap="rnd" w="3240">
            <a:solidFill>
              <a:srgbClr val="a0b5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0eef6"/>
            </a:solidFill>
            <a:miter/>
          </a:ln>
          <a:effectLst>
            <a:outerShdw dist="12600" dir="5400000" blurRad="0" rotWithShape="0">
              <a:srgbClr val="8d9aa1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65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1"/>
          </p:nvPr>
        </p:nvSpPr>
        <p:spPr>
          <a:xfrm>
            <a:off x="990360" y="6381360"/>
            <a:ext cx="106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2"/>
          </p:nvPr>
        </p:nvSpPr>
        <p:spPr>
          <a:xfrm>
            <a:off x="2743200" y="617184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A569D-0730-42D5-A3FF-563F95C189F3}" type="slidenum">
              <a:rPr b="0" lang="en-US" sz="1200" spc="-1" strike="noStrike">
                <a:solidFill>
                  <a:srgbClr val="899ba4"/>
                </a:solidFill>
                <a:latin typeface="Perpet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4f8fa">
              <a:alpha val="33000"/>
            </a:srgbClr>
          </a:solidFill>
          <a:ln cap="rnd" w="3240">
            <a:solidFill>
              <a:srgbClr val="a0b5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0eef6"/>
            </a:solidFill>
            <a:miter/>
          </a:ln>
          <a:effectLst>
            <a:outerShdw dist="12600" dir="5400000" blurRad="0" rotWithShape="0">
              <a:srgbClr val="8d9aa1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990360" y="6381360"/>
            <a:ext cx="106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2743200" y="617184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7B87A-984F-4827-B0A8-B81C74BC7BB1}" type="slidenum">
              <a:rPr b="0" lang="en-US" sz="1200" spc="-1" strike="noStrike">
                <a:solidFill>
                  <a:srgbClr val="899ba4"/>
                </a:solidFill>
                <a:latin typeface="Perpet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4f8fa">
              <a:alpha val="33000"/>
            </a:srgbClr>
          </a:solidFill>
          <a:ln cap="rnd" w="3240">
            <a:solidFill>
              <a:srgbClr val="a0b5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0eef6"/>
            </a:solidFill>
            <a:miter/>
          </a:ln>
          <a:effectLst>
            <a:outerShdw dist="12600" dir="5400000" blurRad="0" rotWithShape="0">
              <a:srgbClr val="8d9aa1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b8563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990720" y="6552720"/>
            <a:ext cx="838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9ba4"/>
                </a:solidFill>
                <a:latin typeface="Perpetu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209680" y="6095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9ba4"/>
                </a:solidFill>
                <a:latin typeface="Perpetua"/>
              </a:rPr>
              <a:t>Copyright 2008 by René McCormick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9ba4"/>
                </a:solidFill>
                <a:latin typeface="Perpetua"/>
              </a:rPr>
              <a:t>National Math and Science Initiative, In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9ba4"/>
                </a:solidFill>
                <a:latin typeface="Perpetua"/>
              </a:rPr>
              <a:t>AP</a:t>
            </a:r>
            <a:r>
              <a:rPr b="0" lang="en-US" sz="1000" spc="-1" strike="noStrike" baseline="30000">
                <a:solidFill>
                  <a:srgbClr val="899ba4"/>
                </a:solidFill>
                <a:latin typeface="Perpetua"/>
              </a:rPr>
              <a:t>®</a:t>
            </a:r>
            <a:r>
              <a:rPr b="0" lang="en-US" sz="1000" spc="-1" strike="noStrike">
                <a:solidFill>
                  <a:srgbClr val="899ba4"/>
                </a:solidFill>
                <a:latin typeface="Perpetua"/>
              </a:rPr>
              <a:t> is a registered trademark of the College Board. The College Board was not involved in the production of this product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E8D46-DCDC-4019-B0C3-9B3D77EB7B36}" type="slidenum">
              <a:rPr b="0" lang="en-US" sz="1200" spc="-1" strike="noStrike">
                <a:solidFill>
                  <a:srgbClr val="899ba4"/>
                </a:solidFill>
                <a:latin typeface="Perpet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4f8fa">
              <a:alpha val="33000"/>
            </a:srgbClr>
          </a:solidFill>
          <a:ln cap="rnd" w="3240">
            <a:solidFill>
              <a:srgbClr val="a0b5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0eef6"/>
            </a:solidFill>
            <a:miter/>
          </a:ln>
          <a:effectLst>
            <a:outerShdw dist="12600" dir="5400000" blurRad="0" rotWithShape="0">
              <a:srgbClr val="8d9aa1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990360" y="6381360"/>
            <a:ext cx="106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2743200" y="617184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99ba4"/>
                </a:solidFill>
                <a:latin typeface="Perpetua"/>
              </a:rPr>
              <a:t>Copyright 2008 by René McCormick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99ba4"/>
                </a:solidFill>
                <a:latin typeface="Perpetua"/>
              </a:rPr>
              <a:t>National Math and Science Initiative, Inc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99ba4"/>
                </a:solidFill>
                <a:latin typeface="Perpetua"/>
              </a:rPr>
              <a:t>AP</a:t>
            </a:r>
            <a:r>
              <a:rPr b="0" lang="en-US" sz="1100" spc="-1" strike="noStrike" baseline="30000">
                <a:solidFill>
                  <a:srgbClr val="899ba4"/>
                </a:solidFill>
                <a:latin typeface="Perpetua"/>
              </a:rPr>
              <a:t>®</a:t>
            </a:r>
            <a:r>
              <a:rPr b="0" lang="en-US" sz="1100" spc="-1" strike="noStrike">
                <a:solidFill>
                  <a:srgbClr val="899ba4"/>
                </a:solidFill>
                <a:latin typeface="Perpetua"/>
              </a:rPr>
              <a:t> is a registered trademark of the College Board. The College Board was not involved in the production of this product.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EB5B7-1A84-49B6-827D-8DAD34EDC84F}" type="slidenum">
              <a:rPr b="0" lang="en-US" sz="1200" spc="-1" strike="noStrike">
                <a:solidFill>
                  <a:srgbClr val="899ba4"/>
                </a:solidFill>
                <a:latin typeface="Perpet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51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b8563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990360" y="6381360"/>
            <a:ext cx="106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743200" y="617184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Copyright 2008 by René McCormick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National Math and Science Initiative, In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AP</a:t>
            </a:r>
            <a:r>
              <a:rPr b="0" lang="en-US" sz="1200" spc="-1" strike="noStrike" baseline="30000">
                <a:solidFill>
                  <a:srgbClr val="899ba4"/>
                </a:solidFill>
                <a:latin typeface="Perpetua"/>
              </a:rPr>
              <a:t>®</a:t>
            </a: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 is a registered trademark of the College Board. The College Board was not involved in the production of this product.</a:t>
            </a:r>
            <a:r>
              <a:rPr b="0" lang="en-US" sz="1000" spc="-1" strike="noStrike">
                <a:solidFill>
                  <a:srgbClr val="899ba4"/>
                </a:solidFill>
                <a:latin typeface="Perpetua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8A609-805F-4A30-B629-93E47135B40B}" type="slidenum">
              <a:rPr b="0" lang="en-US" sz="1200" spc="-1" strike="noStrike">
                <a:solidFill>
                  <a:srgbClr val="899ba4"/>
                </a:solidFill>
                <a:latin typeface="Perpet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4f8fa">
              <a:alpha val="33000"/>
            </a:srgbClr>
          </a:solidFill>
          <a:ln cap="rnd" w="3240">
            <a:solidFill>
              <a:srgbClr val="a0b5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0eef6"/>
            </a:solidFill>
            <a:miter/>
          </a:ln>
          <a:effectLst>
            <a:outerShdw dist="12600" dir="5400000" blurRad="0" rotWithShape="0">
              <a:srgbClr val="8d9aa1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98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990360" y="6381360"/>
            <a:ext cx="106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2743200" y="617184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B43F3-339C-4413-A3AD-F9BF7763B0A7}" type="slidenum">
              <a:rPr b="0" lang="en-US" sz="1200" spc="-1" strike="noStrike">
                <a:solidFill>
                  <a:srgbClr val="899ba4"/>
                </a:solidFill>
                <a:latin typeface="Perpet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990360" y="6381360"/>
            <a:ext cx="106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2743200" y="617184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8006-D2AC-46A7-965E-E131EC6F56BE}" type="slidenum">
              <a:rPr b="0" lang="en-US" sz="1200" spc="-1" strike="noStrike">
                <a:solidFill>
                  <a:srgbClr val="899ba4"/>
                </a:solidFill>
                <a:latin typeface="Perpet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4f8fa">
              <a:alpha val="33000"/>
            </a:srgbClr>
          </a:solidFill>
          <a:ln cap="rnd" w="3240">
            <a:solidFill>
              <a:srgbClr val="a0b5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0eef6"/>
            </a:solidFill>
            <a:miter/>
          </a:ln>
          <a:effectLst>
            <a:outerShdw dist="12600" dir="5400000" blurRad="0" rotWithShape="0">
              <a:srgbClr val="8d9aa1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87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990360" y="6381360"/>
            <a:ext cx="106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2743200" y="617184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99ba4"/>
                </a:solidFill>
                <a:latin typeface="Perpetua"/>
              </a:rPr>
              <a:t>Copyright 2008 by René McCormick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99ba4"/>
                </a:solidFill>
                <a:latin typeface="Perpetua"/>
              </a:rPr>
              <a:t>National Math and Science Initiative, Inc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99ba4"/>
                </a:solidFill>
                <a:latin typeface="Perpetua"/>
              </a:rPr>
              <a:t>AP</a:t>
            </a:r>
            <a:r>
              <a:rPr b="0" lang="en-US" sz="1100" spc="-1" strike="noStrike" baseline="30000">
                <a:solidFill>
                  <a:srgbClr val="899ba4"/>
                </a:solidFill>
                <a:latin typeface="Perpetua"/>
              </a:rPr>
              <a:t>®</a:t>
            </a:r>
            <a:r>
              <a:rPr b="0" lang="en-US" sz="1100" spc="-1" strike="noStrike">
                <a:solidFill>
                  <a:srgbClr val="899ba4"/>
                </a:solidFill>
                <a:latin typeface="Perpetua"/>
              </a:rPr>
              <a:t> is a registered trademark of the College Board. The College Board was not involved in the production of this product.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9755D-2DAC-442E-BB48-61DD4B0A4C77}" type="slidenum">
              <a:rPr b="0" lang="en-US" sz="1200" spc="-1" strike="noStrike">
                <a:solidFill>
                  <a:srgbClr val="899ba4"/>
                </a:solidFill>
                <a:latin typeface="Perpet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2"/>
          </p:nvPr>
        </p:nvSpPr>
        <p:spPr>
          <a:xfrm>
            <a:off x="990360" y="6381360"/>
            <a:ext cx="106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3"/>
          </p:nvPr>
        </p:nvSpPr>
        <p:spPr>
          <a:xfrm>
            <a:off x="2743200" y="617184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8CF36-4249-4B0E-80F7-D59E1C1C2AE5}" type="slidenum">
              <a:rPr b="0" lang="en-US" sz="1200" spc="-1" strike="noStrike">
                <a:solidFill>
                  <a:srgbClr val="899ba4"/>
                </a:solidFill>
                <a:latin typeface="Perpet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5"/>
          </p:nvPr>
        </p:nvSpPr>
        <p:spPr>
          <a:xfrm>
            <a:off x="990360" y="6381360"/>
            <a:ext cx="106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6"/>
          </p:nvPr>
        </p:nvSpPr>
        <p:spPr>
          <a:xfrm>
            <a:off x="2743200" y="617184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A60EF-673D-4D04-AC7D-66CB67973FFC}" type="slidenum">
              <a:rPr b="0" lang="en-US" sz="1200" spc="-1" strike="noStrike">
                <a:solidFill>
                  <a:srgbClr val="899ba4"/>
                </a:solidFill>
                <a:latin typeface="Perpet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nationalmathandscience.org/index.php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Alanine" TargetMode="External"/><Relationship Id="rId2" Type="http://schemas.openxmlformats.org/officeDocument/2006/relationships/hyperlink" Target="http://en.wikipedia.org/wiki/Arginine" TargetMode="External"/><Relationship Id="rId3" Type="http://schemas.openxmlformats.org/officeDocument/2006/relationships/hyperlink" Target="http://en.wikipedia.org/wiki/Asparagine" TargetMode="External"/><Relationship Id="rId4" Type="http://schemas.openxmlformats.org/officeDocument/2006/relationships/hyperlink" Target="http://en.wikipedia.org/wiki/Aspartate" TargetMode="External"/><Relationship Id="rId5" Type="http://schemas.openxmlformats.org/officeDocument/2006/relationships/hyperlink" Target="http://en.wikipedia.org/wiki/Cysteine" TargetMode="External"/><Relationship Id="rId6" Type="http://schemas.openxmlformats.org/officeDocument/2006/relationships/hyperlink" Target="http://en.wikipedia.org/wiki/Glutamate" TargetMode="External"/><Relationship Id="rId7" Type="http://schemas.openxmlformats.org/officeDocument/2006/relationships/hyperlink" Target="http://en.wikipedia.org/wiki/Glutamine" TargetMode="External"/><Relationship Id="rId8" Type="http://schemas.openxmlformats.org/officeDocument/2006/relationships/hyperlink" Target="http://en.wikipedia.org/wiki/Glycine" TargetMode="External"/><Relationship Id="rId9" Type="http://schemas.openxmlformats.org/officeDocument/2006/relationships/hyperlink" Target="http://en.wikipedia.org/wiki/Histidine" TargetMode="External"/><Relationship Id="rId10" Type="http://schemas.openxmlformats.org/officeDocument/2006/relationships/hyperlink" Target="http://en.wikipedia.org/wiki/Isoleucine" TargetMode="External"/><Relationship Id="rId11" Type="http://schemas.openxmlformats.org/officeDocument/2006/relationships/hyperlink" Target="http://en.wikipedia.org/wiki/Leucine" TargetMode="External"/><Relationship Id="rId12" Type="http://schemas.openxmlformats.org/officeDocument/2006/relationships/hyperlink" Target="http://en.wikipedia.org/wiki/Lysine" TargetMode="External"/><Relationship Id="rId13" Type="http://schemas.openxmlformats.org/officeDocument/2006/relationships/hyperlink" Target="http://en.wikipedia.org/wiki/Methionine" TargetMode="External"/><Relationship Id="rId14" Type="http://schemas.openxmlformats.org/officeDocument/2006/relationships/hyperlink" Target="http://en.wikipedia.org/wiki/Phenylalanine" TargetMode="External"/><Relationship Id="rId15" Type="http://schemas.openxmlformats.org/officeDocument/2006/relationships/hyperlink" Target="http://en.wikipedia.org/wiki/Proline" TargetMode="External"/><Relationship Id="rId16" Type="http://schemas.openxmlformats.org/officeDocument/2006/relationships/hyperlink" Target="http://en.wikipedia.org/wiki/Serine" TargetMode="External"/><Relationship Id="rId17" Type="http://schemas.openxmlformats.org/officeDocument/2006/relationships/hyperlink" Target="http://en.wikipedia.org/wiki/Threonine" TargetMode="External"/><Relationship Id="rId18" Type="http://schemas.openxmlformats.org/officeDocument/2006/relationships/hyperlink" Target="http://en.wikipedia.org/wiki/Tryptophan" TargetMode="External"/><Relationship Id="rId19" Type="http://schemas.openxmlformats.org/officeDocument/2006/relationships/hyperlink" Target="http://en.wikipedia.org/wiki/Tyrosine" TargetMode="External"/><Relationship Id="rId20" Type="http://schemas.openxmlformats.org/officeDocument/2006/relationships/hyperlink" Target="http://en.wikipedia.org/wiki/Valine" TargetMode="External"/><Relationship Id="rId21" Type="http://schemas.openxmlformats.org/officeDocument/2006/relationships/slideLayout" Target="../slideLayouts/slideLayout85.xml"/><Relationship Id="rId2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447560" y="106668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AP</a:t>
            </a:r>
            <a:r>
              <a:rPr b="0" lang="en-US" sz="3900" spc="-1" strike="noStrike" baseline="30000">
                <a:solidFill>
                  <a:srgbClr val="5f688b"/>
                </a:solidFill>
                <a:latin typeface="Franklin Gothic Book"/>
              </a:rPr>
              <a:t>®</a:t>
            </a: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 Biology 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Biochemistry Prep Session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1447560" y="266652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b5064"/>
                </a:solidFill>
                <a:latin typeface="Perpetua"/>
              </a:rPr>
              <a:t>Proteins, Carbohydrates, Lipids &amp; Nucleic Acids. </a:t>
            </a:r>
            <a:endParaRPr b="0" lang="en-US" sz="6000" spc="-1" strike="noStrike">
              <a:solidFill>
                <a:srgbClr val="000000"/>
              </a:solidFill>
              <a:latin typeface="Perpetua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b5064"/>
                </a:solidFill>
                <a:latin typeface="Perpetua"/>
              </a:rPr>
              <a:t>Oh, my!</a:t>
            </a:r>
            <a:endParaRPr b="0" lang="en-US" sz="6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67" name="Picture 5" descr="National Math and Science Initiativ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55440"/>
            <a:ext cx="404820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What is a “hydrogen bond” if it’s not a chemical bond??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1434600" y="1447560"/>
            <a:ext cx="7099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339480" indent="-2628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339480" indent="-2628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t’s an intermolecular force (IMF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339480" indent="-2628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339480" indent="-2628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t’s an electrostatic attraction (ever heard of Coulomb’s Law?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339480" indent="-2628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339480" indent="-2628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t’s the attractive force between a hydrogen atom on one molecule and a highly electronegative atom (F,O or N) on an adjacent molecule.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339480" indent="-2628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339480" indent="-2628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UT, there’s a catch!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6" descr="http://upload.wikimedia.org/wikipedia/commons/thumb/b/b5/Hydrogen-bonding-in-water-2D.png/800px-Hydrogen-bonding-in-water-2D.png"/>
          <p:cNvPicPr/>
          <p:nvPr/>
        </p:nvPicPr>
        <p:blipFill>
          <a:blip r:embed="rId1"/>
          <a:stretch/>
        </p:blipFill>
        <p:spPr>
          <a:xfrm>
            <a:off x="1219320" y="1676520"/>
            <a:ext cx="7619760" cy="4647960"/>
          </a:xfrm>
          <a:prstGeom prst="rect">
            <a:avLst/>
          </a:prstGeom>
          <a:ln w="0">
            <a:noFill/>
          </a:ln>
        </p:spPr>
      </p:pic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What is a “hydrogen bond” if it’s not a chemical bond??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96" name="TextBox 4"/>
          <p:cNvSpPr/>
          <p:nvPr/>
        </p:nvSpPr>
        <p:spPr>
          <a:xfrm>
            <a:off x="2362320" y="5486400"/>
            <a:ext cx="3809880" cy="916920"/>
          </a:xfrm>
          <a:prstGeom prst="rect">
            <a:avLst/>
          </a:prstGeom>
          <a:solidFill>
            <a:srgbClr val="edc1b6"/>
          </a:solidFill>
          <a:ln w="9360">
            <a:solidFill>
              <a:srgbClr val="fff8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Hydrogen bon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(really an IMF or electrostatic attra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7" name="Straight Arrow Connector 8"/>
          <p:cNvCxnSpPr>
            <a:stCxn id="596" idx="0"/>
          </p:cNvCxnSpPr>
          <p:nvPr/>
        </p:nvCxnSpPr>
        <p:spPr>
          <a:xfrm flipV="1">
            <a:off x="4266000" y="4344120"/>
            <a:ext cx="2520" cy="114228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598" name="TextBox 14"/>
          <p:cNvSpPr/>
          <p:nvPr/>
        </p:nvSpPr>
        <p:spPr>
          <a:xfrm>
            <a:off x="3352680" y="1924200"/>
            <a:ext cx="3124440" cy="642600"/>
          </a:xfrm>
          <a:prstGeom prst="rect">
            <a:avLst/>
          </a:prstGeom>
          <a:solidFill>
            <a:srgbClr val="fff8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Covalently bonded hydrogen 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9" name="Straight Arrow Connector 16"/>
          <p:cNvCxnSpPr/>
          <p:nvPr/>
        </p:nvCxnSpPr>
        <p:spPr>
          <a:xfrm flipH="1">
            <a:off x="2513880" y="2284920"/>
            <a:ext cx="1524600" cy="762840"/>
          </a:xfrm>
          <a:prstGeom prst="straightConnector1">
            <a:avLst/>
          </a:prstGeom>
          <a:ln w="28440">
            <a:solidFill>
              <a:srgbClr val="546d7a"/>
            </a:solidFill>
            <a:miter/>
            <a:tailEnd len="med" type="arrow" w="med"/>
          </a:ln>
        </p:spPr>
      </p:cxnSp>
      <p:cxnSp>
        <p:nvCxnSpPr>
          <p:cNvPr id="600" name="Straight Arrow Connector 18"/>
          <p:cNvCxnSpPr/>
          <p:nvPr/>
        </p:nvCxnSpPr>
        <p:spPr>
          <a:xfrm>
            <a:off x="5715000" y="2286000"/>
            <a:ext cx="381600" cy="1372320"/>
          </a:xfrm>
          <a:prstGeom prst="straightConnector1">
            <a:avLst/>
          </a:prstGeom>
          <a:ln w="28440">
            <a:solidFill>
              <a:srgbClr val="546d7a"/>
            </a:solidFill>
            <a:miter/>
            <a:tailEnd len="med" type="arrow" w="med"/>
          </a:ln>
        </p:spPr>
      </p:cxnSp>
      <p:cxnSp>
        <p:nvCxnSpPr>
          <p:cNvPr id="601" name="Straight Arrow Connector 20"/>
          <p:cNvCxnSpPr/>
          <p:nvPr/>
        </p:nvCxnSpPr>
        <p:spPr>
          <a:xfrm>
            <a:off x="5715000" y="2285640"/>
            <a:ext cx="1448640" cy="762840"/>
          </a:xfrm>
          <a:prstGeom prst="straightConnector1">
            <a:avLst/>
          </a:prstGeom>
          <a:ln w="28440">
            <a:solidFill>
              <a:srgbClr val="546d7a"/>
            </a:solidFill>
            <a:miter/>
            <a:tailEnd len="med" type="arrow" w="med"/>
          </a:ln>
        </p:spPr>
      </p:cxnSp>
      <p:cxnSp>
        <p:nvCxnSpPr>
          <p:cNvPr id="602" name="Straight Arrow Connector 9"/>
          <p:cNvCxnSpPr/>
          <p:nvPr/>
        </p:nvCxnSpPr>
        <p:spPr>
          <a:xfrm flipH="1">
            <a:off x="2513880" y="2286000"/>
            <a:ext cx="1524600" cy="2286720"/>
          </a:xfrm>
          <a:prstGeom prst="straightConnector1">
            <a:avLst/>
          </a:prstGeom>
          <a:ln w="28440">
            <a:solidFill>
              <a:srgbClr val="546d7a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What is a “hydrogen bond” if it’s not a chemical bond??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1434600" y="1447560"/>
            <a:ext cx="7099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346680" indent="-2682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H atom must also be bound to a highly electronegative atom (and carbon doesn’t count)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346680" indent="-2682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346680" indent="-2682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hat’s the big deal?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580680" indent="-268200">
              <a:lnSpc>
                <a:spcPct val="90000"/>
              </a:lnSpc>
              <a:spcBef>
                <a:spcPts val="601"/>
              </a:spcBef>
              <a:buClr>
                <a:srgbClr val="ccb4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Hydrogen bonds are 10× stronger than other IMFs and about a 1/1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Perpetua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as strong as a covalent bond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346680" indent="-2682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o?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580680" indent="-268200">
              <a:lnSpc>
                <a:spcPct val="90000"/>
              </a:lnSpc>
              <a:spcBef>
                <a:spcPts val="601"/>
              </a:spcBef>
              <a:buClr>
                <a:srgbClr val="ccb4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Most all of water’s unique properties are attributed to its ability to form such electrostatic attractions or “hydrogen bonds”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2" marL="580680" indent="-268200">
              <a:lnSpc>
                <a:spcPct val="90000"/>
              </a:lnSpc>
              <a:spcBef>
                <a:spcPts val="601"/>
              </a:spcBef>
              <a:buClr>
                <a:srgbClr val="ccb4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What unique properties?  High FP, high MP, high heat of vaporization, high specific heat, etc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What else does a “hydrogen bond”</a:t>
            </a:r>
            <a:r>
              <a:rPr b="0" i="1" lang="en-US" sz="3900" spc="-1" strike="noStrike">
                <a:solidFill>
                  <a:srgbClr val="5f688b"/>
                </a:solidFill>
                <a:latin typeface="Franklin Gothic Book"/>
              </a:rPr>
              <a:t>do</a:t>
            </a: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?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1434600" y="1447560"/>
            <a:ext cx="7099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335520" indent="-25992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n general, it makes molecules stick together through electrostatic attraction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335520" indent="-25992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335520" indent="-25992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t holds the DNA base pairs together and accounts for why A pairs with T (or U) and G pairs with C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335520" indent="-25992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335520" indent="-25992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t causes electrostatic interactions that form various shapes in all sorts of biomolecules: the active sites of enzymes, the allosteric sites of enzymes, the alpha helix, the beta pleated sheet, etc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688b"/>
                </a:solidFill>
                <a:latin typeface="Franklin Gothic Book"/>
              </a:rPr>
              <a:t>NEXT, </a:t>
            </a:r>
            <a:br>
              <a:rPr sz="4000"/>
            </a:br>
            <a:r>
              <a:rPr b="1" lang="en-US" sz="4000" spc="-1" strike="noStrike">
                <a:solidFill>
                  <a:srgbClr val="5f688b"/>
                </a:solidFill>
                <a:latin typeface="Franklin Gothic Book"/>
              </a:rPr>
              <a:t>SOME BASIC BIOCHEMISTRY</a:t>
            </a:r>
            <a:endParaRPr b="0" lang="en-US" sz="40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851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Macromolecules: 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Proteins &amp; Nucleic Acids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graphicFrame>
        <p:nvGraphicFramePr>
          <p:cNvPr id="610" name=""/>
          <p:cNvGraphicFramePr/>
          <p:nvPr/>
        </p:nvGraphicFramePr>
        <p:xfrm>
          <a:off x="1371600" y="1981080"/>
          <a:ext cx="7499520" cy="3870360"/>
        </p:xfrm>
        <a:graphic>
          <a:graphicData uri="http://schemas.openxmlformats.org/drawingml/2006/table">
            <a:tbl>
              <a:tblPr/>
              <a:tblGrid>
                <a:gridCol w="1874880"/>
                <a:gridCol w="1874880"/>
                <a:gridCol w="1874880"/>
                <a:gridCol w="1874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Macro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Subun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Fun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ROTE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Glob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Amino Aci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atalysis &amp; Trans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Hemoglob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Struct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Amino Aci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Sup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Hair; sil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368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NUCLEIC ACI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D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Nucleoti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Encodes ge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hromoso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Nucleoti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Needed for gen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mRNA, tRNA, r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368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Macromolecules: Lipids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graphicFrame>
        <p:nvGraphicFramePr>
          <p:cNvPr id="612" name=""/>
          <p:cNvGraphicFramePr/>
          <p:nvPr/>
        </p:nvGraphicFramePr>
        <p:xfrm>
          <a:off x="1371600" y="1981080"/>
          <a:ext cx="7499520" cy="4221360"/>
        </p:xfrm>
        <a:graphic>
          <a:graphicData uri="http://schemas.openxmlformats.org/drawingml/2006/table">
            <a:tbl>
              <a:tblPr/>
              <a:tblGrid>
                <a:gridCol w="1874880"/>
                <a:gridCol w="1874880"/>
                <a:gridCol w="1874880"/>
                <a:gridCol w="1874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Macro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Subun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Fun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LIPI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Fa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Glycerol &amp; 3 fatty aci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Energy stor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utter; corn oil; so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hospholipi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Glycerol, 2 fatty acids, phosphate and polar R grou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ell membra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Lec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rostagland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5-C rings with 2 nonpolar tai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hemical messeng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rostaglandin E (PG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Steroi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4 fused C rin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Membranes; horm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holesterol; es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Terpe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Long C cha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igments; struct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arotene; rub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Macromolecules: Carbohydrates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1371600" y="1981080"/>
          <a:ext cx="7499520" cy="2117880"/>
        </p:xfrm>
        <a:graphic>
          <a:graphicData uri="http://schemas.openxmlformats.org/drawingml/2006/table">
            <a:tbl>
              <a:tblPr/>
              <a:tblGrid>
                <a:gridCol w="2057400"/>
                <a:gridCol w="1828800"/>
                <a:gridCol w="1738440"/>
                <a:gridCol w="1874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Macro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Subun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Fun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ARBOHYDR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Starch, glyc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Gluc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Energy stor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otato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ellul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Gluc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ell wa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aper; strings of cele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hi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Modified gluc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Structural sup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rab she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Macromolecules: 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Dehydration Synthesis 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Goal:  </a:t>
            </a:r>
            <a:r>
              <a:rPr b="0" i="1" lang="en-US" sz="2700" spc="-1" strike="noStrike">
                <a:solidFill>
                  <a:srgbClr val="000000"/>
                </a:solidFill>
                <a:latin typeface="Perpetua"/>
              </a:rPr>
              <a:t>Form</a:t>
            </a: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 a covalent bond between two subunit molecules.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marL="324720" indent="-2512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How?  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marL="324720" indent="-2512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An –OH group is removed from one subunit &amp; a H atom is removed from the other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marL="324720" indent="-2512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This condensation (yes, think “water”) reaction is called a dehydration synthesis since a molecule of H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O is removed with each covalent bond formed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marL="324720" indent="-2512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ENERGY IS REQUIRED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marL="324720" indent="-2512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Molecules are brought into position and bonds stressed (catalysis) which is carried out by enzymes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Macromolecules: 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Dehydration Synthesis 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618" name="Content Placeholder 3" descr="0028D1.BMP"/>
          <p:cNvPicPr/>
          <p:nvPr/>
        </p:nvPicPr>
        <p:blipFill>
          <a:blip r:embed="rId1"/>
          <a:stretch/>
        </p:blipFill>
        <p:spPr>
          <a:xfrm>
            <a:off x="1984320" y="144792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688b"/>
                </a:solidFill>
                <a:latin typeface="Franklin Gothic Book"/>
              </a:rPr>
              <a:t>FIRST, </a:t>
            </a:r>
            <a:br>
              <a:rPr sz="4000"/>
            </a:br>
            <a:r>
              <a:rPr b="1" lang="en-US" sz="4000" spc="-1" strike="noStrike">
                <a:solidFill>
                  <a:srgbClr val="5f688b"/>
                </a:solidFill>
                <a:latin typeface="Franklin Gothic Book"/>
              </a:rPr>
              <a:t>SOME BASIC CHEMISTRY</a:t>
            </a:r>
            <a:endParaRPr b="0" lang="en-US" sz="40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851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Macromolecules: 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Hydrolysis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99160" indent="-23148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Goal:  </a:t>
            </a:r>
            <a:r>
              <a:rPr b="0" i="1" lang="en-US" sz="3200" spc="-1" strike="noStrike">
                <a:solidFill>
                  <a:srgbClr val="000000"/>
                </a:solidFill>
                <a:latin typeface="Perpetua"/>
              </a:rPr>
              <a:t>Break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a covalent bond between two subunit molecules. </a:t>
            </a:r>
            <a:r>
              <a:rPr b="0" i="1" lang="en-US" sz="3200" spc="-1" strike="noStrike">
                <a:solidFill>
                  <a:srgbClr val="000000"/>
                </a:solidFill>
                <a:latin typeface="Perpetua"/>
              </a:rPr>
              <a:t>Hydrolysis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(Greek </a:t>
            </a:r>
            <a:r>
              <a:rPr b="0" i="1" lang="en-US" sz="3200" spc="-1" strike="noStrike">
                <a:solidFill>
                  <a:srgbClr val="000000"/>
                </a:solidFill>
                <a:latin typeface="Perpetua"/>
              </a:rPr>
              <a:t>hydro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, “water” + </a:t>
            </a:r>
            <a:r>
              <a:rPr b="0" i="1" lang="en-US" sz="3200" spc="-1" strike="noStrike">
                <a:solidFill>
                  <a:srgbClr val="000000"/>
                </a:solidFill>
                <a:latin typeface="Perpetua"/>
              </a:rPr>
              <a:t>lyse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“break or split”)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99160" indent="-23148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How?  Simple, reverse the synthesis process!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99160" indent="-23148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A molecule of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O is “added” across a covalent bond such that a H atom binds to one subunit and an –OH group binds to the other subuni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99160" indent="-23148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ENERGY IS RELEASED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99160" indent="-23148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is process is also carried out by enzymes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99160" indent="-231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99160" indent="-23148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Macromolecules: 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Hydrolysis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623" name="Picture 3" descr="0028D2.BMP"/>
          <p:cNvPicPr/>
          <p:nvPr/>
        </p:nvPicPr>
        <p:blipFill>
          <a:blip r:embed="rId1"/>
          <a:stretch/>
        </p:blipFill>
        <p:spPr>
          <a:xfrm>
            <a:off x="1371600" y="1600200"/>
            <a:ext cx="655308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Macromolecules: Dehydration Synthesis &amp; Hydrolysis Reactions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625" name="05-02-Macromolecules.mov" descr=""/>
          <p:cNvPicPr/>
          <p:nvPr/>
        </p:nvPicPr>
        <p:blipFill>
          <a:blip r:embed="rId1"/>
          <a:stretch/>
        </p:blipFill>
        <p:spPr>
          <a:xfrm>
            <a:off x="1523880" y="1146240"/>
            <a:ext cx="7010640" cy="5175360"/>
          </a:xfrm>
          <a:prstGeom prst="rect">
            <a:avLst/>
          </a:prstGeom>
          <a:ln w="0">
            <a:noFill/>
          </a:ln>
        </p:spPr>
      </p:pic>
      <p:sp>
        <p:nvSpPr>
          <p:cNvPr id="626" name="TextBox 5"/>
          <p:cNvSpPr/>
          <p:nvPr/>
        </p:nvSpPr>
        <p:spPr>
          <a:xfrm>
            <a:off x="1219320" y="61722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The animation should start automatically if you are in Slide Show view.  If not, see “Troubleshooting” at the end of this presen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3417" fill="hold"/>
                                        <p:tgtEl>
                                          <p:spTgt spid="6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2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62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6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688b"/>
                </a:solidFill>
                <a:latin typeface="Franklin Gothic Book"/>
              </a:rPr>
              <a:t>PROTEINS</a:t>
            </a:r>
            <a:endParaRPr b="0" lang="en-US" sz="40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851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Proteins are composed of amino acids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1434960" y="1447920"/>
            <a:ext cx="7251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e basic structure of an amino acid is shown on the next slid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There’s a central carbon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 hydrogen atom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n amine group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 carboxylic acid group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n “R” group that determines the differences between amino acid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886360" y="1066320"/>
            <a:ext cx="3029040" cy="388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5f688b"/>
                </a:solidFill>
                <a:latin typeface="Franklin Gothic Book"/>
              </a:rPr>
              <a:t>Generic Structure of an </a:t>
            </a:r>
            <a:r>
              <a:rPr b="1" lang="en-US" sz="4000" spc="-1" strike="noStrike">
                <a:solidFill>
                  <a:srgbClr val="5f688b"/>
                </a:solidFill>
                <a:latin typeface="Franklin Gothic Book"/>
              </a:rPr>
              <a:t>Amino Acid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5f688b"/>
                </a:solidFill>
                <a:latin typeface="Franklin Gothic Book"/>
              </a:rPr>
              <a:t>There are 20 naturally occurring amino acids</a:t>
            </a:r>
            <a:endParaRPr b="0" lang="en-US" sz="24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837720" y="4572000"/>
            <a:ext cx="4419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Perpetua"/>
              </a:rPr>
              <a:t>Primary protein structure is simply the amino acid sequence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Perpetua"/>
              </a:rPr>
              <a:t>Example:  gly-leu-ala-cys…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633" name="Picture 2" descr="http://img.sparknotes.com/figures/F/f88cd44dc6a50ffa6b94cdb9d213894e/aminoacid.gif"/>
          <p:cNvPicPr/>
          <p:nvPr/>
        </p:nvPicPr>
        <p:blipFill>
          <a:blip r:embed="rId1"/>
          <a:stretch/>
        </p:blipFill>
        <p:spPr>
          <a:xfrm>
            <a:off x="963720" y="1352520"/>
            <a:ext cx="419076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4" name=""/>
          <p:cNvGraphicFramePr/>
          <p:nvPr/>
        </p:nvGraphicFramePr>
        <p:xfrm>
          <a:off x="1295280" y="380880"/>
          <a:ext cx="7315200" cy="6070680"/>
        </p:xfrm>
        <a:graphic>
          <a:graphicData uri="http://schemas.openxmlformats.org/drawingml/2006/table">
            <a:tbl>
              <a:tblPr/>
              <a:tblGrid>
                <a:gridCol w="1347840"/>
                <a:gridCol w="1349280"/>
                <a:gridCol w="1347840"/>
                <a:gridCol w="1347840"/>
                <a:gridCol w="1922400"/>
              </a:tblGrid>
              <a:tr h="93888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Name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(Residu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3-letter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o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Relative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abundance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(%) E.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Mol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Ma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harged,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olar,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Hydrophobic,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Neutral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632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1"/>
                        </a:rPr>
                        <a:t>Alan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A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668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2"/>
                        </a:rPr>
                        <a:t>Argin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AR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5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632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3"/>
                        </a:rPr>
                        <a:t>Asparag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A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9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668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4"/>
                        </a:rPr>
                        <a:t>Aspart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AS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9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−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632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5"/>
                        </a:rPr>
                        <a:t>Cyste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632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6"/>
                        </a:rPr>
                        <a:t>Glutam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GL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0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−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668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7"/>
                        </a:rPr>
                        <a:t>Glutam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GL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0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632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8"/>
                        </a:rPr>
                        <a:t>Glyc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G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7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668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9"/>
                        </a:rPr>
                        <a:t>Histid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H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,C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632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10"/>
                        </a:rPr>
                        <a:t>Isoleuc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4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488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11"/>
                        </a:rPr>
                        <a:t>Leuc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LE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7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3364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12"/>
                        </a:rPr>
                        <a:t>Lys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L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668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13"/>
                        </a:rPr>
                        <a:t>Methion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M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3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632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14"/>
                        </a:rPr>
                        <a:t>Phenylalan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3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632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15"/>
                        </a:rPr>
                        <a:t>Prol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4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3364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16"/>
                        </a:rPr>
                        <a:t>Ser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S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6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668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17"/>
                        </a:rPr>
                        <a:t>Threon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TH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4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632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18"/>
                        </a:rPr>
                        <a:t>Tryptoph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T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632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19"/>
                        </a:rPr>
                        <a:t>Tyros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TY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3364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20"/>
                        </a:rPr>
                        <a:t>Val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V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6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Peptide Bond Formation:</a:t>
            </a:r>
            <a:br>
              <a:rPr sz="3900"/>
            </a:br>
            <a:r>
              <a:rPr b="0" lang="en-US" sz="3200" spc="-1" strike="noStrike">
                <a:solidFill>
                  <a:srgbClr val="5f688b"/>
                </a:solidFill>
                <a:latin typeface="Franklin Gothic Book"/>
              </a:rPr>
              <a:t>A specific type of </a:t>
            </a:r>
            <a:r>
              <a:rPr b="0" i="1" lang="en-US" sz="3200" spc="-1" strike="noStrike">
                <a:solidFill>
                  <a:srgbClr val="5f688b"/>
                </a:solidFill>
                <a:latin typeface="Franklin Gothic Book"/>
              </a:rPr>
              <a:t>dehydration synthesis</a:t>
            </a:r>
            <a:endParaRPr b="0" lang="en-US" sz="32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1434960" y="1447920"/>
            <a:ext cx="749952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09960" indent="-24012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e amine group of one amino acid is joined to the carboxylic acid group of another amino acid to form a </a:t>
            </a:r>
            <a:r>
              <a:rPr b="0" i="1" lang="en-US" sz="3200" spc="-1" strike="noStrike">
                <a:solidFill>
                  <a:srgbClr val="000000"/>
                </a:solidFill>
                <a:latin typeface="Perpetua"/>
              </a:rPr>
              <a:t>peptide bond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. This type of chemical reaction is often called a </a:t>
            </a:r>
            <a:r>
              <a:rPr b="0" i="1" lang="en-US" sz="3200" spc="-1" strike="noStrike">
                <a:solidFill>
                  <a:srgbClr val="000000"/>
                </a:solidFill>
                <a:latin typeface="Perpetua"/>
              </a:rPr>
              <a:t>condensation reaction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ince a water molecule is also produced</a:t>
            </a:r>
            <a:r>
              <a:rPr b="0" i="1" lang="en-US" sz="3200" spc="-1" strike="noStrike">
                <a:solidFill>
                  <a:srgbClr val="000000"/>
                </a:solidFill>
                <a:latin typeface="Perpetu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637" name="Picture 7" descr="http://homepages.ius.edu/GKIRCHNE/peptide.jpg"/>
          <p:cNvPicPr/>
          <p:nvPr/>
        </p:nvPicPr>
        <p:blipFill>
          <a:blip r:embed="rId1"/>
          <a:stretch/>
        </p:blipFill>
        <p:spPr>
          <a:xfrm>
            <a:off x="3505320" y="4191120"/>
            <a:ext cx="327636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Protein Structure: The Details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ere are 4 levels of protein structure: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20280" indent="-2293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Primary (1°)—sequence of amino acid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620280" indent="-2293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Secondary (2°)—formation of motif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620280" indent="-2293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Tertiary (3°)—folding into a conformation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620280" indent="-2293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Quaternary (4°)—a combing of subunit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620280" indent="-2293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53880" indent="-2739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hall we examine each level more closely?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Primary Protein Structure: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the sequence of amino acids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641" name="05-24a-PrimaryStructure.mov" descr=""/>
          <p:cNvPicPr/>
          <p:nvPr/>
        </p:nvPicPr>
        <p:blipFill>
          <a:blip r:embed="rId1"/>
          <a:stretch/>
        </p:blipFill>
        <p:spPr>
          <a:xfrm>
            <a:off x="2855880" y="2128680"/>
            <a:ext cx="465768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60834" fill="hold"/>
                                        <p:tgtEl>
                                          <p:spTgt spid="6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641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641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6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Elements Essential to Life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. HOPKINS CaF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arbon, hydrogen, oxygen, phosphorous, potassium, iodine, nitrogen, sulfur, calcium and iron [add Mg for plants]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ose elements make up 95% of the biomass on earth!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Secondary Protein Structure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1434960" y="1447560"/>
            <a:ext cx="725184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econdary structure involves the formation of motifs.  The two most common are the alpha helix and beta pleated sheet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Both form as a result of hydrogen bond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644" name="Picture 4" descr="0040D2.BMP"/>
          <p:cNvPicPr/>
          <p:nvPr/>
        </p:nvPicPr>
        <p:blipFill>
          <a:blip r:embed="rId1"/>
          <a:srcRect l="8966" t="28309" r="0" b="22633"/>
          <a:stretch/>
        </p:blipFill>
        <p:spPr>
          <a:xfrm>
            <a:off x="1905120" y="4343400"/>
            <a:ext cx="4902120" cy="198108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5" descr="0040D1.BMP"/>
          <p:cNvPicPr/>
          <p:nvPr/>
        </p:nvPicPr>
        <p:blipFill>
          <a:blip r:embed="rId2"/>
          <a:srcRect l="10618" t="25793" r="7805" b="25811"/>
          <a:stretch/>
        </p:blipFill>
        <p:spPr>
          <a:xfrm>
            <a:off x="1951200" y="3200400"/>
            <a:ext cx="467820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Secondary Protein Structure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647" name="Picture 5" descr="http://www.columbia.edu/cu/biology/courses/c2005/images/3levelpro.4.p.jpg"/>
          <p:cNvPicPr/>
          <p:nvPr/>
        </p:nvPicPr>
        <p:blipFill>
          <a:blip r:embed="rId1"/>
          <a:stretch/>
        </p:blipFill>
        <p:spPr>
          <a:xfrm>
            <a:off x="1676520" y="1600200"/>
            <a:ext cx="655308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Secondary Protein Structure: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Alpha helix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649" name="Picture 2" descr="http://wiz2.pharm.wayne.edu/biochem/nsphelix1.jpg"/>
          <p:cNvPicPr/>
          <p:nvPr/>
        </p:nvPicPr>
        <p:blipFill>
          <a:blip r:embed="rId1"/>
          <a:stretch/>
        </p:blipFill>
        <p:spPr>
          <a:xfrm>
            <a:off x="2057400" y="2362320"/>
            <a:ext cx="537840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Secondary Protein Structure: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Beta-pleated sheet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651" name="Picture 2" descr="http://tainano.com/Molecular%20Biology%20Glossary.files/image025.gif"/>
          <p:cNvPicPr/>
          <p:nvPr/>
        </p:nvPicPr>
        <p:blipFill>
          <a:blip r:embed="rId1"/>
          <a:stretch/>
        </p:blipFill>
        <p:spPr>
          <a:xfrm>
            <a:off x="2189160" y="1828800"/>
            <a:ext cx="55738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Tertiary Protein Structure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09960" indent="-24012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A polypeptide chain is not </a:t>
            </a:r>
            <a:r>
              <a:rPr b="0" i="1" lang="en-US" sz="3200" spc="-1" strike="noStrike">
                <a:solidFill>
                  <a:srgbClr val="000000"/>
                </a:solidFill>
                <a:latin typeface="Perpetua"/>
              </a:rPr>
              <a:t>really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referred to as a </a:t>
            </a:r>
            <a:r>
              <a:rPr b="0" i="1" lang="en-US" sz="3200" spc="-1" strike="noStrike">
                <a:solidFill>
                  <a:srgbClr val="000000"/>
                </a:solidFill>
                <a:latin typeface="Perpetua"/>
              </a:rPr>
              <a:t>protein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until it has formed its motifs AND further folded upon itself to form its complete 3-D conformation (shape).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09960" indent="-24012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A proteins shape is crucial to its function!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09960" indent="-24012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is is accomplished by even more hydrogen bonding, some hydrophobic &amp; hydrophilic interactions, some polar interactions and the occasional formation of a disulfide bridg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Tertiary Protein Structure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655" name="Picture 2" descr="http://kvhs.nbed.nb.ca/gallant/biology/tertiary_structure.jpg"/>
          <p:cNvPicPr/>
          <p:nvPr/>
        </p:nvPicPr>
        <p:blipFill>
          <a:blip r:embed="rId1"/>
          <a:stretch/>
        </p:blipFill>
        <p:spPr>
          <a:xfrm>
            <a:off x="3124080" y="1219320"/>
            <a:ext cx="30322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Quaternary Protein Structure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1434960" y="1447560"/>
            <a:ext cx="74995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Quaternary structure involves the arrangement of multiple folded protein molecules in a multi-subunit complex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39480" indent="-2628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Hemoglobin is the usual example!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658" name="Picture 7" descr="http://www.nlm.nih.gov/medlineplus/ency/images/ency/fullsize/19510.jpg"/>
          <p:cNvPicPr/>
          <p:nvPr/>
        </p:nvPicPr>
        <p:blipFill>
          <a:blip r:embed="rId1"/>
          <a:stretch/>
        </p:blipFill>
        <p:spPr>
          <a:xfrm>
            <a:off x="2408400" y="2782800"/>
            <a:ext cx="487656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Quaternary Protein Structure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09960" indent="-24012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Misfolded proteins are responsible for prion-related illnesses such as Creutzfeldt-Jakob disease, bovine spongiform encephalopathy (mad cow disease), amyloid-related illnesses such as Alzheimer's Disease, and a number of other forms of proteopathy such as cystic fibrosis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09960" indent="-24012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What’s a </a:t>
            </a:r>
            <a:r>
              <a:rPr b="0" i="1" lang="en-US" sz="2800" spc="-1" strike="noStrike">
                <a:solidFill>
                  <a:srgbClr val="000000"/>
                </a:solidFill>
                <a:latin typeface="Perpetua"/>
              </a:rPr>
              <a:t>prion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? short for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pr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oteinaceous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nfectious particl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3600" indent="-20088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t’s an infectious agent [made of protein]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3600" indent="-20088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ll known prion diseases affect the structure of the brain or other neural tissue, and all are currently untreatable and fatal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The Six Functions of Proteins: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1.  Enzyme Catalysis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06360" indent="-23724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06360" indent="-23724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Globular proteins with a 3-D shape that fits snugly around the chemicals they work on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06360" indent="-23724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06360" indent="-23724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ey provide a surface for chemical reactions and stress particular chemical bond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06360" indent="-23724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06360" indent="-23724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ey lower the activation energy of chemical reactions and thus, speed them up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The Six Functions of Proteins: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1.  Enzyme Catalysis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664" name="05T-01g-Enzymes.mov" descr=""/>
          <p:cNvPicPr/>
          <p:nvPr/>
        </p:nvPicPr>
        <p:blipFill>
          <a:blip r:embed="rId1"/>
          <a:stretch/>
        </p:blipFill>
        <p:spPr>
          <a:xfrm>
            <a:off x="2855880" y="2128680"/>
            <a:ext cx="465768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5250" fill="hold"/>
                                        <p:tgtEl>
                                          <p:spTgt spid="6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664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664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6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The “i” words: 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ion, isomer &amp; isotope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1371600" y="1752120"/>
            <a:ext cx="2984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06360" indent="-23724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erpetua"/>
              </a:rPr>
              <a:t>What is an ion?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lvl="1" marL="537120" indent="-19836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n atom that has lost electrons to form a (+) cation OR an atom that has gained electrons to form a (−) anion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744120" indent="-191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2" marL="744120" indent="-191880">
              <a:spcBef>
                <a:spcPts val="550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74" name="Picture 2" descr="http://www.nearingzero.net/screen_res/nz069.jpg"/>
          <p:cNvPicPr/>
          <p:nvPr/>
        </p:nvPicPr>
        <p:blipFill>
          <a:blip r:embed="rId1"/>
          <a:stretch/>
        </p:blipFill>
        <p:spPr>
          <a:xfrm>
            <a:off x="4648320" y="1828800"/>
            <a:ext cx="421632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The Six Functions of Proteins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2. Defense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Globular proteins that use their 3-D shape to recognize foreign microbes and cancer cell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ey serve as cell surface receptors and form the core of the body’s hormone and immune system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The Six Functions of Proteins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2. Defense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668" name="05T-01f-DefensiveProteins.mov" descr=""/>
          <p:cNvPicPr/>
          <p:nvPr/>
        </p:nvPicPr>
        <p:blipFill>
          <a:blip r:embed="rId1"/>
          <a:stretch/>
        </p:blipFill>
        <p:spPr>
          <a:xfrm>
            <a:off x="2855880" y="2128680"/>
            <a:ext cx="465768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11750" fill="hold"/>
                                        <p:tgtEl>
                                          <p:spTgt spid="6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668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668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6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The Six Functions of Proteins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3. Transport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Globular proteins that transport specific small molecules and ion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Hemoglobin transports oxygen in blood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Myoglobin transports oxygen in muscle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Transferrin transports iron in blood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The Six Functions of Proteins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3. Transport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672" name="05T-01c-TransportProteins.mov" descr=""/>
          <p:cNvPicPr/>
          <p:nvPr/>
        </p:nvPicPr>
        <p:blipFill>
          <a:blip r:embed="rId1"/>
          <a:stretch/>
        </p:blipFill>
        <p:spPr>
          <a:xfrm>
            <a:off x="2855880" y="2128680"/>
            <a:ext cx="465768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4750" fill="hold"/>
                                        <p:tgtEl>
                                          <p:spTgt spid="6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672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672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5" dur="1" fill="hold"/>
                                        <p:tgtEl>
                                          <p:spTgt spid="6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The Six Functions of Proteins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4. Structure &amp; Support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1434960" y="1447920"/>
            <a:ext cx="74995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erpetua"/>
              </a:rPr>
              <a:t>Fibrous or threadlike proteins that can form a matrix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lvl="1" marL="588240" indent="-21744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Keratin in hai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88240" indent="-21744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brin in blood clo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88240" indent="-21744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llagen forms the matrix of the skin, ligaments, tendons and bones (it’s not just for lip injections!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88240" indent="-21744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llagen is the most abundant protein in a vertebrate bod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675" name="Picture 2" descr="http://fig.cox.miami.edu/~cmallery/150/physiol/40x2collagen.gif"/>
          <p:cNvPicPr/>
          <p:nvPr/>
        </p:nvPicPr>
        <p:blipFill>
          <a:blip r:embed="rId1"/>
          <a:stretch/>
        </p:blipFill>
        <p:spPr>
          <a:xfrm>
            <a:off x="3048120" y="4648320"/>
            <a:ext cx="489564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The Six Functions of Proteins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4. Structure &amp; Support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677" name="05T-01a-StructuralProteins.mov" descr=""/>
          <p:cNvPicPr/>
          <p:nvPr/>
        </p:nvPicPr>
        <p:blipFill>
          <a:blip r:embed="rId1"/>
          <a:stretch/>
        </p:blipFill>
        <p:spPr>
          <a:xfrm>
            <a:off x="2895480" y="2057400"/>
            <a:ext cx="465768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27167" fill="hold"/>
                                        <p:tgtEl>
                                          <p:spTgt spid="6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677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677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6" dur="1" fill="hold"/>
                                        <p:tgtEl>
                                          <p:spTgt spid="6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The Six Functions of Proteins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5. Motion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1434600" y="1447560"/>
            <a:ext cx="74804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06360" indent="-23724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erpetua"/>
              </a:rPr>
              <a:t>Filamentous proteins such as actin and myosin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lvl="1" marL="537120" indent="-19836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uscles contract through the sliding motion of these two protein filamen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37120" indent="-19836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ntractile proteins also play key roles in the cell’s cytoskeleton and in moving materials within cells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680" name="Picture 5" descr="0511.BMP"/>
          <p:cNvPicPr/>
          <p:nvPr/>
        </p:nvPicPr>
        <p:blipFill>
          <a:blip r:embed="rId1"/>
          <a:stretch/>
        </p:blipFill>
        <p:spPr>
          <a:xfrm>
            <a:off x="2870280" y="3352680"/>
            <a:ext cx="46735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The Six Functions of Proteins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5. Motion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682" name="05T-01e-ContractileProteins.mov" descr=""/>
          <p:cNvPicPr/>
          <p:nvPr/>
        </p:nvPicPr>
        <p:blipFill>
          <a:blip r:embed="rId1"/>
          <a:stretch/>
        </p:blipFill>
        <p:spPr>
          <a:xfrm>
            <a:off x="2855880" y="2128680"/>
            <a:ext cx="465768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2667" fill="hold"/>
                                        <p:tgtEl>
                                          <p:spTgt spid="6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682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682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7" dur="1" fill="hold"/>
                                        <p:tgtEl>
                                          <p:spTgt spid="6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The Six Functions of Proteins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6. Regulation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1434600" y="1447920"/>
            <a:ext cx="7404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mall proteins called hormones serve as intercellular (between cells) messengers in animal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Regulatory proteins also play many roles within a cel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Turning on and shutting off genes during development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Proteins that receive information, acting as cell surface receptor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The Six Functions of Proteins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6. Regulation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686" name="05T-01h-SignalProteins.mov" descr=""/>
          <p:cNvPicPr/>
          <p:nvPr/>
        </p:nvPicPr>
        <p:blipFill>
          <a:blip r:embed="rId1"/>
          <a:stretch/>
        </p:blipFill>
        <p:spPr>
          <a:xfrm>
            <a:off x="2855880" y="2128680"/>
            <a:ext cx="465768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21000" fill="hold"/>
                                        <p:tgtEl>
                                          <p:spTgt spid="6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686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686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8" dur="1" fill="hold"/>
                                        <p:tgtEl>
                                          <p:spTgt spid="6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The “i” words: 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ion, isomer &amp; isotope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1434960" y="1447920"/>
            <a:ext cx="74995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582120" indent="-21492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What does the prefix </a:t>
            </a:r>
            <a:r>
              <a:rPr b="0" i="1" lang="en-US" sz="2000" spc="-1" strike="noStrike">
                <a:solidFill>
                  <a:srgbClr val="000000"/>
                </a:solidFill>
                <a:latin typeface="Perpetua"/>
              </a:rPr>
              <a:t>iso-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mean?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06040" indent="-207720">
              <a:lnSpc>
                <a:spcPct val="80000"/>
              </a:lnSpc>
              <a:spcBef>
                <a:spcPts val="425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Perpetua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Perpetua"/>
              </a:rPr>
              <a:t>same”</a:t>
            </a:r>
            <a:endParaRPr b="0" lang="en-US" sz="1700" spc="-1" strike="noStrike">
              <a:solidFill>
                <a:srgbClr val="000000"/>
              </a:solidFill>
              <a:latin typeface="Perpetua"/>
            </a:endParaRPr>
          </a:p>
          <a:p>
            <a:pPr lvl="1" marL="582120" indent="-21492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What is an isomer?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06040" indent="-207720">
              <a:lnSpc>
                <a:spcPct val="80000"/>
              </a:lnSpc>
              <a:spcBef>
                <a:spcPts val="425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Perpetua"/>
              </a:rPr>
              <a:t>Molecules with the same chemical formula, but different structural formulas.  Glucose has 36 isomers: half are sweet and half are bitter!</a:t>
            </a:r>
            <a:endParaRPr b="0" lang="en-US" sz="1700" spc="-1" strike="noStrike">
              <a:solidFill>
                <a:srgbClr val="000000"/>
              </a:solidFill>
              <a:latin typeface="Perpetua"/>
            </a:endParaRPr>
          </a:p>
          <a:p>
            <a:pPr lvl="2" marL="806040" indent="-207720">
              <a:lnSpc>
                <a:spcPct val="80000"/>
              </a:lnSpc>
              <a:spcBef>
                <a:spcPts val="425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Perpetua"/>
              </a:rPr>
              <a:t>Same atoms, different arrangement, different shape, therefore </a:t>
            </a:r>
            <a:r>
              <a:rPr b="0" i="1" lang="en-US" sz="1700" spc="-1" strike="noStrike">
                <a:solidFill>
                  <a:srgbClr val="000000"/>
                </a:solidFill>
                <a:latin typeface="Perpetua"/>
              </a:rPr>
              <a:t>different function</a:t>
            </a:r>
            <a:endParaRPr b="0" lang="en-US" sz="1700" spc="-1" strike="noStrike">
              <a:solidFill>
                <a:srgbClr val="000000"/>
              </a:solidFill>
              <a:latin typeface="Perpetua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77" name="Picture 2" descr="http://www.nearingzero.net/screen_res/nz079.jpg"/>
          <p:cNvPicPr/>
          <p:nvPr/>
        </p:nvPicPr>
        <p:blipFill>
          <a:blip r:embed="rId1"/>
          <a:stretch/>
        </p:blipFill>
        <p:spPr>
          <a:xfrm>
            <a:off x="1003320" y="3325680"/>
            <a:ext cx="2730600" cy="353232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4" descr="http://www.nearingzero.net/screen_res/nz081.jpg"/>
          <p:cNvPicPr/>
          <p:nvPr/>
        </p:nvPicPr>
        <p:blipFill>
          <a:blip r:embed="rId2"/>
          <a:stretch/>
        </p:blipFill>
        <p:spPr>
          <a:xfrm>
            <a:off x="3743280" y="3338640"/>
            <a:ext cx="2752920" cy="351936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6" descr="http://www.nearingzero.net/screen_res/nz083.jpg"/>
          <p:cNvPicPr/>
          <p:nvPr/>
        </p:nvPicPr>
        <p:blipFill>
          <a:blip r:embed="rId3"/>
          <a:stretch/>
        </p:blipFill>
        <p:spPr>
          <a:xfrm>
            <a:off x="6443640" y="3352680"/>
            <a:ext cx="27259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How enzymes work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688" name="06-14-HowEnzymesWork.mov" descr=""/>
          <p:cNvPicPr/>
          <p:nvPr/>
        </p:nvPicPr>
        <p:blipFill>
          <a:blip r:embed="rId1"/>
          <a:stretch/>
        </p:blipFill>
        <p:spPr>
          <a:xfrm>
            <a:off x="2855880" y="2128680"/>
            <a:ext cx="465768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95417" fill="hold"/>
                                        <p:tgtEl>
                                          <p:spTgt spid="6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688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688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9" dur="1" fill="hold"/>
                                        <p:tgtEl>
                                          <p:spTgt spid="6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688b"/>
                </a:solidFill>
                <a:latin typeface="Franklin Gothic Book"/>
              </a:rPr>
              <a:t>CARBOHYDRATES (CH</a:t>
            </a:r>
            <a:r>
              <a:rPr b="1" lang="en-US" sz="4000" spc="-1" strike="noStrike" baseline="-25000">
                <a:solidFill>
                  <a:srgbClr val="5f688b"/>
                </a:solidFill>
                <a:latin typeface="Franklin Gothic Book"/>
              </a:rPr>
              <a:t>2</a:t>
            </a:r>
            <a:r>
              <a:rPr b="1" lang="en-US" sz="4000" spc="-1" strike="noStrike">
                <a:solidFill>
                  <a:srgbClr val="5f688b"/>
                </a:solidFill>
                <a:latin typeface="Franklin Gothic Book"/>
              </a:rPr>
              <a:t>O)</a:t>
            </a:r>
            <a:r>
              <a:rPr b="1" lang="en-US" sz="4000" spc="-1" strike="noStrike" baseline="-25000">
                <a:solidFill>
                  <a:srgbClr val="5f688b"/>
                </a:solidFill>
                <a:latin typeface="Franklin Gothic Book"/>
              </a:rPr>
              <a:t>n</a:t>
            </a:r>
            <a:endParaRPr b="0" lang="en-US" sz="40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851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Glycosidic Bond Formation:</a:t>
            </a:r>
            <a:br>
              <a:rPr sz="3900"/>
            </a:br>
            <a:r>
              <a:rPr b="0" lang="en-US" sz="3200" spc="-1" strike="noStrike">
                <a:solidFill>
                  <a:srgbClr val="5f688b"/>
                </a:solidFill>
                <a:latin typeface="Franklin Gothic Book"/>
              </a:rPr>
              <a:t>A specific type of </a:t>
            </a:r>
            <a:r>
              <a:rPr b="0" i="1" lang="en-US" sz="3200" spc="-1" strike="noStrike">
                <a:solidFill>
                  <a:srgbClr val="5f688b"/>
                </a:solidFill>
                <a:latin typeface="Franklin Gothic Book"/>
              </a:rPr>
              <a:t>dehydration synthesis</a:t>
            </a:r>
            <a:endParaRPr b="0" lang="en-US" sz="32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692" name="Content Placeholder 6" descr="0031A.BMP"/>
          <p:cNvPicPr/>
          <p:nvPr/>
        </p:nvPicPr>
        <p:blipFill>
          <a:blip r:embed="rId1"/>
          <a:srcRect l="0" t="29171" r="0" b="29171"/>
          <a:stretch/>
        </p:blipFill>
        <p:spPr>
          <a:xfrm>
            <a:off x="1600200" y="4495680"/>
            <a:ext cx="6858000" cy="2143080"/>
          </a:xfrm>
          <a:prstGeom prst="rect">
            <a:avLst/>
          </a:prstGeom>
          <a:ln w="0">
            <a:noFill/>
          </a:ln>
        </p:spPr>
      </p:pic>
      <p:sp>
        <p:nvSpPr>
          <p:cNvPr id="693" name="Content Placeholder 4"/>
          <p:cNvSpPr/>
          <p:nvPr/>
        </p:nvSpPr>
        <p:spPr>
          <a:xfrm>
            <a:off x="1434960" y="1447920"/>
            <a:ext cx="74041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2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nosaccharid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joined together to form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sacchari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lycosidic bon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forme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type of chemical reaction is also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densation reac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a water molecule is produced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Disaccharides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695" name="05-05-Disaccharides.mov" descr=""/>
          <p:cNvPicPr/>
          <p:nvPr/>
        </p:nvPicPr>
        <p:blipFill>
          <a:blip r:embed="rId1"/>
          <a:stretch/>
        </p:blipFill>
        <p:spPr>
          <a:xfrm>
            <a:off x="2855880" y="2128680"/>
            <a:ext cx="465768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42167" fill="hold"/>
                                        <p:tgtEl>
                                          <p:spTgt spid="6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695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695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0" dur="1" fill="hold"/>
                                        <p:tgtEl>
                                          <p:spTgt spid="6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Glycosidic Bond Formation:</a:t>
            </a:r>
            <a:br>
              <a:rPr sz="3900"/>
            </a:br>
            <a:r>
              <a:rPr b="0" lang="en-US" sz="3200" spc="-1" strike="noStrike">
                <a:solidFill>
                  <a:srgbClr val="5f688b"/>
                </a:solidFill>
                <a:latin typeface="Franklin Gothic Book"/>
              </a:rPr>
              <a:t>A specific type of </a:t>
            </a:r>
            <a:r>
              <a:rPr b="0" i="1" lang="en-US" sz="3200" spc="-1" strike="noStrike">
                <a:solidFill>
                  <a:srgbClr val="5f688b"/>
                </a:solidFill>
                <a:latin typeface="Franklin Gothic Book"/>
              </a:rPr>
              <a:t>dehydration synthesis</a:t>
            </a:r>
            <a:endParaRPr b="0" lang="en-US" sz="32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97" name="Content Placeholder 4"/>
          <p:cNvSpPr/>
          <p:nvPr/>
        </p:nvSpPr>
        <p:spPr>
          <a:xfrm>
            <a:off x="1371600" y="1905120"/>
            <a:ext cx="74041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more than 2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nosaccharid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joined together b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lycosidic bonds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polysaccharid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form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100+ monomer units have been joined, a starch is formed.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Starch, Cellulose &amp; Glycogen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99" name="Content Placeholder 4"/>
          <p:cNvSpPr/>
          <p:nvPr/>
        </p:nvSpPr>
        <p:spPr>
          <a:xfrm>
            <a:off x="1219320" y="1600200"/>
            <a:ext cx="7556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long (100's) polymer of Glucose molecules, where all the sugars are oriented in the same direction. Starch is one of the primary sources of calories for hum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llu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long (100's) polymer of Glucose molecules. However the orientation of the sugars is a little different. In Cellulose, every other sugar molecule is "upside-down". This small difference in structure makes a big difference in the way we use this molecule. Most animals can’t digest this well.  Termit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ycog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nother Glucose polymer. Glycogen is a stored energy source, found in the Liver and muscles of Humans. Glycogen is different from both Starch and Cellulose in that the Glucose chain is branched or "forked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0" name="Picture 2" descr="http://bioweb.wku.edu/courses/BIOL115/Wyatt/Biochem/Carbos/Carb_poly.gif"/>
          <p:cNvPicPr/>
          <p:nvPr/>
        </p:nvPicPr>
        <p:blipFill>
          <a:blip r:embed="rId1"/>
          <a:stretch/>
        </p:blipFill>
        <p:spPr>
          <a:xfrm>
            <a:off x="1676520" y="304920"/>
            <a:ext cx="601956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Polysaccharides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702" name="05-07-Polysaccharides.mov" descr=""/>
          <p:cNvPicPr/>
          <p:nvPr/>
        </p:nvPicPr>
        <p:blipFill>
          <a:blip r:embed="rId1"/>
          <a:stretch/>
        </p:blipFill>
        <p:spPr>
          <a:xfrm>
            <a:off x="2855880" y="2128680"/>
            <a:ext cx="465768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9750" fill="hold"/>
                                        <p:tgtEl>
                                          <p:spTgt spid="7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702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702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1" dur="1" fill="hold"/>
                                        <p:tgtEl>
                                          <p:spTgt spid="7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688b"/>
                </a:solidFill>
                <a:latin typeface="Franklin Gothic Book"/>
              </a:rPr>
              <a:t>LIPIDS: FATS &amp; OILS</a:t>
            </a:r>
            <a:endParaRPr b="0" lang="en-US" sz="40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851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Lipid Structure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706" name="05-10-Fats.mov" descr=""/>
          <p:cNvPicPr/>
          <p:nvPr/>
        </p:nvPicPr>
        <p:blipFill>
          <a:blip r:embed="rId1"/>
          <a:stretch/>
        </p:blipFill>
        <p:spPr>
          <a:xfrm>
            <a:off x="1905120" y="1576440"/>
            <a:ext cx="601956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29417" fill="hold"/>
                                        <p:tgtEl>
                                          <p:spTgt spid="7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706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706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2" dur="1" fill="hold"/>
                                        <p:tgtEl>
                                          <p:spTgt spid="7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The “i” words: 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ion, isomer &amp; isotope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1294920" y="1599840"/>
            <a:ext cx="72392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lvl="1" marL="556200" indent="-20556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What is an isotope?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2" marL="770760" indent="-198720">
              <a:spcBef>
                <a:spcPts val="700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toms of elements that have the same atomic number (# of </a:t>
            </a:r>
            <a:r>
              <a:rPr b="0" i="1" lang="en-US" sz="2400" spc="-1" strike="noStrike">
                <a:solidFill>
                  <a:srgbClr val="000000"/>
                </a:solidFill>
                <a:latin typeface="Perpetua"/>
              </a:rPr>
              <a:t>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Perpetua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),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but a different number of neutrons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Perpetua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Perpetu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).  Think Carbon-12 vs. Carbon-13 vs. Carbon-14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2" marL="770760" indent="-19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770760" indent="-19872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82" name="Picture 2" descr="http://www.nearingzero.net/screen_res/nz337.jpg"/>
          <p:cNvPicPr/>
          <p:nvPr/>
        </p:nvPicPr>
        <p:blipFill>
          <a:blip r:embed="rId1"/>
          <a:stretch/>
        </p:blipFill>
        <p:spPr>
          <a:xfrm>
            <a:off x="4724280" y="3657600"/>
            <a:ext cx="3951360" cy="298116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4" descr="http://www.nearingzero.net/screen_res/nz169.jpg"/>
          <p:cNvPicPr/>
          <p:nvPr/>
        </p:nvPicPr>
        <p:blipFill>
          <a:blip r:embed="rId2"/>
          <a:stretch/>
        </p:blipFill>
        <p:spPr>
          <a:xfrm>
            <a:off x="1163520" y="3430440"/>
            <a:ext cx="3581640" cy="34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Fat vs. Oil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1434600" y="1447920"/>
            <a:ext cx="755676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Fats are solids at room temperature.  They are saturated [with H atoms—all single bonds]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31920" indent="-25704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Oils are liquids at room temperature. They are unsaturated and contain one or more double bonds [unsaturated vs. </a:t>
            </a:r>
            <a:r>
              <a:rPr b="0" i="1" lang="en-US" sz="2800" spc="-1" strike="noStrike">
                <a:solidFill>
                  <a:srgbClr val="000000"/>
                </a:solidFill>
                <a:latin typeface="Perpetua"/>
              </a:rPr>
              <a:t>poly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unsaturated]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709" name="Picture 2" descr="http://fig.cox.miami.edu/~cmallery/150/chemistry/c5x11saturatedfats.jpg"/>
          <p:cNvPicPr/>
          <p:nvPr/>
        </p:nvPicPr>
        <p:blipFill>
          <a:blip r:embed="rId1"/>
          <a:stretch/>
        </p:blipFill>
        <p:spPr>
          <a:xfrm>
            <a:off x="2438280" y="3683160"/>
            <a:ext cx="592452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Phospholipids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711" name="Picture 2" descr="http://telstar.ote.cmu.edu/biology/MembranePage/images/phospholipid.jpg"/>
          <p:cNvPicPr/>
          <p:nvPr/>
        </p:nvPicPr>
        <p:blipFill>
          <a:blip r:embed="rId1"/>
          <a:stretch/>
        </p:blipFill>
        <p:spPr>
          <a:xfrm>
            <a:off x="1981080" y="1600200"/>
            <a:ext cx="62866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Phospholipid Structure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713" name="Picture 4" descr="0071BLLL.BMP"/>
          <p:cNvPicPr/>
          <p:nvPr/>
        </p:nvPicPr>
        <p:blipFill>
          <a:blip r:embed="rId1"/>
          <a:stretch/>
        </p:blipFill>
        <p:spPr>
          <a:xfrm>
            <a:off x="1676520" y="1219320"/>
            <a:ext cx="67053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Steroids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1434960" y="1447920"/>
            <a:ext cx="749952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09960" indent="-24012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teroids comprise a group of compounds with four interlocking carbon rings. Examples of steroids are bile acids, cholesterol, and adrenal hormones including estrogen, testosterone &amp; progesteron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716" name="Picture 2" descr="http://www.wellesley.edu/Chemistry/Chem101/hormones/steroids.gif"/>
          <p:cNvPicPr/>
          <p:nvPr/>
        </p:nvPicPr>
        <p:blipFill>
          <a:blip r:embed="rId1"/>
          <a:stretch/>
        </p:blipFill>
        <p:spPr>
          <a:xfrm>
            <a:off x="3200400" y="3429000"/>
            <a:ext cx="481968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Steroids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1434960" y="1447560"/>
            <a:ext cx="74995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02760" indent="-2343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e anabolic steroids you hear so much about try to capture the tissue building properties of testosterone. 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02760" indent="-2343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Note that the word </a:t>
            </a:r>
            <a:r>
              <a:rPr b="0" i="1" lang="en-US" sz="3200" spc="-1" strike="noStrike">
                <a:solidFill>
                  <a:srgbClr val="000000"/>
                </a:solidFill>
                <a:latin typeface="Perpetua"/>
              </a:rPr>
              <a:t>anabolism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is associated with a synthesis of biomaterials while </a:t>
            </a:r>
            <a:r>
              <a:rPr b="0" i="1" lang="en-US" sz="3200" spc="-1" strike="noStrike">
                <a:solidFill>
                  <a:srgbClr val="000000"/>
                </a:solidFill>
                <a:latin typeface="Perpetua"/>
              </a:rPr>
              <a:t>catabolism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is a tearing down of biomaterials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02760" indent="-2343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You are more familiar with the summary term </a:t>
            </a:r>
            <a:r>
              <a:rPr b="0" i="1" lang="en-US" sz="3200" spc="-1" strike="noStrike">
                <a:solidFill>
                  <a:srgbClr val="000000"/>
                </a:solidFill>
                <a:latin typeface="Perpetua"/>
              </a:rPr>
              <a:t>metabolism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02760" indent="-2343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If you go on a diet, you want to increase your </a:t>
            </a:r>
            <a:r>
              <a:rPr b="0" i="1" lang="en-US" sz="3200" spc="-1" strike="noStrike">
                <a:solidFill>
                  <a:srgbClr val="000000"/>
                </a:solidFill>
                <a:latin typeface="Perpetua"/>
              </a:rPr>
              <a:t>catabolism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and decrease your </a:t>
            </a:r>
            <a:r>
              <a:rPr b="0" i="1" lang="en-US" sz="3200" spc="-1" strike="noStrike">
                <a:solidFill>
                  <a:srgbClr val="000000"/>
                </a:solidFill>
                <a:latin typeface="Perpetua"/>
              </a:rPr>
              <a:t>anabolism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Gene Regulatory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720" name="05T-01j-GeneRegulatoryProt.mov" descr=""/>
          <p:cNvPicPr/>
          <p:nvPr/>
        </p:nvPicPr>
        <p:blipFill>
          <a:blip r:embed="rId1"/>
          <a:stretch/>
        </p:blipFill>
        <p:spPr>
          <a:xfrm>
            <a:off x="2855880" y="2128680"/>
            <a:ext cx="465768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15334" fill="hold"/>
                                        <p:tgtEl>
                                          <p:spTgt spid="7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720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720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3" dur="1" fill="hold"/>
                                        <p:tgtEl>
                                          <p:spTgt spid="7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688b"/>
                </a:solidFill>
                <a:latin typeface="Franklin Gothic Book"/>
              </a:rPr>
              <a:t>NUCLEIC ACIDS</a:t>
            </a:r>
            <a:endParaRPr b="0" lang="en-US" sz="40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851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Structure of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 DNA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1219320" y="1295280"/>
            <a:ext cx="3657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DNA is composed of nucleotides which are composed of: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575640" indent="-21276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 deoxyribose sugar molecul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75640" indent="-21276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 phosphat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75640" indent="-21276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 nitrogen bas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2" marL="797040" indent="-20556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denin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797040" indent="-20556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Guanin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797040" indent="-20556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ytosin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797040" indent="-20556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ymin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725" name="Picture 3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800600" y="457200"/>
            <a:ext cx="43434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Structure of  DNA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1218960" y="1905120"/>
            <a:ext cx="51051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e carbons of deoxyribose or ribose are numbered. 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n forming a nucleotide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nitrogen base bonds with the #1 carbon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phosphate groups bind with the #3 and #5 carbons 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728" name="Picture 4" descr="http://dl.clackamas.edu/ch106-09/images/ribnum2.gif"/>
          <p:cNvPicPr/>
          <p:nvPr/>
        </p:nvPicPr>
        <p:blipFill>
          <a:blip r:embed="rId1"/>
          <a:stretch/>
        </p:blipFill>
        <p:spPr>
          <a:xfrm>
            <a:off x="6242040" y="2362320"/>
            <a:ext cx="29019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Picture 2" descr="http://www.mun.ca/biology/scarr/T_vs_U.gif"/>
          <p:cNvPicPr/>
          <p:nvPr/>
        </p:nvPicPr>
        <p:blipFill>
          <a:blip r:embed="rId1"/>
          <a:stretch/>
        </p:blipFill>
        <p:spPr>
          <a:xfrm>
            <a:off x="1852560" y="400068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DNA vs. RNA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1434600" y="1447920"/>
            <a:ext cx="42800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4552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DNA is doubly stranded, RNA is singly stranded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17520" indent="-24552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Deoxyribose is replaced with ribos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17520" indent="-24552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ymine is replaced with uraci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732" name="Picture 2" descr="http://www.layevangelism.com/bastxbk/images/deoxyribose.jpg"/>
          <p:cNvPicPr/>
          <p:nvPr/>
        </p:nvPicPr>
        <p:blipFill>
          <a:blip r:embed="rId2"/>
          <a:stretch/>
        </p:blipFill>
        <p:spPr>
          <a:xfrm>
            <a:off x="6172200" y="1676520"/>
            <a:ext cx="2610000" cy="43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Carbon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1434600" y="1447920"/>
            <a:ext cx="70995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4552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erpetua"/>
              </a:rPr>
              <a:t>Carbon has 6 valence electrons: 1</a:t>
            </a:r>
            <a:r>
              <a:rPr b="0" i="1" lang="en-US" sz="3000" spc="-1" strike="noStrike">
                <a:solidFill>
                  <a:srgbClr val="000000"/>
                </a:solidFill>
                <a:latin typeface="Perpetua"/>
              </a:rPr>
              <a:t>s</a:t>
            </a:r>
            <a:r>
              <a:rPr b="0" lang="en-US" sz="3000" spc="-1" strike="noStrike" baseline="30000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Perpetua"/>
              </a:rPr>
              <a:t> 2</a:t>
            </a:r>
            <a:r>
              <a:rPr b="0" i="1" lang="en-US" sz="3000" spc="-1" strike="noStrike">
                <a:solidFill>
                  <a:srgbClr val="000000"/>
                </a:solidFill>
                <a:latin typeface="Perpetua"/>
              </a:rPr>
              <a:t>s</a:t>
            </a:r>
            <a:r>
              <a:rPr b="0" lang="en-US" sz="3000" spc="-1" strike="noStrike" baseline="30000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Perpetua"/>
              </a:rPr>
              <a:t>2p</a:t>
            </a:r>
            <a:r>
              <a:rPr b="0" lang="en-US" sz="3000" spc="-1" strike="noStrike" baseline="30000">
                <a:solidFill>
                  <a:srgbClr val="000000"/>
                </a:solidFill>
                <a:latin typeface="Perpetua"/>
              </a:rPr>
              <a:t>2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Perpetua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lvl="1" marL="556200" indent="-20556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nly the 4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valence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lectrons in the second (2), principal energy level participate in chemical reactions</a:t>
            </a:r>
            <a:r>
              <a:rPr b="0" lang="en-US" sz="2600" spc="-1" strike="noStrike" baseline="30000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56200" indent="-20556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arbon hybridizes its one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and three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-sublevels to form 4 hybrid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sp</a:t>
            </a:r>
            <a:r>
              <a:rPr b="0" lang="en-US" sz="2600" spc="-1" strike="noStrike" baseline="30000">
                <a:solidFill>
                  <a:srgbClr val="000000"/>
                </a:solidFill>
                <a:latin typeface="Perpetua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sublevels.  Why?  There is an energy payoff for carbon (see the energy diagram below)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56200" indent="-20556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s a result, carbon forms 4 equivalent bonds and is very stable, hence its abundance on eart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86" name="Picture 2" descr="http://tcdsbstaff.ednet.ns.ca/devillg/ib/pics/hybrid.gif"/>
          <p:cNvPicPr/>
          <p:nvPr/>
        </p:nvPicPr>
        <p:blipFill>
          <a:blip r:embed="rId1"/>
          <a:stretch/>
        </p:blipFill>
        <p:spPr>
          <a:xfrm>
            <a:off x="3048120" y="5029200"/>
            <a:ext cx="365760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Phosphodiester Bond Formation: Another Dehydration Synthesis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734" name="Picture 2" descr="http://fig.cox.miami.edu/~cmallery/150/chemistry/sf3x14a.jpg"/>
          <p:cNvPicPr/>
          <p:nvPr/>
        </p:nvPicPr>
        <p:blipFill>
          <a:blip r:embed="rId1"/>
          <a:stretch/>
        </p:blipFill>
        <p:spPr>
          <a:xfrm>
            <a:off x="1905120" y="1752480"/>
            <a:ext cx="609588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Hydrogen Bonds Hold the Double Helix Together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736" name="Picture 2" descr="http://fig.cox.miami.edu/~cmallery/150/gene/c16x6base-pairs.jpg"/>
          <p:cNvPicPr/>
          <p:nvPr/>
        </p:nvPicPr>
        <p:blipFill>
          <a:blip r:embed="rId1"/>
          <a:stretch/>
        </p:blipFill>
        <p:spPr>
          <a:xfrm>
            <a:off x="3429000" y="1752480"/>
            <a:ext cx="2838600" cy="4048200"/>
          </a:xfrm>
          <a:prstGeom prst="rect">
            <a:avLst/>
          </a:prstGeom>
          <a:ln w="0">
            <a:noFill/>
          </a:ln>
        </p:spPr>
      </p:pic>
      <p:sp>
        <p:nvSpPr>
          <p:cNvPr id="737" name="TextBox 5"/>
          <p:cNvSpPr/>
          <p:nvPr/>
        </p:nvSpPr>
        <p:spPr>
          <a:xfrm>
            <a:off x="1600200" y="3809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5064"/>
                </a:solidFill>
                <a:latin typeface="Arial"/>
              </a:rPr>
              <a:t>Pur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Box 6"/>
          <p:cNvSpPr/>
          <p:nvPr/>
        </p:nvSpPr>
        <p:spPr>
          <a:xfrm>
            <a:off x="6934320" y="37339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73d"/>
                </a:solidFill>
                <a:latin typeface="Arial"/>
              </a:rPr>
              <a:t>Pyrimad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Straight Arrow Connector 8"/>
          <p:cNvCxnSpPr/>
          <p:nvPr/>
        </p:nvCxnSpPr>
        <p:spPr>
          <a:xfrm flipV="1">
            <a:off x="2514600" y="3504960"/>
            <a:ext cx="1296000" cy="381600"/>
          </a:xfrm>
          <a:prstGeom prst="straightConnector1">
            <a:avLst/>
          </a:prstGeom>
          <a:ln w="9360">
            <a:solidFill>
              <a:srgbClr val="d16349"/>
            </a:solidFill>
            <a:miter/>
            <a:tailEnd len="med" type="triangle" w="med"/>
          </a:ln>
        </p:spPr>
      </p:cxnSp>
      <p:cxnSp>
        <p:nvCxnSpPr>
          <p:cNvPr id="740" name="Straight Arrow Connector 10"/>
          <p:cNvCxnSpPr/>
          <p:nvPr/>
        </p:nvCxnSpPr>
        <p:spPr>
          <a:xfrm>
            <a:off x="2514600" y="4114800"/>
            <a:ext cx="1372320" cy="1448640"/>
          </a:xfrm>
          <a:prstGeom prst="straightConnector1">
            <a:avLst/>
          </a:prstGeom>
          <a:ln w="9360">
            <a:solidFill>
              <a:srgbClr val="d16349"/>
            </a:solidFill>
            <a:miter/>
            <a:tailEnd len="med" type="triangle" w="med"/>
          </a:ln>
        </p:spPr>
      </p:cxnSp>
      <p:cxnSp>
        <p:nvCxnSpPr>
          <p:cNvPr id="741" name="Straight Arrow Connector 12"/>
          <p:cNvCxnSpPr/>
          <p:nvPr/>
        </p:nvCxnSpPr>
        <p:spPr>
          <a:xfrm flipH="1" flipV="1">
            <a:off x="6171840" y="3504960"/>
            <a:ext cx="838800" cy="305280"/>
          </a:xfrm>
          <a:prstGeom prst="straightConnector1">
            <a:avLst/>
          </a:prstGeom>
          <a:ln w="9360">
            <a:solidFill>
              <a:srgbClr val="d16349"/>
            </a:solidFill>
            <a:miter/>
            <a:tailEnd len="med" type="triangle" w="med"/>
          </a:ln>
        </p:spPr>
      </p:cxnSp>
      <p:cxnSp>
        <p:nvCxnSpPr>
          <p:cNvPr id="742" name="Straight Arrow Connector 14"/>
          <p:cNvCxnSpPr/>
          <p:nvPr/>
        </p:nvCxnSpPr>
        <p:spPr>
          <a:xfrm flipH="1">
            <a:off x="6171840" y="4114800"/>
            <a:ext cx="915120" cy="1372320"/>
          </a:xfrm>
          <a:prstGeom prst="straightConnector1">
            <a:avLst/>
          </a:prstGeom>
          <a:ln w="9360">
            <a:solidFill>
              <a:srgbClr val="d1634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DNA is Antiparallel and ALWAYS </a:t>
            </a:r>
            <a:r>
              <a:rPr b="0" i="1" lang="en-US" sz="3900" spc="-1" strike="noStrike">
                <a:solidFill>
                  <a:srgbClr val="5f688b"/>
                </a:solidFill>
                <a:latin typeface="Franklin Gothic Book"/>
              </a:rPr>
              <a:t>synthesized</a:t>
            </a: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 in the 5′ to 3′ Direction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744" name="Picture 2" descr="DNa"/>
          <p:cNvPicPr/>
          <p:nvPr/>
        </p:nvPicPr>
        <p:blipFill>
          <a:blip r:embed="rId1"/>
          <a:stretch/>
        </p:blipFill>
        <p:spPr>
          <a:xfrm>
            <a:off x="3429000" y="1523880"/>
            <a:ext cx="434340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DNA Structure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746" name="16-05-DNAstructNarrAnim_S.mov" descr=""/>
          <p:cNvPicPr/>
          <p:nvPr/>
        </p:nvPicPr>
        <p:blipFill>
          <a:blip r:embed="rId1"/>
          <a:stretch/>
        </p:blipFill>
        <p:spPr>
          <a:xfrm>
            <a:off x="3660840" y="270504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9" dur="53667" fill="hold"/>
                                        <p:tgtEl>
                                          <p:spTgt spid="7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746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746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4" dur="1" fill="hold"/>
                                        <p:tgtEl>
                                          <p:spTgt spid="7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Carbon &amp; Functional Groups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6019920" y="1523520"/>
            <a:ext cx="25272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13920" indent="-243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Perpetua"/>
              </a:rPr>
              <a:t>Carbon combines readily with other abundant atoms on earth to form very stable functional groups. </a:t>
            </a:r>
            <a:endParaRPr b="0" lang="en-US" sz="25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89" name="Picture 5" descr="0027.BMP"/>
          <p:cNvPicPr/>
          <p:nvPr/>
        </p:nvPicPr>
        <p:blipFill>
          <a:blip r:embed="rId1"/>
          <a:srcRect l="31882" t="7501" r="9989" b="0"/>
          <a:stretch/>
        </p:blipFill>
        <p:spPr>
          <a:xfrm>
            <a:off x="1066680" y="1219320"/>
            <a:ext cx="4876920" cy="58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The Hydrogen Bond </a:t>
            </a:r>
            <a:br>
              <a:rPr sz="3900"/>
            </a:br>
            <a:r>
              <a:rPr b="0" lang="en-US" sz="3200" spc="-1" strike="noStrike">
                <a:solidFill>
                  <a:srgbClr val="5f688b"/>
                </a:solidFill>
                <a:latin typeface="Franklin Gothic Book"/>
              </a:rPr>
              <a:t>(which, by the way, is not actually a bond)</a:t>
            </a:r>
            <a:endParaRPr b="0" lang="en-US" sz="32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1434600" y="1447560"/>
            <a:ext cx="7099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Water makes life on this planet possible.  Therefore, biology is “all wet”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o, there are two VERY important aspects of water that you need to NEVER, EVER forget!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Water is polar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Water forms “hydrogen bonds”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7:29:05Z</dcterms:created>
  <dc:creator> René McCormick</dc:creator>
  <dc:description/>
  <dc:language>en-US</dc:language>
  <cp:lastModifiedBy>Rene McCormick</cp:lastModifiedBy>
  <dcterms:modified xsi:type="dcterms:W3CDTF">2008-10-30T16:00:32Z</dcterms:modified>
  <cp:revision>56</cp:revision>
  <dc:subject/>
  <dc:title>Slide 1</dc:title>
</cp:coreProperties>
</file>